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6C978-9491-4D43-89D8-187179C6D47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33A59-C9B3-4FA6-B2F3-8A56AA3F761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łowa wstę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41F42-2D07-4696-A632-6B9834B2AE7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y dodać dane do wcześniej rozpoczętej sesji, należy użyć drugiej metody ze slajdu. Pierwsza metoda jest przestarzała i niepoprawna w najnowszej implementacji PHP, działa w wersji PHP &lt; 5.4. Wartości zapisujemy operując bezpośrednio na superglobalnej tablicy ses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48A8B-A888-40C4-9A00-9F9282BF1A0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eżeli klucz w sesji istnieje, a my dodamy od niego nowe dane, zostanie on nadpisany. Tablica sesji działa dokładnie tak jak inne tablice w języku PH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22147-CBC5-4330-9EA0-CE652ABB84A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kcja session_destroy usuwa tylko bieżące dane skojarzone z sesją. Nie usuwa jednak sesji, której identyfikator przechowywany jest w ciasteczku ses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C7287-715B-42A8-92A7-1DC346C5116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zwa sesji - obok identyfikatora - jest używana do identyfikacji sesji. Funkcja session_name podobnie jak funkcja session_id, służy albo do zwracania nazwy sesji albo do zmieniania jej nazwy. Podobnie jak session_id musi być wywołana przed funkcją session_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4AEE4-7641-450E-9937-6CEB4675C57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y usunąć sesję całkowicie, należy usunąć ciasteczko z jej nazwą, które jest przechowywane po stronie użytkownika. Wpierw należy sprawdzić, czy takowe istnieje, a następnie należy je usunąć, metodą podaną w poprzedniej lek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FC509-EC1A-4A37-AB53-8916D9711AE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y usunąć wszystkie dane ustawione w sesji kiedykolwiek, należy zastosować funkcję session_uns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y usunąć konkretną zmienną należy użyć drugiej konstruk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8905E-3899-4725-AA1B-A8D5CBFEAEF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ykonać ćwiczenie, na następnej stronie znajduje się rozwiązanie ćwiczenia, nie pokazywać dopóki studenci nie skończ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5BBE1-88F3-407E-A161-7DF9314D0B2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 pierwszej kolejności inicjalizujemy sesję. Następnie ustawiamy zmienną $_SESSION[‘name’] na nasze imię oraz wyświetlamy j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lejnym krokiem jest nadpisanie zmiennej naszym nazwiskiem oraz wyświetlenie j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C8699-2579-4C88-BA93-03822312908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zęść końcową naszego skryptu rozpoczyna usunięcie zmiennych z sesji oraz zniszczenie ciasteczka z jej identyfikato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084DB-F973-4ED8-9A7A-24A12D2DC1D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ykonać ćwiczenie, na następnej stronie znajduje się rozwiązanie ćwiczenia, nie pokazywać dopóki studenci nie skończ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10F38-00B5-416A-B0D7-072AB71E8A5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sja HTTP to mechanizm przechowywania danych po stronie serwera. Parametry sesji takie jak np. czas trwania sesji, znajdują się w pliku konfiguracyjnym serwera. W przeciwieństwie do mechanizmu ciasteczek znanego z poprzedniej lekcji. Sesje są niezależne od klienta, dzięki czemu dają programiście większą kontrolę nad danymi w nich przechowywanymi. Każda sesja posiada swój identyfikator, który jest unikatowy i jeden dla każdego klienta. Klientem w rozumieniu sesji jest np. przeglądarka, a nie adres komputera osoby z niej korzystającej. Konsekwencją tego jest tworzenie kilku sesji, dla jednego adresu komputera, w przypadku np. zalogowania się z różnych przeglądarek, czyli możliwość wielokrotnego logowania się na np. jedno konto, w przypadku nie zaimplementowanej możliwości jednokrotnego dostępu z poziomu jednego ko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038D6-CA1F-4A20-B295-B5F0540D43E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 pierwszej kolejności potrzebujemy adres url naszej strony, będzie nam on potrzebny do zerowania licznik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B2B07-592B-4B64-ADBD-EB9271BED1C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stępnie czyścimy z niego zmienne z tablicy $_GET, w przeciwnym wypadku zerowalibyśmy licznik za każdym razem. Kolejną rzeczą jest implementacja samego mechanizmu zliczającego i przechowującego dane w ses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B0D90-CC42-4C3A-A2CB-B6958E4361C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 koniec potrzebna jest nam akcja, która w związku ze zmienną $_GET wyczyści nam licznik i odświeży stronę. Kolejną rzeczą jest wyświetlenie naszego licznika oraz linku do jego zero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2C64C-D092-44A7-BA1F-358FD067ACA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sje HTTP służą głównie do systemów logowania oraz przechowywania danych globalnych lub konfiguracyjnych. Są bezpieczniejsze od ciasteczek jeśli chodzi przechowywanie danych ze względu na ich umiejscowienie (serwer). Opierają się jednak o system ciasteczek, co może spowodować brak możliwości dostania się do odpowiedniej ses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D0ECC-3B39-4CCA-AF3B-8B6F5ACAE65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gin.php, logout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2469E-18C7-4935-B7BA-3DECD151AE2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gin.php, logout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CE484-6449-42A6-98DD-858BDA4CC73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gin.php, logout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94AF6-E4D4-4829-AEC8-4C3C0D0310D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31E75-E58B-485F-9A58-DC0ADFBEF48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sje w przeciwieństwie do ciasteczek, są mechanizmem bardziej rozbudowanym. Podobnie jak ciasteczka posiadają tablicę superglobalną, dostępną w każdym miejscu aplikacji PHP. Dane z sesji są dostępne w skrypcie od razu po ich stworzeniu (ustawieniu), nie ma potrzeby odświeżania strony, żeby korzystać z sesji trzeba ją jednak najpierw otworzyć lub stworzyć, możemy ją również zamknąć wedle naszej potrzeb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01BEE-7561-48F5-B81E-06250C9FED2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y zainicjalizować sesje, używamy funkcji ‘session_start’, zwraca ona zawsze wartość true i nie przyjmuje żadnych argumentów. Aby pobrać stan sesji stosujemy funkcje ‘session_status’, zwraca 0 jeżeli sesje są wyłączone po stronie serwera, 1 jeżeli sesja nie istnieje lub jest nieaktywna bądź, 2 jeżeli istniej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6446A-D6F1-42FF-9ACE-B8B4A0A40BB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kcja session_id(), zwraca nam identyfikator obecnej sesji lub jeżeli dostanie identyfikator jako parametr, ustawia identyfikator sesji, w tym przypadku należy ją wywołać przed funkcją session_start. Kolejna funkcja zastępuje obecny identyfikator sesji, nowym, a argument decyduje o tym, czy usunąć zmienianą sesję, czy n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3B807-4F42-4FBD-85AD-82B808CC5C8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ykonać ćwiczenie, na następnej stronie znajduje się rozwiązanie ćwiczenia, nie pokazywać dopóki studenci nie skończ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B2EEF-B68E-4836-80CD-29E09559034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 pierwszej kolejności ustalamy nazwę sesji na nasze imię. Następnie sprawdzamy czy sesja istnieje, jeżeli nie istnieje tworzymy nową lub startujemy wcześniej utworzoną. Na koniec wypisujemy identyfikator ses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B3AE9-4941-4B83-831F-BBF513E0D33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ykonać ćwiczen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672C6-B0A4-45CC-80AD-7C9E961B2DD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ykonać ćwiczen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681-79E5-43CF-B458-ABB4A0A7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B5F6-E1B5-48C9-9AAE-45C62181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C12-6C47-4DE3-8656-06FA3D32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A5F3-6200-4100-8153-E1D83444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6B7-83BE-4D6D-B836-91184A00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D0B-B9FD-4482-8964-08A1F808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7E75-9BA8-4DDE-8EAB-60AF6511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746-EBAA-4690-9CD8-0A1C47AC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EC27-3B38-4241-B227-DDC0F53A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986C-AFF2-4BD9-9F4B-22AF8C99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1DF-1392-457D-B3D1-0CBC386D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6C86-7AEA-4C9E-B110-197A8CC3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69D7F-D4E1-49EC-9D7B-B4EBDD17826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440000" y="1044720"/>
            <a:ext cx="81356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 poziom średnio zaawansow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Lekcja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esje - współdzielenie inform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raz 3" descr="PO KL_z podpisem_kolor.jpg"/>
          <p:cNvPicPr/>
          <p:nvPr/>
        </p:nvPicPr>
        <p:blipFill>
          <a:blip r:embed="rId1"/>
          <a:stretch/>
        </p:blipFill>
        <p:spPr>
          <a:xfrm>
            <a:off x="2630520" y="4854600"/>
            <a:ext cx="5753160" cy="1085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odawanie danych do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ession_register (stara meto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$_SESSION[‘key’] = $valu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dpisywanie danych w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$_SESSION[‘key’] = $valu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Usuwanie bieżących danych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ession_destro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zwa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ring 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ession_nam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 ([ string $nazwa 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Usuwanie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 (isset($_COOKIE[session_name()])) {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tcookie(session_name(), '', time()-42000, '/'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Usuwanie danych z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ession_unse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unset($_SESSION[‘key’]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Ćwiczenie – tworzenie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leży przygotować skrypt, który zapisze w sesji nasze imię oraz wyświetli  ‘Hello, nasze_imie’ z sesji. Następnie zapisze do poprzedniej zmiennej nazwisko i wyświetli ‘Hello, nasze_nazwisko’. Na końcu usunie całą sesj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Rozwiązanie cz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&lt;?php</a:t>
            </a:r>
            <a:br>
              <a:rPr sz="2000"/>
            </a:b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if (</a:t>
            </a:r>
            <a:r>
              <a:rPr b="0" lang="pl-PL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session_id</a:t>
            </a: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() == </a:t>
            </a:r>
            <a:r>
              <a:rPr b="0" lang="pl-PL" sz="2000" spc="-1" strike="noStrike">
                <a:solidFill>
                  <a:srgbClr val="dd0000"/>
                </a:solidFill>
                <a:latin typeface="Courier New"/>
                <a:ea typeface="Courier New"/>
              </a:rPr>
              <a:t>''</a:t>
            </a: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)</a:t>
            </a:r>
            <a:br>
              <a:rPr sz="2000"/>
            </a:b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    </a:t>
            </a:r>
            <a:r>
              <a:rPr b="0" lang="pl-PL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session_start</a:t>
            </a: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();</a:t>
            </a:r>
            <a:br>
              <a:rPr sz="2000"/>
            </a:b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if (!isset(</a:t>
            </a:r>
            <a:r>
              <a:rPr b="0" lang="pl-PL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$_SESSION</a:t>
            </a: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[</a:t>
            </a:r>
            <a:r>
              <a:rPr b="0" lang="pl-PL" sz="2000" spc="-1" strike="noStrike">
                <a:solidFill>
                  <a:srgbClr val="dd0000"/>
                </a:solidFill>
                <a:latin typeface="Courier New"/>
                <a:ea typeface="Courier New"/>
              </a:rPr>
              <a:t>'name'</a:t>
            </a: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]))</a:t>
            </a:r>
            <a:br>
              <a:rPr sz="2000"/>
            </a:b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    </a:t>
            </a:r>
            <a:r>
              <a:rPr b="0" lang="pl-PL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$_SESSION</a:t>
            </a: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[</a:t>
            </a:r>
            <a:r>
              <a:rPr b="0" lang="pl-PL" sz="2000" spc="-1" strike="noStrike">
                <a:solidFill>
                  <a:srgbClr val="dd0000"/>
                </a:solidFill>
                <a:latin typeface="Courier New"/>
                <a:ea typeface="Courier New"/>
              </a:rPr>
              <a:t>'name'</a:t>
            </a: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] = </a:t>
            </a:r>
            <a:r>
              <a:rPr b="0" lang="pl-PL" sz="2000" spc="-1" strike="noStrike">
                <a:solidFill>
                  <a:srgbClr val="dd0000"/>
                </a:solidFill>
                <a:latin typeface="Courier New"/>
                <a:ea typeface="Courier New"/>
              </a:rPr>
              <a:t>'Ewa'</a:t>
            </a: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;</a:t>
            </a:r>
            <a:br>
              <a:rPr sz="2000"/>
            </a:b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echo </a:t>
            </a:r>
            <a:r>
              <a:rPr b="0" lang="pl-PL" sz="2000" spc="-1" strike="noStrike">
                <a:solidFill>
                  <a:srgbClr val="dd0000"/>
                </a:solidFill>
                <a:latin typeface="Courier New"/>
                <a:ea typeface="Courier New"/>
              </a:rPr>
              <a:t>'Hello, ' </a:t>
            </a: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. </a:t>
            </a:r>
            <a:r>
              <a:rPr b="0" lang="pl-PL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$_SESSION</a:t>
            </a: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[</a:t>
            </a:r>
            <a:r>
              <a:rPr b="0" lang="pl-PL" sz="2000" spc="-1" strike="noStrike">
                <a:solidFill>
                  <a:srgbClr val="dd0000"/>
                </a:solidFill>
                <a:latin typeface="Courier New"/>
                <a:ea typeface="Courier New"/>
              </a:rPr>
              <a:t>'name'</a:t>
            </a: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];</a:t>
            </a:r>
            <a:br>
              <a:rPr sz="2000"/>
            </a:br>
            <a:r>
              <a:rPr b="0" lang="pl-PL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$_SESSION</a:t>
            </a: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[</a:t>
            </a:r>
            <a:r>
              <a:rPr b="0" lang="pl-PL" sz="2000" spc="-1" strike="noStrike">
                <a:solidFill>
                  <a:srgbClr val="dd0000"/>
                </a:solidFill>
                <a:latin typeface="Courier New"/>
                <a:ea typeface="Courier New"/>
              </a:rPr>
              <a:t>'name'</a:t>
            </a: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] = </a:t>
            </a:r>
            <a:r>
              <a:rPr b="0" lang="pl-PL" sz="2000" spc="-1" strike="noStrike">
                <a:solidFill>
                  <a:srgbClr val="dd0000"/>
                </a:solidFill>
                <a:latin typeface="Courier New"/>
                <a:ea typeface="Courier New"/>
              </a:rPr>
              <a:t>'Kowalska'</a:t>
            </a: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;</a:t>
            </a:r>
            <a:br>
              <a:rPr sz="2000"/>
            </a:b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echo </a:t>
            </a:r>
            <a:r>
              <a:rPr b="0" lang="pl-PL" sz="2000" spc="-1" strike="noStrike">
                <a:solidFill>
                  <a:srgbClr val="dd0000"/>
                </a:solidFill>
                <a:latin typeface="Courier New"/>
                <a:ea typeface="Courier New"/>
              </a:rPr>
              <a:t>'&lt;br /&gt;Hello, ' </a:t>
            </a: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. </a:t>
            </a:r>
            <a:r>
              <a:rPr b="0" lang="pl-PL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$_SESSION</a:t>
            </a: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[</a:t>
            </a:r>
            <a:r>
              <a:rPr b="0" lang="pl-PL" sz="2000" spc="-1" strike="noStrike">
                <a:solidFill>
                  <a:srgbClr val="dd0000"/>
                </a:solidFill>
                <a:latin typeface="Courier New"/>
                <a:ea typeface="Courier New"/>
              </a:rPr>
              <a:t>'name'</a:t>
            </a: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];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Rozwiązanie cz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session_unset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if (isset(</a:t>
            </a:r>
            <a:r>
              <a:rPr b="0" lang="en-US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$_COOKIE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session_name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()])) {</a:t>
            </a:r>
            <a:br>
              <a:rPr sz="2000"/>
            </a:b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    </a:t>
            </a:r>
            <a:r>
              <a:rPr b="0" lang="en-US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setcookie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session_name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(), </a:t>
            </a:r>
            <a:r>
              <a:rPr b="0" lang="en-US" sz="2000" spc="-1" strike="noStrike">
                <a:solidFill>
                  <a:srgbClr val="dd0000"/>
                </a:solidFill>
                <a:latin typeface="Courier New"/>
                <a:ea typeface="Courier New"/>
              </a:rPr>
              <a:t>''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, </a:t>
            </a:r>
            <a:r>
              <a:rPr b="0" lang="en-US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time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() - </a:t>
            </a:r>
            <a:r>
              <a:rPr b="0" lang="en-US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42000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, </a:t>
            </a:r>
            <a:r>
              <a:rPr b="0" lang="en-US" sz="2000" spc="-1" strike="noStrike">
                <a:solidFill>
                  <a:srgbClr val="dd0000"/>
                </a:solidFill>
                <a:latin typeface="Courier New"/>
                <a:ea typeface="Courier New"/>
              </a:rPr>
              <a:t>'/'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);</a:t>
            </a:r>
            <a:br>
              <a:rPr sz="2000"/>
            </a:b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Ćwiczenie – tworzenie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pisz skrypt, który będzie zliczał i wyświetlał wizyty na stronie. Dane musi przechowywać w tablicy sesji. Korzystając z tablicy $_GET oraz funkcji header do naszego licznika dodajmy link, który go zer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Session – czyli Sesje HT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zym jest Sesja HTT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 czym polega mechanizm Sesji internetow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468440" y="1707840"/>
            <a:ext cx="8207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Rozwiąza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bb"/>
                </a:solidFill>
                <a:latin typeface="Courier New"/>
                <a:ea typeface="Courier New"/>
              </a:rPr>
              <a:t>&lt;?php</a:t>
            </a:r>
            <a:br>
              <a:rPr sz="1600"/>
            </a:br>
            <a:r>
              <a:rPr b="0" lang="pl-PL" sz="1600" spc="-1" strike="noStrike">
                <a:solidFill>
                  <a:srgbClr val="0000bb"/>
                </a:solidFill>
                <a:latin typeface="Courier New"/>
                <a:ea typeface="Courier New"/>
              </a:rPr>
              <a:t>$url 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= (@</a:t>
            </a:r>
            <a:r>
              <a:rPr b="0" lang="pl-PL" sz="1600" spc="-1" strike="noStrike">
                <a:solidFill>
                  <a:srgbClr val="0000bb"/>
                </a:solidFill>
                <a:latin typeface="Courier New"/>
                <a:ea typeface="Courier New"/>
              </a:rPr>
              <a:t>$_SERVER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[</a:t>
            </a:r>
            <a:r>
              <a:rPr b="0" lang="pl-PL" sz="1600" spc="-1" strike="noStrike">
                <a:solidFill>
                  <a:srgbClr val="dd0000"/>
                </a:solidFill>
                <a:latin typeface="Courier New"/>
                <a:ea typeface="Courier New"/>
              </a:rPr>
              <a:t>"HTTPS"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] == </a:t>
            </a:r>
            <a:r>
              <a:rPr b="0" lang="pl-PL" sz="1600" spc="-1" strike="noStrike">
                <a:solidFill>
                  <a:srgbClr val="dd0000"/>
                </a:solidFill>
                <a:latin typeface="Courier New"/>
                <a:ea typeface="Courier New"/>
              </a:rPr>
              <a:t>"on"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) ? </a:t>
            </a:r>
            <a:r>
              <a:rPr b="0" lang="pl-PL" sz="1600" spc="-1" strike="noStrike">
                <a:solidFill>
                  <a:srgbClr val="dd0000"/>
                </a:solidFill>
                <a:latin typeface="Courier New"/>
                <a:ea typeface="Courier New"/>
              </a:rPr>
              <a:t>"https://" 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: </a:t>
            </a:r>
            <a:r>
              <a:rPr b="0" lang="pl-PL" sz="1600" spc="-1" strike="noStrike">
                <a:solidFill>
                  <a:srgbClr val="dd0000"/>
                </a:solidFill>
                <a:latin typeface="Courier New"/>
                <a:ea typeface="Courier New"/>
              </a:rPr>
              <a:t>"http://"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;</a:t>
            </a:r>
            <a:br>
              <a:rPr sz="1600"/>
            </a:b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if (</a:t>
            </a:r>
            <a:r>
              <a:rPr b="0" lang="pl-PL" sz="1600" spc="-1" strike="noStrike">
                <a:solidFill>
                  <a:srgbClr val="0000bb"/>
                </a:solidFill>
                <a:latin typeface="Courier New"/>
                <a:ea typeface="Courier New"/>
              </a:rPr>
              <a:t>$_SERVER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[</a:t>
            </a:r>
            <a:r>
              <a:rPr b="0" lang="pl-PL" sz="1600" spc="-1" strike="noStrike">
                <a:solidFill>
                  <a:srgbClr val="dd0000"/>
                </a:solidFill>
                <a:latin typeface="Courier New"/>
                <a:ea typeface="Courier New"/>
              </a:rPr>
              <a:t>"SERVER_PORT"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] != </a:t>
            </a:r>
            <a:r>
              <a:rPr b="0" lang="pl-PL" sz="1600" spc="-1" strike="noStrike">
                <a:solidFill>
                  <a:srgbClr val="dd0000"/>
                </a:solidFill>
                <a:latin typeface="Courier New"/>
                <a:ea typeface="Courier New"/>
              </a:rPr>
              <a:t>"80"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) {</a:t>
            </a:r>
            <a:br>
              <a:rPr sz="1600"/>
            </a:b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    </a:t>
            </a:r>
            <a:r>
              <a:rPr b="0" lang="pl-PL" sz="1600" spc="-1" strike="noStrike">
                <a:solidFill>
                  <a:srgbClr val="0000bb"/>
                </a:solidFill>
                <a:latin typeface="Courier New"/>
                <a:ea typeface="Courier New"/>
              </a:rPr>
              <a:t>$url 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.= </a:t>
            </a:r>
            <a:r>
              <a:rPr b="0" lang="pl-PL" sz="1600" spc="-1" strike="noStrike">
                <a:solidFill>
                  <a:srgbClr val="0000bb"/>
                </a:solidFill>
                <a:latin typeface="Courier New"/>
                <a:ea typeface="Courier New"/>
              </a:rPr>
              <a:t>$_SERVER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[</a:t>
            </a:r>
            <a:r>
              <a:rPr b="0" lang="pl-PL" sz="1600" spc="-1" strike="noStrike">
                <a:solidFill>
                  <a:srgbClr val="dd0000"/>
                </a:solidFill>
                <a:latin typeface="Courier New"/>
                <a:ea typeface="Courier New"/>
              </a:rPr>
              <a:t>"SERVER_NAME"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] . </a:t>
            </a:r>
            <a:r>
              <a:rPr b="0" lang="pl-PL" sz="1600" spc="-1" strike="noStrike">
                <a:solidFill>
                  <a:srgbClr val="dd0000"/>
                </a:solidFill>
                <a:latin typeface="Courier New"/>
                <a:ea typeface="Courier New"/>
              </a:rPr>
              <a:t>":" 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	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	</a:t>
            </a:r>
            <a:r>
              <a:rPr b="0" lang="pl-PL" sz="1600" spc="-1" strike="noStrike">
                <a:solidFill>
                  <a:srgbClr val="0000bb"/>
                </a:solidFill>
                <a:latin typeface="Courier New"/>
                <a:ea typeface="Courier New"/>
              </a:rPr>
              <a:t>$_SERVER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[</a:t>
            </a:r>
            <a:r>
              <a:rPr b="0" lang="pl-PL" sz="1600" spc="-1" strike="noStrike">
                <a:solidFill>
                  <a:srgbClr val="dd0000"/>
                </a:solidFill>
                <a:latin typeface="Courier New"/>
                <a:ea typeface="Courier New"/>
              </a:rPr>
              <a:t>"SERVER_PORT"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] . </a:t>
            </a:r>
            <a:r>
              <a:rPr b="0" lang="pl-PL" sz="1600" spc="-1" strike="noStrike">
                <a:solidFill>
                  <a:srgbClr val="0000bb"/>
                </a:solidFill>
                <a:latin typeface="Courier New"/>
                <a:ea typeface="Courier New"/>
              </a:rPr>
              <a:t>$_SERVER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[</a:t>
            </a:r>
            <a:r>
              <a:rPr b="0" lang="pl-PL" sz="1600" spc="-1" strike="noStrike">
                <a:solidFill>
                  <a:srgbClr val="dd0000"/>
                </a:solidFill>
                <a:latin typeface="Courier New"/>
                <a:ea typeface="Courier New"/>
              </a:rPr>
              <a:t>"REQUEST_URI"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];</a:t>
            </a:r>
            <a:br>
              <a:rPr sz="1600"/>
            </a:b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} else {</a:t>
            </a:r>
            <a:br>
              <a:rPr sz="1600"/>
            </a:b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    </a:t>
            </a:r>
            <a:r>
              <a:rPr b="0" lang="pl-PL" sz="1600" spc="-1" strike="noStrike">
                <a:solidFill>
                  <a:srgbClr val="0000bb"/>
                </a:solidFill>
                <a:latin typeface="Courier New"/>
                <a:ea typeface="Courier New"/>
              </a:rPr>
              <a:t>$url 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.= </a:t>
            </a:r>
            <a:r>
              <a:rPr b="0" lang="pl-PL" sz="1600" spc="-1" strike="noStrike">
                <a:solidFill>
                  <a:srgbClr val="0000bb"/>
                </a:solidFill>
                <a:latin typeface="Courier New"/>
                <a:ea typeface="Courier New"/>
              </a:rPr>
              <a:t>$_SERVER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[</a:t>
            </a:r>
            <a:r>
              <a:rPr b="0" lang="pl-PL" sz="1600" spc="-1" strike="noStrike">
                <a:solidFill>
                  <a:srgbClr val="dd0000"/>
                </a:solidFill>
                <a:latin typeface="Courier New"/>
                <a:ea typeface="Courier New"/>
              </a:rPr>
              <a:t>"SERVER_NAME"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] . </a:t>
            </a:r>
            <a:r>
              <a:rPr b="0" lang="pl-PL" sz="1600" spc="-1" strike="noStrike">
                <a:solidFill>
                  <a:srgbClr val="0000bb"/>
                </a:solidFill>
                <a:latin typeface="Courier New"/>
                <a:ea typeface="Courier New"/>
              </a:rPr>
              <a:t>$_SERVER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[</a:t>
            </a:r>
            <a:r>
              <a:rPr b="0" lang="pl-PL" sz="1600" spc="-1" strike="noStrike">
                <a:solidFill>
                  <a:srgbClr val="dd0000"/>
                </a:solidFill>
                <a:latin typeface="Courier New"/>
                <a:ea typeface="Courier New"/>
              </a:rPr>
              <a:t>"REQUEST_URI"</a:t>
            </a: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];</a:t>
            </a:r>
            <a:br>
              <a:rPr sz="1600"/>
            </a:br>
            <a:r>
              <a:rPr b="0" lang="pl-PL" sz="1600" spc="-1" strike="noStrike">
                <a:solidFill>
                  <a:srgbClr val="0077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Rozwiąza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$url 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= </a:t>
            </a:r>
            <a:r>
              <a:rPr b="0" lang="en-US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str_replace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dd0000"/>
                </a:solidFill>
                <a:latin typeface="Courier New"/>
                <a:ea typeface="Courier New"/>
              </a:rPr>
              <a:t>'?clear=1'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, </a:t>
            </a:r>
            <a:r>
              <a:rPr b="0" lang="en-US" sz="2000" spc="-1" strike="noStrike">
                <a:solidFill>
                  <a:srgbClr val="dd0000"/>
                </a:solidFill>
                <a:latin typeface="Courier New"/>
                <a:ea typeface="Courier New"/>
              </a:rPr>
              <a:t>''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, </a:t>
            </a:r>
            <a:r>
              <a:rPr b="0" lang="en-US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$url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);</a:t>
            </a:r>
            <a:br>
              <a:rPr sz="2000"/>
            </a:b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if (</a:t>
            </a:r>
            <a:r>
              <a:rPr b="0" lang="en-US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session_id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() == </a:t>
            </a:r>
            <a:r>
              <a:rPr b="0" lang="en-US" sz="2000" spc="-1" strike="noStrike">
                <a:solidFill>
                  <a:srgbClr val="dd0000"/>
                </a:solidFill>
                <a:latin typeface="Courier New"/>
                <a:ea typeface="Courier New"/>
              </a:rPr>
              <a:t>''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    </a:t>
            </a:r>
            <a:r>
              <a:rPr b="0" lang="en-US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session_start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if (!isset(</a:t>
            </a:r>
            <a:r>
              <a:rPr b="0" lang="en-US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$_SESSION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dd0000"/>
                </a:solidFill>
                <a:latin typeface="Courier New"/>
                <a:ea typeface="Courier New"/>
              </a:rPr>
              <a:t>'count'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]))</a:t>
            </a:r>
            <a:br>
              <a:rPr sz="2000"/>
            </a:b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    </a:t>
            </a:r>
            <a:r>
              <a:rPr b="0" lang="en-US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$_SESSION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dd0000"/>
                </a:solidFill>
                <a:latin typeface="Courier New"/>
                <a:ea typeface="Courier New"/>
              </a:rPr>
              <a:t>'count'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] = </a:t>
            </a:r>
            <a:r>
              <a:rPr b="0" lang="en-US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0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else</a:t>
            </a:r>
            <a:br>
              <a:rPr sz="2000"/>
            </a:b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    </a:t>
            </a:r>
            <a:r>
              <a:rPr b="0" lang="en-US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$_SESSION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dd0000"/>
                </a:solidFill>
                <a:latin typeface="Courier New"/>
                <a:ea typeface="Courier New"/>
              </a:rPr>
              <a:t>'count'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] = </a:t>
            </a:r>
            <a:r>
              <a:rPr b="0" lang="en-US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$_SESSION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dd0000"/>
                </a:solidFill>
                <a:latin typeface="Courier New"/>
                <a:ea typeface="Courier New"/>
              </a:rPr>
              <a:t>'count'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] + </a:t>
            </a:r>
            <a:r>
              <a:rPr b="0" lang="en-US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1</a:t>
            </a:r>
            <a:r>
              <a:rPr b="0" lang="en-US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Rozwiąza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if (isset(</a:t>
            </a:r>
            <a:r>
              <a:rPr b="0" lang="pl-PL" sz="1800" spc="-1" strike="noStrike">
                <a:solidFill>
                  <a:srgbClr val="0000bb"/>
                </a:solidFill>
                <a:latin typeface="Courier New"/>
                <a:ea typeface="Courier New"/>
              </a:rPr>
              <a:t>$_GET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[</a:t>
            </a:r>
            <a:r>
              <a:rPr b="0" lang="pl-PL" sz="1800" spc="-1" strike="noStrike">
                <a:solidFill>
                  <a:srgbClr val="dd0000"/>
                </a:solidFill>
                <a:latin typeface="Courier New"/>
                <a:ea typeface="Courier New"/>
              </a:rPr>
              <a:t>'clear'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]) and </a:t>
            </a:r>
            <a:r>
              <a:rPr b="0" lang="pl-PL" sz="1800" spc="-1" strike="noStrike">
                <a:solidFill>
                  <a:srgbClr val="0000bb"/>
                </a:solidFill>
                <a:latin typeface="Courier New"/>
                <a:ea typeface="Courier New"/>
              </a:rPr>
              <a:t>$_GET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[</a:t>
            </a:r>
            <a:r>
              <a:rPr b="0" lang="pl-PL" sz="1800" spc="-1" strike="noStrike">
                <a:solidFill>
                  <a:srgbClr val="dd0000"/>
                </a:solidFill>
                <a:latin typeface="Courier New"/>
                <a:ea typeface="Courier New"/>
              </a:rPr>
              <a:t>'clear'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]) {</a:t>
            </a:r>
            <a:br>
              <a:rPr sz="1800"/>
            </a:b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    </a:t>
            </a:r>
            <a:r>
              <a:rPr b="0" lang="pl-PL" sz="1800" spc="-1" strike="noStrike">
                <a:solidFill>
                  <a:srgbClr val="0000bb"/>
                </a:solidFill>
                <a:latin typeface="Courier New"/>
                <a:ea typeface="Courier New"/>
              </a:rPr>
              <a:t>$_SESSION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[</a:t>
            </a:r>
            <a:r>
              <a:rPr b="0" lang="pl-PL" sz="1800" spc="-1" strike="noStrike">
                <a:solidFill>
                  <a:srgbClr val="dd0000"/>
                </a:solidFill>
                <a:latin typeface="Courier New"/>
                <a:ea typeface="Courier New"/>
              </a:rPr>
              <a:t>'count'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] = </a:t>
            </a:r>
            <a:r>
              <a:rPr b="0" lang="pl-PL" sz="1800" spc="-1" strike="noStrike">
                <a:solidFill>
                  <a:srgbClr val="0000bb"/>
                </a:solidFill>
                <a:latin typeface="Courier New"/>
                <a:ea typeface="Courier New"/>
              </a:rPr>
              <a:t>0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;</a:t>
            </a:r>
            <a:br>
              <a:rPr sz="1800"/>
            </a:b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    </a:t>
            </a:r>
            <a:r>
              <a:rPr b="0" lang="pl-PL" sz="1800" spc="-1" strike="noStrike">
                <a:solidFill>
                  <a:srgbClr val="0000bb"/>
                </a:solidFill>
                <a:latin typeface="Courier New"/>
                <a:ea typeface="Courier New"/>
              </a:rPr>
              <a:t>header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(</a:t>
            </a:r>
            <a:r>
              <a:rPr b="0" lang="pl-PL" sz="1800" spc="-1" strike="noStrike">
                <a:solidFill>
                  <a:srgbClr val="dd0000"/>
                </a:solidFill>
                <a:latin typeface="Courier New"/>
                <a:ea typeface="Courier New"/>
              </a:rPr>
              <a:t>'Location: ' 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. </a:t>
            </a:r>
            <a:r>
              <a:rPr b="0" lang="pl-PL" sz="1800" spc="-1" strike="noStrike">
                <a:solidFill>
                  <a:srgbClr val="0000bb"/>
                </a:solidFill>
                <a:latin typeface="Courier New"/>
                <a:ea typeface="Courier New"/>
              </a:rPr>
              <a:t>$url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);</a:t>
            </a:r>
            <a:br>
              <a:rPr sz="1800"/>
            </a:b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echo </a:t>
            </a:r>
            <a:r>
              <a:rPr b="0" lang="pl-PL" sz="1800" spc="-1" strike="noStrike">
                <a:solidFill>
                  <a:srgbClr val="dd0000"/>
                </a:solidFill>
                <a:latin typeface="Courier New"/>
                <a:ea typeface="Courier New"/>
              </a:rPr>
              <a:t>'Odwiedzasz nas ' 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. </a:t>
            </a:r>
            <a:r>
              <a:rPr b="0" lang="pl-PL" sz="1800" spc="-1" strike="noStrike">
                <a:solidFill>
                  <a:srgbClr val="0000bb"/>
                </a:solidFill>
                <a:latin typeface="Courier New"/>
                <a:ea typeface="Courier New"/>
              </a:rPr>
              <a:t>$_SESSION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[</a:t>
            </a:r>
            <a:r>
              <a:rPr b="0" lang="pl-PL" sz="1800" spc="-1" strike="noStrike">
                <a:solidFill>
                  <a:srgbClr val="dd0000"/>
                </a:solidFill>
                <a:latin typeface="Courier New"/>
                <a:ea typeface="Courier New"/>
              </a:rPr>
              <a:t>'count'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] . </a:t>
            </a:r>
            <a:r>
              <a:rPr b="0" lang="pl-PL" sz="1800" spc="-1" strike="noStrike">
                <a:solidFill>
                  <a:srgbClr val="dd0000"/>
                </a:solidFill>
                <a:latin typeface="Courier New"/>
                <a:ea typeface="Courier New"/>
              </a:rPr>
              <a:t>' raz!'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;</a:t>
            </a:r>
            <a:br>
              <a:rPr sz="1800"/>
            </a:b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echo </a:t>
            </a:r>
            <a:r>
              <a:rPr b="0" lang="pl-PL" sz="1800" spc="-1" strike="noStrike">
                <a:solidFill>
                  <a:srgbClr val="dd0000"/>
                </a:solidFill>
                <a:latin typeface="Courier New"/>
                <a:ea typeface="Courier New"/>
              </a:rPr>
              <a:t>'&lt;br /&gt;&lt;a href="?clear=1"&gt;Zeruj&lt;/a&gt;'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;</a:t>
            </a:r>
            <a:br>
              <a:rPr sz="1800"/>
            </a:br>
            <a:r>
              <a:rPr b="0" lang="pl-PL" sz="1800" spc="-1" strike="noStrike">
                <a:solidFill>
                  <a:srgbClr val="0000bb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dsumowa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 czego stosować sesje internetow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Ćwiczenie praktycz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żywając sesji, przygotuj skrypt odpowiedzialny za logowanie użytkownika do systemu. Sprawdź login oraz hasło, w przypadku sukcesu zaloguj użytkownika i wyświetl jego login. Po wylogowaniu wyświetl ponownie formularz logowa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Ćwiczenie praktycz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o stworzonego wcześniej systemu logowania dodaj sprawdzanie liczby nieudanych prób zalogowania (błędny login lub hasła). Po 5 nieudanych próbach zablokuj możliwość zalogowania do aplikac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8000"/>
          </a:bodyPr>
          <a:p>
            <a:pPr marL="42300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Ćwiczenie praktycz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o stworzonego wcześniej ćwiczenia, dodaj sprawdzanie czasu, który upłynął od momentu zablokowania użytkownika na skutek podania nieprawidłowego loginu lub hasła. Po upłynięciu minuty odblokuj formularz logowania i pozwól użytkownikowi na ponowną próbę logowa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79640" y="3384360"/>
            <a:ext cx="82072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ziękujemy za uwag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az 4" descr="PO KL_z podpisem_kolor.jpg"/>
          <p:cNvPicPr/>
          <p:nvPr/>
        </p:nvPicPr>
        <p:blipFill>
          <a:blip r:embed="rId1"/>
          <a:stretch/>
        </p:blipFill>
        <p:spPr>
          <a:xfrm>
            <a:off x="2306520" y="4716360"/>
            <a:ext cx="5753160" cy="1086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Sesje w 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uperglobalna tablica $_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twieranie i zamykanie ses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Inicjalizacja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ool session_star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ession_statu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Identyfikator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ring session_id([string $id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 session_regenerate_id ([ bool $usunięcie_starej_sesj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 = 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Ćwiczenie – tworzenie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pisz skrypt, który stworzy nową sesję oraz wyświetli jej identyfikator, którym będzie Twoje imię (nie stosuj polskich znaków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Rozwiąza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bb"/>
                </a:solidFill>
                <a:latin typeface="Courier New"/>
                <a:ea typeface="Courier New"/>
              </a:rPr>
              <a:t>&lt;?php</a:t>
            </a:r>
            <a:br>
              <a:rPr sz="2800"/>
            </a:br>
            <a:r>
              <a:rPr b="0" lang="en-US" sz="2800" spc="-1" strike="noStrike">
                <a:solidFill>
                  <a:srgbClr val="0000bb"/>
                </a:solidFill>
                <a:latin typeface="Courier New"/>
                <a:ea typeface="Courier New"/>
              </a:rPr>
              <a:t>session_id</a:t>
            </a:r>
            <a:r>
              <a:rPr b="0" lang="en-US" sz="2800" spc="-1" strike="noStrike">
                <a:solidFill>
                  <a:srgbClr val="007700"/>
                </a:solidFill>
                <a:latin typeface="Courier New"/>
                <a:ea typeface="Courier New"/>
              </a:rPr>
              <a:t>(</a:t>
            </a:r>
            <a:r>
              <a:rPr b="0" lang="en-US" sz="2800" spc="-1" strike="noStrike">
                <a:solidFill>
                  <a:srgbClr val="dd0000"/>
                </a:solidFill>
                <a:latin typeface="Courier New"/>
                <a:ea typeface="Courier New"/>
              </a:rPr>
              <a:t>'Ewa'</a:t>
            </a:r>
            <a:r>
              <a:rPr b="0" lang="en-US" sz="2800" spc="-1" strike="noStrike">
                <a:solidFill>
                  <a:srgbClr val="007700"/>
                </a:solidFill>
                <a:latin typeface="Courier New"/>
                <a:ea typeface="Courier New"/>
              </a:rPr>
              <a:t>);</a:t>
            </a:r>
            <a:br>
              <a:rPr sz="2800"/>
            </a:br>
            <a:r>
              <a:rPr b="0" lang="en-US" sz="2800" spc="-1" strike="noStrike">
                <a:solidFill>
                  <a:srgbClr val="007700"/>
                </a:solidFill>
                <a:latin typeface="Courier New"/>
                <a:ea typeface="Courier New"/>
              </a:rPr>
              <a:t>if (</a:t>
            </a:r>
            <a:r>
              <a:rPr b="0" lang="en-US" sz="2800" spc="-1" strike="noStrike">
                <a:solidFill>
                  <a:srgbClr val="0000bb"/>
                </a:solidFill>
                <a:latin typeface="Courier New"/>
                <a:ea typeface="Courier New"/>
              </a:rPr>
              <a:t>session_id</a:t>
            </a:r>
            <a:r>
              <a:rPr b="0" lang="en-US" sz="2800" spc="-1" strike="noStrike">
                <a:solidFill>
                  <a:srgbClr val="007700"/>
                </a:solidFill>
                <a:latin typeface="Courier New"/>
                <a:ea typeface="Courier New"/>
              </a:rPr>
              <a:t>() == </a:t>
            </a:r>
            <a:r>
              <a:rPr b="0" lang="en-US" sz="2800" spc="-1" strike="noStrike">
                <a:solidFill>
                  <a:srgbClr val="dd0000"/>
                </a:solidFill>
                <a:latin typeface="Courier New"/>
                <a:ea typeface="Courier New"/>
              </a:rPr>
              <a:t>''</a:t>
            </a:r>
            <a:r>
              <a:rPr b="0" lang="en-US" sz="2800" spc="-1" strike="noStrike">
                <a:solidFill>
                  <a:srgbClr val="007700"/>
                </a:solidFill>
                <a:latin typeface="Courier New"/>
                <a:ea typeface="Courier New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7700"/>
                </a:solidFill>
                <a:latin typeface="Courier New"/>
                <a:ea typeface="Courier New"/>
              </a:rPr>
              <a:t>    </a:t>
            </a:r>
            <a:r>
              <a:rPr b="0" lang="en-US" sz="2800" spc="-1" strike="noStrike">
                <a:solidFill>
                  <a:srgbClr val="0000bb"/>
                </a:solidFill>
                <a:latin typeface="Courier New"/>
                <a:ea typeface="Courier New"/>
              </a:rPr>
              <a:t>session_start</a:t>
            </a:r>
            <a:r>
              <a:rPr b="0" lang="en-US" sz="2800" spc="-1" strike="noStrike">
                <a:solidFill>
                  <a:srgbClr val="007700"/>
                </a:solidFill>
                <a:latin typeface="Courier New"/>
                <a:ea typeface="Courier New"/>
              </a:rPr>
              <a:t>();</a:t>
            </a:r>
            <a:br>
              <a:rPr sz="2800"/>
            </a:br>
            <a:r>
              <a:rPr b="0" lang="en-US" sz="2800" spc="-1" strike="noStrike">
                <a:solidFill>
                  <a:srgbClr val="007700"/>
                </a:solidFill>
                <a:latin typeface="Courier New"/>
                <a:ea typeface="Courier New"/>
              </a:rPr>
              <a:t>echo </a:t>
            </a:r>
            <a:r>
              <a:rPr b="0" lang="en-US" sz="2800" spc="-1" strike="noStrike">
                <a:solidFill>
                  <a:srgbClr val="0000bb"/>
                </a:solidFill>
                <a:latin typeface="Courier New"/>
                <a:ea typeface="Courier New"/>
              </a:rPr>
              <a:t>session_id</a:t>
            </a:r>
            <a:r>
              <a:rPr b="0" lang="en-US" sz="2800" spc="-1" strike="noStrike">
                <a:solidFill>
                  <a:srgbClr val="007700"/>
                </a:solidFill>
                <a:latin typeface="Courier New"/>
                <a:ea typeface="Courier New"/>
              </a:rPr>
              <a:t>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bb"/>
                </a:solidFill>
                <a:latin typeface="Courier New"/>
                <a:ea typeface="Courier New"/>
              </a:rPr>
              <a:t>?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Ćwiczenie – tworzenie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 pliku konfiguracyjnym php.ini znajdź lokalizację w której zapisywane są sesje serwera, otwórz plik sesji i przeanalizuj jego zawartoś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Ćwiczenie – tworzenie ses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twórz skrypt tworzący sesję w dwóch przeglądarkach, sprawdzając jednocześnie co powstaje w folderze z sesj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09:29:28Z</dcterms:created>
  <dc:creator/>
  <dc:description/>
  <dc:language>en-US</dc:language>
  <cp:lastModifiedBy>Michał Galas</cp:lastModifiedBy>
  <dcterms:modified xsi:type="dcterms:W3CDTF">2014-10-23T06:31:32Z</dcterms:modified>
  <cp:revision>65</cp:revision>
  <dc:subject/>
  <dc:title>Slajd 1</dc:title>
</cp:coreProperties>
</file>