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6F96BA-DF10-4798-BAC1-4C49AC63B3DE}"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725C8A-58EF-4C01-B74E-6629D2E48D49}" type="slidenum">
              <a:rPr b="0" lang="pl-P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115" name="PlaceHolder 1"/>
          <p:cNvSpPr>
            <a:spLocks noGrp="1"/>
          </p:cNvSpPr>
          <p:nvPr>
            <p:ph type="sldImg"/>
          </p:nvPr>
        </p:nvSpPr>
        <p:spPr>
          <a:xfrm>
            <a:off x="1106640" y="812880"/>
            <a:ext cx="5344920" cy="4008240"/>
          </a:xfrm>
          <a:prstGeom prst="rect">
            <a:avLst/>
          </a:prstGeom>
          <a:ln w="0">
            <a:noFill/>
          </a:ln>
        </p:spPr>
      </p:sp>
      <p:sp>
        <p:nvSpPr>
          <p:cNvPr id="11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łowa wstępu</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8BC364-13A5-430E-9895-82B3E1D03AAA}" type="slidenum">
              <a:rPr b="0" lang="pl-P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106640" y="812880"/>
            <a:ext cx="5344920" cy="4008240"/>
          </a:xfrm>
          <a:prstGeom prst="rect">
            <a:avLst/>
          </a:prstGeom>
          <a:ln w="0">
            <a:noFill/>
          </a:ln>
        </p:spPr>
      </p:sp>
      <p:sp>
        <p:nvSpPr>
          <p:cNvPr id="143"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żeli chcemy używać naszego kodu wielokrotnie, a nie pracujemy samemu, bądź też chcemy udostępniać nasz kod dla innych programistów. Warto zadbać o dobre udokumentowanie kodu. Ułatwia ono i przyśpiesza pracę nie tylko innym, ale też nam samym, kiedy po dłuższym okresie sięgamy po nasz wcześniej napisany kod. Polecanym tutaj narzędziem jest phpDocumentator, który tworzy dokumentację automatycznie na podstawie specjalnych komentarzy zamieszczanych w skrypci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hpDocumentor  jest narzędziem, dzięki któremu możliwe jest generowanie dokumentacji z kodu źródłowego PHP. Dzięki takiej dokumentacji, można dostarczyć  odbiorcy więcej informacji związanych z funkcjonalnością osadzoną w kodzie źródłowym, a nie tylko to, co jest wykorzystywane w interfejsie użytkownik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Dokumentacja taka jest bardzo przydatna w następujących sytuacja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Gdy tworzymy zestaw aplikacji udostępniające AP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Gdy tworzymy aplikacje opartej na architekturze pluginowej, umożliwiającej tworzenie własnych dodatków</a:t>
            </a:r>
            <a:endParaRPr b="0" lang="en-US" sz="1200" spc="-1" strike="noStrike">
              <a:solidFill>
                <a:srgbClr val="000000"/>
              </a:solidFill>
              <a:latin typeface="Times New Roman"/>
            </a:endParaRPr>
          </a:p>
          <a:p>
            <a:pPr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ięcej informacji dostępnych na stronie: http://www.phpdoc.or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82FC07-B7DE-41A7-9346-4F09DB8CB189}" type="slidenum">
              <a:rPr b="0" lang="pl-P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106640" y="812880"/>
            <a:ext cx="5344920" cy="4008240"/>
          </a:xfrm>
          <a:prstGeom prst="rect">
            <a:avLst/>
          </a:prstGeom>
          <a:ln w="0">
            <a:noFill/>
          </a:ln>
        </p:spPr>
      </p:sp>
      <p:sp>
        <p:nvSpPr>
          <p:cNvPr id="14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ystemy kontroli wersji lub w skrócie systemy wersjonowania, są to programy, które przechowują historię naszej pracy i ułatwiają pracę w większej grupie programistów. Do najbardziej popularnych należą subversion (SVN) oraz git. Po napisaniu danego fragmentu aplikacji, możemy swobodnie wysłać ją na serwer i dołączyć do całości większej aplikacji, możemy także pobierać fragmenty napisane w przeszłości, czy przeglądać zmiany zrobione przez innych w naszym kodzie. Systemy te pozwalają także na tworzenie repozytoriów na serwerach i udostępnianie najnowszych wersji naszych bibliotek, czy też aplikacji inny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Do komunikacji z serwerami zawierającymi usługi wersjonowania często używamy pluginów (np do ulubionego IDE) lub samodzielnych aplikacji jak np. TortoiseSV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920E1A-0030-4B27-A7E0-744DEC0A4B0A}" type="slidenum">
              <a:rPr b="0" lang="pl-P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106640" y="812880"/>
            <a:ext cx="5344920" cy="4008240"/>
          </a:xfrm>
          <a:prstGeom prst="rect">
            <a:avLst/>
          </a:prstGeom>
          <a:ln w="0">
            <a:noFill/>
          </a:ln>
        </p:spPr>
      </p:sp>
      <p:sp>
        <p:nvSpPr>
          <p:cNvPr id="14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 przykładzie widzimy zmiany przychodzące i wychodzące. Zmiany wychodzące to praca wykonana przez nas. Zmiany przychodzące to zmiany wykonane przez innych deweloperów. Z prawej strony widzimy konkretne zmiany dokonane na wybranym plik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creen pobrany ze strony: http://www.java-forums.org/blogs/eclipse/975-working-svn-eclipse.html)</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EFEFA8-BE8E-4D98-9129-CC44D41214C4}" type="slidenum">
              <a:rPr b="0" lang="pl-P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106640" y="812880"/>
            <a:ext cx="5344920" cy="4008240"/>
          </a:xfrm>
          <a:prstGeom prst="rect">
            <a:avLst/>
          </a:prstGeom>
          <a:ln w="0">
            <a:noFill/>
          </a:ln>
        </p:spPr>
      </p:sp>
      <p:sp>
        <p:nvSpPr>
          <p:cNvPr id="15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Testowanie aplikacji to jedna z ważniejszych części programowania, mamy różne rodzaje testów np. integracyjne, wydajnościowe. Jeśli chodzi jednak o najczęściej przeprowadzane testy przez samych programistów, są to testy jednostkowe. Testy jednostkowe to testy poszczególnych metod, procedur, bądź obiektów. Z pomocą przy testowaniu przychodzi nam biblioteka automatyzująca testy jednostkowe phpUnit. Warto z niej korzystać, ponieważ zaoszczędzimy sporo prac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8CA6B6-68DF-4672-B0F1-DCD652AA0943}" type="slidenum">
              <a:rPr b="0" lang="pl-P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106640" y="812880"/>
            <a:ext cx="5344920" cy="4008240"/>
          </a:xfrm>
          <a:prstGeom prst="rect">
            <a:avLst/>
          </a:prstGeom>
          <a:ln w="0">
            <a:noFill/>
          </a:ln>
        </p:spPr>
      </p:sp>
      <p:sp>
        <p:nvSpPr>
          <p:cNvPr id="15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HP jest językiem skryptowym, stąd też nie posiada instalatorów znanych nam z systemów operacyjnych w formie pliku wykonywalnego. Są jednak narzędzia np. Phing, które pomogą nam stworzyć instalator aplikacji. Phing jest narzędziem niezależnym od platformy, wzorowanym na java-owym ANT-cie. Reguły budowania określa się w pliku xml. Po zakończonym procesie możemy zainstalować naszą aplikację, korzystając przy tym np. z rozszerzenia PEA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2E96B5-D3C9-4A55-9C27-F6E4EEDBDF43}" type="slidenum">
              <a:rPr b="0" lang="pl-P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106640" y="812880"/>
            <a:ext cx="5344920" cy="4008240"/>
          </a:xfrm>
          <a:prstGeom prst="rect">
            <a:avLst/>
          </a:prstGeom>
          <a:ln w="0">
            <a:noFill/>
          </a:ln>
        </p:spPr>
      </p:sp>
      <p:sp>
        <p:nvSpPr>
          <p:cNvPr id="158"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Oprócz wcześniej wspomnianych mniejszych elementów jak biblioteki, przy tworzeniu nowej aplikacji, warto się zastanowić, czy jako podstawę do tworzenia, nie wykorzystać jakiegoś gotowego systemu, który jest udostępniany na otwartej licencji i rozwijany od wielu lat. Nasza część implementacji w tym momencie opiera się wtedy tylko na dopisaniu odpowiednich wtyczek, komponentów, bloków lub modułów, w zależności od wybranego systemu. Wśród systemów zarządzania treścią mamy ogromny wybór, polecić tu jednak można system Joomla, czy Drupal, które należą do najbardziej rozbudowanych. Jeśli chodzi o fora internetowe napisane w języku PHP, szczególną popularnością cieszy się phpBB, z dużym wyborem darmowych szat graficznych i dodatków. Wordpress jest bezkonkurencyjnym systemem, jeśli chodzi o blogi internetowe, choć swój rozwój kieruje w stronę systemu CMS, pewnie z uwagi na prostotę i wygodę zarządzania tym systemem. Jeśli chodzi o darmowe sklepy wykonane w technologii PHP, z racji ogromnej ilości pluginów, warto polecić prestashop. Jeśli chodzi o platformy e-learningowe nie ma za dużego wyboru, zgodność ze standardami i wysoki poziom funkcjonalności, zapewnia tylko system Moodl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B1F9ED-9FC6-4BE6-92AE-CCC735C081CB}" type="slidenum">
              <a:rPr b="0" lang="pl-P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106640" y="812880"/>
            <a:ext cx="5344920" cy="4008240"/>
          </a:xfrm>
          <a:prstGeom prst="rect">
            <a:avLst/>
          </a:prstGeom>
          <a:ln w="0">
            <a:noFill/>
          </a:ln>
        </p:spPr>
      </p:sp>
      <p:sp>
        <p:nvSpPr>
          <p:cNvPr id="16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Dla uczniów zaawansowanych można zaproponować napisanie własnego modułu/komponentu instalowanego w joomli.</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761CD9-F794-4903-9A5A-FB9E92C00746}" type="slidenum">
              <a:rPr b="0" lang="pl-P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106640" y="812880"/>
            <a:ext cx="5344920" cy="4008240"/>
          </a:xfrm>
          <a:prstGeom prst="rect">
            <a:avLst/>
          </a:prstGeom>
          <a:ln w="0">
            <a:noFill/>
          </a:ln>
        </p:spPr>
      </p:sp>
      <p:sp>
        <p:nvSpPr>
          <p:cNvPr id="16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od_firstmodul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65B364-AC37-43D5-B340-012CE70CCD74}" type="slidenum">
              <a:rPr b="0" lang="pl-P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106640" y="812880"/>
            <a:ext cx="5344920" cy="4008240"/>
          </a:xfrm>
          <a:prstGeom prst="rect">
            <a:avLst/>
          </a:prstGeom>
          <a:ln w="0">
            <a:noFill/>
          </a:ln>
        </p:spPr>
      </p:sp>
      <p:sp>
        <p:nvSpPr>
          <p:cNvPr id="16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ingleton2.php</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D8C8C6-3A16-43BD-8042-A7582209AAFA}" type="slidenum">
              <a:rPr b="0" lang="pl-P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106640" y="812880"/>
            <a:ext cx="5344920" cy="4008240"/>
          </a:xfrm>
          <a:prstGeom prst="rect">
            <a:avLst/>
          </a:prstGeom>
          <a:ln w="0">
            <a:noFill/>
          </a:ln>
        </p:spPr>
      </p:sp>
      <p:sp>
        <p:nvSpPr>
          <p:cNvPr id="17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02DD1C-B325-4684-84A9-7B233A693748}" type="slidenum">
              <a:rPr b="0" lang="pl-P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118" name="PlaceHolder 1"/>
          <p:cNvSpPr>
            <a:spLocks noGrp="1"/>
          </p:cNvSpPr>
          <p:nvPr>
            <p:ph type="sldImg"/>
          </p:nvPr>
        </p:nvSpPr>
        <p:spPr>
          <a:xfrm>
            <a:off x="1106640" y="812880"/>
            <a:ext cx="5344920" cy="4008240"/>
          </a:xfrm>
          <a:prstGeom prst="rect">
            <a:avLst/>
          </a:prstGeom>
          <a:ln w="0">
            <a:noFill/>
          </a:ln>
        </p:spPr>
      </p:sp>
      <p:sp>
        <p:nvSpPr>
          <p:cNvPr id="11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HP jest językiem, w którym łatwo rozwiązuje się większość problemów. Jego prostota niesie jednak ze sobą poważną konsekwencję, kod który zaimplementowaliśmy, a który wymaga zmian, jest niezrozumiały i wymaga przepisania od nowa, aby zawrzeć odpowiednie zmiany. Często też kod, który rozwiązuje podobny problem w innym projekcie, nie nadaje się do zastosowania. Należy zatem zadać sobie pytanie, czy powinniśmy po raz kolejny rozwiązywać ten sam problem, bądź też na nowo odkrywać koło, czyli pisać rzeczy, które mam w najlepszy i sprawdzony sposób zaimplementowane przez innych programistów.</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391847-51D5-4039-A0D1-FD95964418B4}" type="slidenum">
              <a:rPr b="0" lang="pl-P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121" name="PlaceHolder 1"/>
          <p:cNvSpPr>
            <a:spLocks noGrp="1"/>
          </p:cNvSpPr>
          <p:nvPr>
            <p:ph type="sldImg"/>
          </p:nvPr>
        </p:nvSpPr>
        <p:spPr>
          <a:xfrm>
            <a:off x="1106640" y="812880"/>
            <a:ext cx="5344920" cy="4008240"/>
          </a:xfrm>
          <a:prstGeom prst="rect">
            <a:avLst/>
          </a:prstGeom>
          <a:ln w="0">
            <a:noFill/>
          </a:ln>
        </p:spPr>
      </p:sp>
      <p:sp>
        <p:nvSpPr>
          <p:cNvPr id="12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EAR jest to system dystrybucji opensource’owych rozszerzeń języka PHP. Powstaje od roku 1999 i posiada wielką ilość zasobów, które ułatwiają nam pracę z językiem PHP. PECL to pierwotnie część PEAR, w przeciwieństwie do swojego rodzica, jest to repozytorium społeczności, a pakiety w nim zawarte, są pakietami nieoficjalnymi. Zanim napiszesz coś co już zostało napisane, zajrzyj do repozytorium, gdyż może to Ci pomóc zaoszczędzić mnóstwo czasu i dostarczyć źródło ze sprawdzonym rozwiązani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Używając wielu frameworków oraz dodatków, do zarządzania zależnościami w projekcie przydatny może okazać się Composer (https://getcomposer.org/).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omposer jest genialnym systemem wspomagającym zarządzanie zależnościami aplikacji w PHP. Wystarczy jeżeli wylistujesz swoje zależności w pliku composer.json, a narzędzie to, przy użyciu kilku prostych poleceń, automatycznie ściągnie odpowiednie wersje bibliotek i ich zależności oraz odpowiednio skonfiguruje autoloadera. Za pomocą Composera można zainstalować wiele znanych bibliotek. Ich listę znajdziesz na stronie projektu Packagist - oficjalnego repozytorium bibliotek kompatybilnych z tym system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B69FF6-C327-437D-8F14-FA3EA223709A}" type="slidenum">
              <a:rPr b="0" lang="pl-P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124" name="PlaceHolder 1"/>
          <p:cNvSpPr>
            <a:spLocks noGrp="1"/>
          </p:cNvSpPr>
          <p:nvPr>
            <p:ph type="sldImg"/>
          </p:nvPr>
        </p:nvSpPr>
        <p:spPr>
          <a:xfrm>
            <a:off x="1106640" y="812880"/>
            <a:ext cx="5344920" cy="4008240"/>
          </a:xfrm>
          <a:prstGeom prst="rect">
            <a:avLst/>
          </a:prstGeom>
          <a:ln w="0">
            <a:noFill/>
          </a:ln>
        </p:spPr>
      </p:sp>
      <p:sp>
        <p:nvSpPr>
          <p:cNvPr id="12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Implementując aplikację internetową wykonujemy szereg operacji, które związane są z jej szkieletem oraz często powtarzalnymi rzeczami, jak autoryzacja czy systemy formularzy. Z pomocą przychodzą nam gotowe szkielety aplikacji takie jak Zend Framework czy Symfony. Jeżeli piszemy aplikację, która jest większa niż formularz kontaktowy, warto użyć gotowych rozwiązań. Szkielety te posiadają architekturę MVC oraz całą masę gotowych bibliotek np. pośredniczących w komunikacji z bazą danych, związanych z cache’owaniem, czy chociażby obsługą plików pdf. Wersje 2 pierwszych frameworków, są zaimplementowane w pełni obiektowo i wykorzystują wiele wzorców poprawnego programowania, z których można czerpać świetne lekcje. Na ich stronach znajdziemy mnóstwo materiałów związanych z ich użyciem, video-tutoriale oraz wyczerpującą dokumentację np. ZF około 1300 stron formatu A4. Oprócz wyżej wymienionych frameworków, jest jeszcze wiele innych jak np. Yii, cakePHP, codeigniter czy fuel. Warto poświęcić trochę czasu na eksploracje internetu w poszukiwaniu tych zasobów, ponieważ można zaoszczędzić masę pracy oraz otrzymać sporo profesjonalnie napisanego kod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lim (http://www.slimframework.com/) jest natomiast przykładem frameworka, przy pomocy którego w szybki i prosty sposób będziemy mogli tworzyć własne API (np REST API dla aplikacji na Androidzie – Lekcja 1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BF3C79-F4A3-484F-89C2-8150576EF7AA}" type="slidenum">
              <a:rPr b="0" lang="pl-P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żeli nie czujesz się jeszcze na siłach, aby korzystać z wyrafinowanych narzędzi, ponieważ ich ogrom Cię przeraża lub piszesz tylko małe aplikacje dla których szkoda tracić zasoby i wydajność, możesz korzystać z frameworków jako bibliotek lub ze stricte bibliotek, których jest wiele np. TCPDF do obsługi plików pdf, czy biblioteki SMARTY do obsługi szablonów. Użytecznym narzędziem okazuje się również Composer, czyli program do zarządzania pakietami PH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6A496E-CD86-46E8-9CDA-A22C93649D56}" type="slidenum">
              <a:rPr b="0" lang="pl-P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130" name="PlaceHolder 1"/>
          <p:cNvSpPr>
            <a:spLocks noGrp="1"/>
          </p:cNvSpPr>
          <p:nvPr>
            <p:ph type="sldImg"/>
          </p:nvPr>
        </p:nvSpPr>
        <p:spPr>
          <a:xfrm>
            <a:off x="1106640" y="812880"/>
            <a:ext cx="5344920" cy="4008240"/>
          </a:xfrm>
          <a:prstGeom prst="rect">
            <a:avLst/>
          </a:prstGeom>
          <a:ln w="0">
            <a:noFill/>
          </a:ln>
        </p:spPr>
      </p:sp>
      <p:sp>
        <p:nvSpPr>
          <p:cNvPr id="13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HP w wersji 5, zapewnia pełną obsługę programowania obiektowego, czyli najpopularniejszego obecnie programowania. Kontynuacją drogi ku wydzieleniu abstrakcji w językach programowania jest programowanie aspektowe. Implementuje się je na razie w sposób obiektowy, gdyż PHP nie zapewnia jeszcze wbudowanej obsługi aspektów. Polega ono na wydzieleniu abstrakcyjnych czynności na poziomie rozumowania człowieka np. system logów, i uniezależnienie ich od klas. Grupowanie takie zapewnia nam lepsze możliwości projektowania i bardziej zrozumiałą implementację. Zobrazujmy nasz przykład, załóżmy że nasz zbiór klas przy wykonywaniu jakiś czynności, zapisuje te akcje w tzw. Logach. Czy nie łatwiej by było wyodrębnić ten mechanizm z klas i przenieść go do poziomu kontenera naszej aplikacji? Zyskujemy na tym wiele czasu, nie musząc implementować go za każdym razem. Poza tym wszelkie zmiany dokonujemy tylko raz. Co w przyszłości i przy częstych zmianach w aplikacji staje się uciążliw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A1132A-BAD2-43BC-A239-9DFDA9F94A6E}" type="slidenum">
              <a:rPr b="0" lang="pl-P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Kolejną ważną rzeczą, która ułatwia życie programiście są wzorce projektowe. Są to rozwiązania problemów projektowych, które stosowane w odpowiednich przypadkach, potrafią zaoszczędzić nam wiele czasu i stworzyć łatwe do dalszego rozwijania środowisko, czy też uniknąć wielu błędów.</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46ECD0-0021-4A33-8C3D-59F5F25FFB4A}" type="slidenum">
              <a:rPr b="0" lang="pl-P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106640" y="812880"/>
            <a:ext cx="5344920" cy="4008240"/>
          </a:xfrm>
          <a:prstGeom prst="rect">
            <a:avLst/>
          </a:prstGeom>
          <a:ln w="0">
            <a:noFill/>
          </a:ln>
        </p:spPr>
      </p:sp>
      <p:sp>
        <p:nvSpPr>
          <p:cNvPr id="137"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elem wzorca projektowego singleton jest wprowadzenie ograniczenia możliwości tworzenia obiektów danej klasy do tylko jednej instancji. Tak stworzony obiekt dostępny jest globalnie dla całej aplikacj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zorca singleton powinniśmy używać do implementacj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obiektów, przechowujących informacje o stanie aplikacji (np konfiguracj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obiektów które powinny istnieć przez cały czas trwania aplikacji (np logowanie zdarzeń z wielu miejsc w kodzie do jednego pliku Log)</a:t>
            </a:r>
            <a:endParaRPr b="0" lang="en-US" sz="1200" spc="-1" strike="noStrike">
              <a:solidFill>
                <a:srgbClr val="000000"/>
              </a:solidFill>
              <a:latin typeface="Times New Roman"/>
            </a:endParaRPr>
          </a:p>
          <a:p>
            <a:pPr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ykład znajduje się w materiałach ze skryptami PH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Zmiany w stosunku do skryptu nie używającego wzorca singlet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 konstruktor został zmieniony z publicznego na prywatny (to chroni przed tworzeniem obiektu bez wywołania metody getInstan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 zmienna $dbh zmieniona z publicznej na prywatna (chroni to przed nadpisaniem zmiennej $db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 tablica db_info zamieniona z publicznej na prywatną (z tego samego powodu co $db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Grafika pobrana ze strony: http://yavkata.co.uk/weblog/php/php-singleton-design-patter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Kolejnym bardzo popularnym wzorcem projektowym jest MVC (Model-Widok-Kontroler). Używając tego modelu, aplikacje zawierające interfejs użytkownika są zorganizowane w 3 struktu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odel – zawiera logikę aplikacj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idok – odpowiedzialny jest za wyświetlenie rezultatów modelu w interfejsie użytkownik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Kontroler - przyjmuje dane wejściowe od użytkownika i na ich podstawie dostarcza oraz pobiera dane z/do modelu oraz odświeża wido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114DFB-79B7-48BF-BD3D-9B59C6F889AB}" type="slidenum">
              <a:rPr b="0" lang="pl-P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śli chodzi o samo pisanie w języku PHP, w internecie możemy znaleźć wiele stron poświęconych dobrym praktykom programowania. Warto polecić „php the right way”, gdyż jest ona podstawą wielu publikacji na temat dobrych praktyk w języku PH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FEAFE-D371-42E3-A4AC-DD92198A2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946BE-60F7-4A7B-A2C9-9DC768F6A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D0EE5-B10B-4FC3-A05E-7C1EC766A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33813-6FC2-49B9-9147-2BD45EEEE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21F1B-3D05-45D2-8D85-99B7F9F0E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D5F3A-925A-48A3-B5D4-6688FB3BA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6B400-5348-4FF4-87DE-323C0EA7A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7B29A-62A4-430B-B338-BAB038337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26349-3490-4794-8AA3-12C388786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ECBE4-560D-41FC-8F46-13CB2DEBA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F0AC1-841E-4AE5-803F-372F2E6C4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806CF-5198-4C3A-A3D9-99D0B8453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9F8E54-6D0E-49E7-A250-A370E6EC7814}"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1440000" y="1044720"/>
            <a:ext cx="8135640" cy="4895640"/>
          </a:xfrm>
          <a:prstGeom prst="rect">
            <a:avLst/>
          </a:prstGeom>
          <a:noFill/>
          <a:ln w="0">
            <a:noFill/>
          </a:ln>
        </p:spPr>
        <p:style>
          <a:lnRef idx="0"/>
          <a:fillRef idx="0"/>
          <a:effectRef idx="0"/>
          <a:fontRef idx="minor"/>
        </p:style>
        <p:txBody>
          <a:bodyPr lIns="0" rIns="0" tIns="28080" bIns="0" anchor="ctr">
            <a:norm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PHP: Hypertext Preprocessor</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 poziom średnio zaawansowany</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Lekcja 10</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Dobre praktyki programowania w PHP</a:t>
            </a:r>
            <a:endParaRPr b="0" lang="en-US" sz="3200" spc="-1" strike="noStrike">
              <a:solidFill>
                <a:srgbClr val="000000"/>
              </a:solidFill>
              <a:latin typeface="Arial"/>
            </a:endParaRPr>
          </a:p>
        </p:txBody>
      </p:sp>
      <p:sp>
        <p:nvSpPr>
          <p:cNvPr id="49" name="Text Box 2"/>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rm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50" name="Obraz 3" descr="PO KL_z podpisem_kolor.jpg"/>
          <p:cNvPicPr/>
          <p:nvPr/>
        </p:nvPicPr>
        <p:blipFill>
          <a:blip r:embed="rId1"/>
          <a:stretch/>
        </p:blipFill>
        <p:spPr>
          <a:xfrm>
            <a:off x="2630520" y="4876920"/>
            <a:ext cx="5753160" cy="1085760"/>
          </a:xfrm>
          <a:prstGeom prst="rect">
            <a:avLst/>
          </a:prstGeom>
          <a:ln w="0">
            <a:noFill/>
          </a:ln>
        </p:spPr>
      </p:pic>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468440" y="1993680"/>
            <a:ext cx="8207280" cy="17859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Dokumentowanie kodu</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prowadzenie</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hpDocumentor</a:t>
            </a:r>
            <a:endParaRPr b="0" lang="en-US" sz="2800" spc="-1" strike="noStrike">
              <a:solidFill>
                <a:srgbClr val="000000"/>
              </a:solidFill>
              <a:latin typeface="Arial"/>
            </a:endParaRPr>
          </a:p>
        </p:txBody>
      </p:sp>
      <p:sp>
        <p:nvSpPr>
          <p:cNvPr id="8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rm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rm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84" name="Picture 5" descr=""/>
          <p:cNvPicPr/>
          <p:nvPr/>
        </p:nvPicPr>
        <p:blipFill>
          <a:blip r:embed="rId1"/>
          <a:stretch/>
        </p:blipFill>
        <p:spPr>
          <a:xfrm>
            <a:off x="1511280" y="4465800"/>
            <a:ext cx="8353440" cy="1371600"/>
          </a:xfrm>
          <a:prstGeom prst="rect">
            <a:avLst/>
          </a:prstGeom>
          <a:ln w="0">
            <a:noFill/>
          </a:ln>
        </p:spPr>
      </p:pic>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1468440" y="1993680"/>
            <a:ext cx="8207280" cy="31431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Kontrola wersji</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o to jest i do czego służy?</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SVN</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GIT</a:t>
            </a:r>
            <a:endParaRPr b="0" lang="en-US" sz="2800" spc="-1" strike="noStrike">
              <a:solidFill>
                <a:srgbClr val="000000"/>
              </a:solidFill>
              <a:latin typeface="Arial"/>
            </a:endParaRPr>
          </a:p>
        </p:txBody>
      </p:sp>
      <p:sp>
        <p:nvSpPr>
          <p:cNvPr id="8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rm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rm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511280" y="1692360"/>
            <a:ext cx="8207280" cy="5601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użycia SVN w Eclipse</a:t>
            </a:r>
            <a:endParaRPr b="0" lang="en-US" sz="3600" spc="-1" strike="noStrike">
              <a:solidFill>
                <a:srgbClr val="000000"/>
              </a:solidFill>
              <a:latin typeface="Arial"/>
            </a:endParaRPr>
          </a:p>
        </p:txBody>
      </p:sp>
      <p:sp>
        <p:nvSpPr>
          <p:cNvPr id="8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rm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rm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91" name="Picture 2" descr=""/>
          <p:cNvPicPr/>
          <p:nvPr/>
        </p:nvPicPr>
        <p:blipFill>
          <a:blip r:embed="rId1"/>
          <a:stretch/>
        </p:blipFill>
        <p:spPr>
          <a:xfrm>
            <a:off x="2031840" y="2238480"/>
            <a:ext cx="6602400" cy="4133880"/>
          </a:xfrm>
          <a:prstGeom prst="rect">
            <a:avLst/>
          </a:prstGeom>
          <a:ln w="0">
            <a:noFill/>
          </a:ln>
        </p:spPr>
      </p:pic>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468440" y="1994040"/>
            <a:ext cx="8207280" cy="40003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Testowanie aplikacji</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prowadzenie</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Testy jednostkowe</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hpUnit</a:t>
            </a:r>
            <a:endParaRPr b="0" lang="en-US" sz="2800" spc="-1" strike="noStrike">
              <a:solidFill>
                <a:srgbClr val="000000"/>
              </a:solidFill>
              <a:latin typeface="Arial"/>
            </a:endParaRPr>
          </a:p>
        </p:txBody>
      </p:sp>
      <p:sp>
        <p:nvSpPr>
          <p:cNvPr id="9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rm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rm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1468440" y="1993680"/>
            <a:ext cx="8207280" cy="25477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Automatyzacja instalacji</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prowadzenie</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hing</a:t>
            </a:r>
            <a:endParaRPr b="0" lang="en-US" sz="2800" spc="-1" strike="noStrike">
              <a:solidFill>
                <a:srgbClr val="000000"/>
              </a:solidFill>
              <a:latin typeface="Arial"/>
            </a:endParaRPr>
          </a:p>
        </p:txBody>
      </p:sp>
      <p:sp>
        <p:nvSpPr>
          <p:cNvPr id="9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rm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rm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1468440" y="1994040"/>
            <a:ext cx="8207280" cy="43574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Gotowe systemy</a:t>
            </a:r>
            <a:endParaRPr b="0" lang="en-US" sz="36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MS</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Fora</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Blogi</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Sklepy</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latformy e-learningowe</a:t>
            </a:r>
            <a:endParaRPr b="0" lang="en-US" sz="2800" spc="-1" strike="noStrike">
              <a:solidFill>
                <a:srgbClr val="000000"/>
              </a:solidFill>
              <a:latin typeface="Arial"/>
            </a:endParaRPr>
          </a:p>
        </p:txBody>
      </p:sp>
      <p:sp>
        <p:nvSpPr>
          <p:cNvPr id="9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rm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rm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1468440" y="1993680"/>
            <a:ext cx="8207280" cy="430668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Instalacja CMS – Joomla</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Zainstaluj system zarządzania treścią Joomla. </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Dokonaj zmian poprzez panel administracyjny. </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Zainstaluj dodatek. </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Znajdź,  pobierz i zainstaluj darmowy szablon zmieniający wygląd strony.</a:t>
            </a:r>
            <a:endParaRPr b="0" lang="en-US" sz="24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10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rm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rm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1468440" y="1993680"/>
            <a:ext cx="8207280" cy="430668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 praktyczne</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Napisz własny moduł dla CMSa Joomla. Moduł powinien być instalowalny poprzez panel administracyjny Joomla. Moduł może wyświetlać dowolny komunikat, celem zadania jest poznanie struktury modułów. </a:t>
            </a:r>
            <a:endParaRPr b="0" lang="en-US" sz="2800" spc="-1" strike="noStrike">
              <a:solidFill>
                <a:srgbClr val="000000"/>
              </a:solidFill>
              <a:latin typeface="Arial"/>
            </a:endParaRPr>
          </a:p>
        </p:txBody>
      </p:sp>
      <p:sp>
        <p:nvSpPr>
          <p:cNvPr id="10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rm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rm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468440" y="1993680"/>
            <a:ext cx="8207280" cy="430668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 praktyczne</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Uruchom i przeanalizuj przykład zawarty w pliku singleton2.php. Przykład ten zawiera implementację książki, która jest singletonem, oraz 2 użytkowników, którzy mogą wykonać na książce pewne operacje. Co stanie się gdy użytkownik 2 spróbuje wypożyczyć książkę, która była wypożyczona wcześniej przez użytkownika 2?</a:t>
            </a:r>
            <a:endParaRPr b="0" lang="en-US" sz="2800" spc="-1" strike="noStrike">
              <a:solidFill>
                <a:srgbClr val="000000"/>
              </a:solidFill>
              <a:latin typeface="Arial"/>
            </a:endParaRPr>
          </a:p>
        </p:txBody>
      </p:sp>
      <p:sp>
        <p:nvSpPr>
          <p:cNvPr id="10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rm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rm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79640" y="3384360"/>
            <a:ext cx="8207280" cy="50292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Dziękujemy za uwagę</a:t>
            </a:r>
            <a:endParaRPr b="0" lang="en-US" sz="3200" spc="-1" strike="noStrike">
              <a:solidFill>
                <a:srgbClr val="000000"/>
              </a:solidFill>
              <a:latin typeface="Arial"/>
            </a:endParaRPr>
          </a:p>
        </p:txBody>
      </p:sp>
      <p:sp>
        <p:nvSpPr>
          <p:cNvPr id="11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rm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rm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113" name="Obraz 4" descr="PO KL_z podpisem_kolor.jpg"/>
          <p:cNvPicPr/>
          <p:nvPr/>
        </p:nvPicPr>
        <p:blipFill>
          <a:blip r:embed="rId1"/>
          <a:stretch/>
        </p:blipFill>
        <p:spPr>
          <a:xfrm>
            <a:off x="2306520" y="4716360"/>
            <a:ext cx="5753160" cy="1086120"/>
          </a:xfrm>
          <a:prstGeom prst="rect">
            <a:avLst/>
          </a:prstGeom>
          <a:ln w="0">
            <a:noFill/>
          </a:ln>
        </p:spPr>
      </p:pic>
    </p:spTree>
  </p:cSld>
  <p:transition spd="med">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468440" y="1993680"/>
            <a:ext cx="8207280" cy="25477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Dobre praktyki programowania</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prowadzenie</a:t>
            </a:r>
            <a:endParaRPr b="0" lang="en-US" sz="2800" spc="-1" strike="noStrike">
              <a:solidFill>
                <a:srgbClr val="000000"/>
              </a:solidFill>
              <a:latin typeface="Arial"/>
            </a:endParaRPr>
          </a:p>
        </p:txBody>
      </p:sp>
      <p:sp>
        <p:nvSpPr>
          <p:cNvPr id="5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rm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rm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Rozszerzenia PHP</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EAR</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ECL</a:t>
            </a:r>
            <a:endParaRPr b="0" lang="en-US" sz="28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omposer</a:t>
            </a:r>
            <a:endParaRPr b="0" lang="en-US" sz="2800" spc="-1" strike="noStrike">
              <a:solidFill>
                <a:srgbClr val="000000"/>
              </a:solidFill>
              <a:latin typeface="Arial"/>
            </a:endParaRPr>
          </a:p>
        </p:txBody>
      </p:sp>
      <p:sp>
        <p:nvSpPr>
          <p:cNvPr id="5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rm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rm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57" name="Picture 5" descr=""/>
          <p:cNvPicPr/>
          <p:nvPr/>
        </p:nvPicPr>
        <p:blipFill>
          <a:blip r:embed="rId1"/>
          <a:stretch/>
        </p:blipFill>
        <p:spPr>
          <a:xfrm>
            <a:off x="4381560" y="3238560"/>
            <a:ext cx="1238040" cy="561960"/>
          </a:xfrm>
          <a:prstGeom prst="rect">
            <a:avLst/>
          </a:prstGeom>
          <a:ln w="0">
            <a:noFill/>
          </a:ln>
        </p:spPr>
      </p:pic>
      <p:pic>
        <p:nvPicPr>
          <p:cNvPr id="58" name="Picture 6" descr=""/>
          <p:cNvPicPr/>
          <p:nvPr/>
        </p:nvPicPr>
        <p:blipFill>
          <a:blip r:embed="rId2"/>
          <a:stretch/>
        </p:blipFill>
        <p:spPr>
          <a:xfrm>
            <a:off x="4381560" y="3924360"/>
            <a:ext cx="1238040" cy="581040"/>
          </a:xfrm>
          <a:prstGeom prst="rect">
            <a:avLst/>
          </a:prstGeom>
          <a:ln w="0">
            <a:noFill/>
          </a:ln>
        </p:spPr>
      </p:pic>
      <p:pic>
        <p:nvPicPr>
          <p:cNvPr id="59" name="Picture 8" descr="https://getcomposer.org/img/logo-composer-transparent.png"/>
          <p:cNvPicPr/>
          <p:nvPr/>
        </p:nvPicPr>
        <p:blipFill>
          <a:blip r:embed="rId3"/>
          <a:stretch/>
        </p:blipFill>
        <p:spPr>
          <a:xfrm>
            <a:off x="4535640" y="4629240"/>
            <a:ext cx="936360" cy="111132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1468440" y="1993680"/>
            <a:ext cx="8207280" cy="442908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Frameworki</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prowadzenie</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ZF</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Symfony</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Slim</a:t>
            </a:r>
            <a:endParaRPr b="0" lang="en-US" sz="2800" spc="-1" strike="noStrike">
              <a:solidFill>
                <a:srgbClr val="000000"/>
              </a:solidFill>
              <a:latin typeface="Arial"/>
            </a:endParaRPr>
          </a:p>
        </p:txBody>
      </p:sp>
      <p:sp>
        <p:nvSpPr>
          <p:cNvPr id="6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rm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rm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63" name="Picture 5" descr=""/>
          <p:cNvPicPr/>
          <p:nvPr/>
        </p:nvPicPr>
        <p:blipFill>
          <a:blip r:embed="rId1"/>
          <a:stretch/>
        </p:blipFill>
        <p:spPr>
          <a:xfrm>
            <a:off x="4680000" y="3843360"/>
            <a:ext cx="1819080" cy="523800"/>
          </a:xfrm>
          <a:prstGeom prst="rect">
            <a:avLst/>
          </a:prstGeom>
          <a:ln w="0">
            <a:noFill/>
          </a:ln>
        </p:spPr>
      </p:pic>
      <p:pic>
        <p:nvPicPr>
          <p:cNvPr id="64" name="Picture 6" descr=""/>
          <p:cNvPicPr/>
          <p:nvPr/>
        </p:nvPicPr>
        <p:blipFill>
          <a:blip r:embed="rId2"/>
          <a:stretch/>
        </p:blipFill>
        <p:spPr>
          <a:xfrm>
            <a:off x="4535640" y="4427640"/>
            <a:ext cx="2101680" cy="647640"/>
          </a:xfrm>
          <a:prstGeom prst="rect">
            <a:avLst/>
          </a:prstGeom>
          <a:ln w="0">
            <a:noFill/>
          </a:ln>
        </p:spPr>
      </p:pic>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468440" y="1994040"/>
            <a:ext cx="8207280" cy="43574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Biblioteki</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rzykłady</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omposer</a:t>
            </a:r>
            <a:endParaRPr b="0" lang="en-US" sz="2800" spc="-1" strike="noStrike">
              <a:solidFill>
                <a:srgbClr val="000000"/>
              </a:solidFill>
              <a:latin typeface="Arial"/>
            </a:endParaRPr>
          </a:p>
        </p:txBody>
      </p:sp>
      <p:sp>
        <p:nvSpPr>
          <p:cNvPr id="6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rm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rm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468440" y="1994040"/>
            <a:ext cx="8207280" cy="43574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ogramowanie obiektowe (OOP), a aspektowe (AOP)</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prowadzenie</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zy warto z niego korzystać?</a:t>
            </a:r>
            <a:endParaRPr b="0" lang="en-US" sz="2800" spc="-1" strike="noStrike">
              <a:solidFill>
                <a:srgbClr val="000000"/>
              </a:solidFill>
              <a:latin typeface="Arial"/>
            </a:endParaRPr>
          </a:p>
        </p:txBody>
      </p:sp>
      <p:sp>
        <p:nvSpPr>
          <p:cNvPr id="6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rm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rm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1468440" y="1993680"/>
            <a:ext cx="8207280" cy="442908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Wzorce projektowe</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prowadzenie</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Do czego służą?</a:t>
            </a:r>
            <a:endParaRPr b="0" lang="en-US" sz="2800" spc="-1" strike="noStrike">
              <a:solidFill>
                <a:srgbClr val="000000"/>
              </a:solidFill>
              <a:latin typeface="Arial"/>
            </a:endParaRPr>
          </a:p>
        </p:txBody>
      </p:sp>
      <p:sp>
        <p:nvSpPr>
          <p:cNvPr id="7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rm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rm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1468440" y="1993680"/>
            <a:ext cx="8207280" cy="18572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Wzorce projektowe ćwiczenie</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Analiza przykładu wzorca projektowego singleton lub MVC.</a:t>
            </a:r>
            <a:endParaRPr b="0" lang="en-US" sz="2400" spc="-1" strike="noStrike">
              <a:solidFill>
                <a:srgbClr val="000000"/>
              </a:solidFill>
              <a:latin typeface="Arial"/>
            </a:endParaRPr>
          </a:p>
        </p:txBody>
      </p:sp>
      <p:sp>
        <p:nvSpPr>
          <p:cNvPr id="7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rm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rm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77" name="Picture 2" descr=""/>
          <p:cNvPicPr/>
          <p:nvPr/>
        </p:nvPicPr>
        <p:blipFill>
          <a:blip r:embed="rId1"/>
          <a:stretch/>
        </p:blipFill>
        <p:spPr>
          <a:xfrm>
            <a:off x="2664000" y="3235320"/>
            <a:ext cx="5600520" cy="3137040"/>
          </a:xfrm>
          <a:prstGeom prst="rect">
            <a:avLst/>
          </a:prstGeom>
          <a:ln w="0">
            <a:noFill/>
          </a:ln>
        </p:spPr>
      </p:pic>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468440" y="1993680"/>
            <a:ext cx="8207280" cy="25477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Dobre praktyki samego programowania</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http://goo.gl/suWCFu</a:t>
            </a:r>
            <a:endParaRPr b="0" lang="en-US" sz="2800" spc="-1" strike="noStrike">
              <a:solidFill>
                <a:srgbClr val="000000"/>
              </a:solidFill>
              <a:latin typeface="Arial"/>
            </a:endParaRPr>
          </a:p>
        </p:txBody>
      </p:sp>
      <p:sp>
        <p:nvSpPr>
          <p:cNvPr id="7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rm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rm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09:29:28Z</dcterms:created>
  <dc:creator/>
  <dc:description/>
  <dc:language>en-US</dc:language>
  <cp:lastModifiedBy>Michał Galas</cp:lastModifiedBy>
  <dcterms:modified xsi:type="dcterms:W3CDTF">2014-10-23T06:32:41Z</dcterms:modified>
  <cp:revision>84</cp:revision>
  <dc:subject/>
  <dc:title>Slajd 1</dc:title>
</cp:coreProperties>
</file>