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1239B-9099-47EF-A734-9EAF8D88044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B5DC4-99AD-47E1-8FE4-5DF0E95B1E40}"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wstęp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92AA41-33DA-4A3E-AD7E-8CA1D5BB66B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sldImg"/>
          </p:nvPr>
        </p:nvSpPr>
        <p:spPr>
          <a:xfrm>
            <a:off x="1106640" y="812880"/>
            <a:ext cx="5344920" cy="4008240"/>
          </a:xfrm>
          <a:prstGeom prst="rect">
            <a:avLst/>
          </a:prstGeom>
          <a:ln w="0">
            <a:noFill/>
          </a:ln>
        </p:spPr>
      </p:sp>
      <p:sp>
        <p:nvSpPr>
          <p:cNvPr id="17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to rodzaj ataku, który sam w sobie jest nieszkodliwy, aczkolwiek może przynieść wiele korzyści osobie, która próbuje się włamać na naszą stronę. Polega on na znalezieniu informacji o umiejscowieniu naszej aplikacji na serwerze, jego ustawień lub innych ważnych informacji. Informacje te można znaleźć przy błędach aplikacji oraz w obiektach konfiguracyjnych. Zapobiegać im można na wiele sposobów np. w środowisku produkcyjnym wyłączamy wyświetlanie na ekran błędów aplikacji, piszemy własną obsługę błędów, debuggujemy aplikację, tworzymy loadery do zasobów takich jak pliki js, obrazki, arkusze styli oraz innych dokumentów, które nie wyświetlają ścieżek do zasobów i informacji o błędach w przypadku nie istnienia zasob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16B96-3531-4C4A-924F-77AA8AA0076E}"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sldImg"/>
          </p:nvPr>
        </p:nvSpPr>
        <p:spPr>
          <a:xfrm>
            <a:off x="1106640" y="812880"/>
            <a:ext cx="5344920" cy="4008240"/>
          </a:xfrm>
          <a:prstGeom prst="rect">
            <a:avLst/>
          </a:prstGeom>
          <a:ln w="0">
            <a:noFill/>
          </a:ln>
        </p:spPr>
      </p:sp>
      <p:sp>
        <p:nvSpPr>
          <p:cNvPr id="18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 na spreparowaniu adresu url, w celu wykonania operacji, bądź uzyskania informacji, do których atakująca osoba nie powinna mieć dostępu. Problem rozwiązuje odpowiednio zaimplementowany system autoryzacji lub odpowiednia architektura aplikacji np. MVC (z którego powinniśmy, korzystać w większości aplikacji). System autoryzacji powinien za każdym razem sprawdzać czy dana osoba, nie próbuje uzyskać dostępu do odpowiedniego miejsca. Aplikacja w architekturze MVC, załatwia tę sprawę tak, że wszystko jest sterowane za pomocą odpowiedniego kontrolera, który jest dostępny tylko dla zalogowanych użytkownikó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0DC746-DEB5-4A9A-AEEA-BDE4D8F08FD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sldImg"/>
          </p:nvPr>
        </p:nvSpPr>
        <p:spPr>
          <a:xfrm>
            <a:off x="1106640" y="812880"/>
            <a:ext cx="5344920" cy="4008240"/>
          </a:xfrm>
          <a:prstGeom prst="rect">
            <a:avLst/>
          </a:prstGeom>
          <a:ln w="0">
            <a:noFill/>
          </a:ln>
        </p:spPr>
      </p:sp>
      <p:sp>
        <p:nvSpPr>
          <p:cNvPr id="18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polega na zmianie nazwy pliku, w adresie do zasobu, który zwróciła aplikacja. Zapobiegać możemy jemu na wiele sposobów, poprzez np. tworzenia osobnego katalogu (ścieżki) dla zasobu, który udostępniamy lub za pomocą szyfrowania nazw pliku, co utrudni identyfikację nazw pozostałych plikó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DE58FC-79DB-4128-80E8-A965D7B2ECC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sldImg"/>
          </p:nvPr>
        </p:nvSpPr>
        <p:spPr>
          <a:xfrm>
            <a:off x="1106640" y="812880"/>
            <a:ext cx="5344920" cy="4008240"/>
          </a:xfrm>
          <a:prstGeom prst="rect">
            <a:avLst/>
          </a:prstGeom>
          <a:ln w="0">
            <a:noFill/>
          </a:ln>
        </p:spPr>
      </p:sp>
      <p:sp>
        <p:nvSpPr>
          <p:cNvPr id="18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polega na przesłaniu za pomocą formularza zakodowanego kodu, który w przypadku wykonania, w którymś momencie aplikacji, może wywołać niepożądane efekty. Bronić się przed nim można przede wszystkim, odpowiednim przetwarzaniem formularza, nigdy nie pobieramy czystych danych z formularza i operujemy na nich. Zawsze trzeba je w odpowiedni sposób przetworzyć. Używajmy również walidacji treści pól formularza oraz określonej dziedziny znaków, która jest dostępna w odpowiednim miejscu np. Przy imieniu i nazwisku, nie potrzebne są cyfry oraz znaki inne, niż znaki alfabet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A33845-52BF-4F46-BB31-2776979F19A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12880"/>
            <a:ext cx="5344920" cy="4008240"/>
          </a:xfrm>
          <a:prstGeom prst="rect">
            <a:avLst/>
          </a:prstGeom>
          <a:ln w="0">
            <a:noFill/>
          </a:ln>
        </p:spPr>
      </p:sp>
      <p:sp>
        <p:nvSpPr>
          <p:cNvPr id="19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olega na wstrzyknięcie kodu PHP do aplikacji, a następnie poprzez odpowiednią manipulacje aplikacją uruchomienie złośliwego kodu. W szczególności należy uważać przy uploadowaniu plików na serwer, zawsze trzeba walidować ich rozszerzenie oraz zawartość. Przy ich otwieraniu bezpośrednio w przeglądarce należy je przeformatować i odpowiednio wyświetlić np. jako tekst, aby przypadkiem ich nie wykonać.</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3B2E4-49CC-4235-921E-06AB4E4801F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12880"/>
            <a:ext cx="5344920" cy="4008240"/>
          </a:xfrm>
          <a:prstGeom prst="rect">
            <a:avLst/>
          </a:prstGeom>
          <a:ln w="0">
            <a:noFill/>
          </a:ln>
        </p:spPr>
      </p:sp>
      <p:sp>
        <p:nvSpPr>
          <p:cNvPr id="19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to jedna z najpopularniejszych metod ataku na serwisy internetowe, poprzez nieodpowiednie wyescapowanie treści z formularzy, bądź nieodpowiednie składanie poleceń sql. Istnieje możliwość przekazania do nich fragmentów zapytań jako parametrów, co może spowodować wykonanie nieodpowiednich akcji na bazie danych, jak np. zmianę hasła administratora, modyfikacja parametrów konfiguracyjnych lub też usunięcie ważnych danych. Jak już wcześniej wspomniano, nie należy wstawiać czystych danych z formularzy do kodu naszej aplikacji. Zalecane jest również używanie odpowiednich obiektów, bibliotek lub adapterów, jako warstwę do komunikacji z bazą danych np. PHP Database Object w skrócie PDO, który świetnie nadaje się do użycia jako warstwa do obsługi bazy danyc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6F2C4-8F2F-4CE3-BCCD-D283A220BBE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 name="PlaceHolder 1"/>
          <p:cNvSpPr>
            <a:spLocks noGrp="1"/>
          </p:cNvSpPr>
          <p:nvPr>
            <p:ph type="sldImg"/>
          </p:nvPr>
        </p:nvSpPr>
        <p:spPr>
          <a:xfrm>
            <a:off x="1106640" y="812880"/>
            <a:ext cx="5344920" cy="4008240"/>
          </a:xfrm>
          <a:prstGeom prst="rect">
            <a:avLst/>
          </a:prstGeom>
          <a:ln w="0">
            <a:noFill/>
          </a:ln>
        </p:spPr>
      </p:sp>
      <p:sp>
        <p:nvSpPr>
          <p:cNvPr id="19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rywnik – o co tutaj chodzi?</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Zabawna implementacja ataku SQL injection. Użytkownik samochodu znając strukturę bazy danych systemu radarowego, próbuje skasować całą zawartość tabeli „TABLICE”</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NSERT INTO Tablice (numer_rejestracji, mandat, kwota) VALUES (`?`, ?, ?)</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INSERT INTO Tablice (numer_rejestracji, mandat, kwota) VALUES (`ZU 0666’, 0, 0); DROP DATABASE TABLICE; --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75A54-5525-452F-ACFC-2FF8A1DFF71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sldImg"/>
          </p:nvPr>
        </p:nvSpPr>
        <p:spPr>
          <a:xfrm>
            <a:off x="1106640" y="812880"/>
            <a:ext cx="5344920" cy="4008240"/>
          </a:xfrm>
          <a:prstGeom prst="rect">
            <a:avLst/>
          </a:prstGeom>
          <a:ln w="0">
            <a:noFill/>
          </a:ln>
        </p:spPr>
      </p:sp>
      <p:sp>
        <p:nvSpPr>
          <p:cNvPr id="19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jący na umieszczeniu na stronie skryptu np. js, który będzie powodował niepożądane akcję przez użytkowników, np. wysyłanych ich dane logowania na inny serwer lub wykonywał inne złośliwe operacje. Stosuje się go głównie  w stronach, które pozwalają użytkownikom na generowanie treści. Osadzenie skryptu w stronie HTML-owej i jego wykonanie, można wyeliminować z poziomu aplikacji poprzez np. stworzenie własnego języku znaczników lub edytora graficznego do tworzenia treści, wyświetlanie treści generowanej z odpowiednim enkodowaniem lub wyszukiwaniem skryptów w zawartości treści generowanej przez użytkownika i jego wycinani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5A8C7-1BAA-49FF-897E-F73621A207E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12880"/>
            <a:ext cx="5344920" cy="4008240"/>
          </a:xfrm>
          <a:prstGeom prst="rect">
            <a:avLst/>
          </a:prstGeom>
          <a:ln w="0">
            <a:noFill/>
          </a:ln>
        </p:spPr>
      </p:sp>
      <p:sp>
        <p:nvSpPr>
          <p:cNvPr id="20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wykorzystuję metodę HTTP Trace, poprzez obiekty ActiveX lub Flash. Gromadzi otrzymane w odpowiedzi nagłówki HTTP w tym nagłówek autoryzacji, który zawiera zakodowane przeważnie w base64 ciasteczko z loginem i hasłem, po czym wykorzystuje je do tworzenia własnych zapytań HTTP. Obecnie najlepszym rozwiązaniem jest nie wykorzystywanie tych technologii na stronach www. Wszystko co można zrobić we flashu, można zrobić za pomocą javascriptu i mechanizmów HTML5. A jeżeli musimy używać flasha to należy zabezpieczyć proces ładowania oraz ładować go asynchroniczni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BC3453-4BA0-4F74-AEE2-15283E25D6D5}"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12880"/>
            <a:ext cx="5344920" cy="4008240"/>
          </a:xfrm>
          <a:prstGeom prst="rect">
            <a:avLst/>
          </a:prstGeom>
          <a:ln w="0">
            <a:noFill/>
          </a:ln>
        </p:spPr>
      </p:sp>
      <p:sp>
        <p:nvSpPr>
          <p:cNvPr id="20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olega na wysyłaniu żądań do serwera za pomocą osób trzecich, które są w nim autoryzowane. Osoba wykorzystuje uprawnienia osoby, pod którą się podszywa do wykonania akcji, wymagających zezwolenie tej osoby. Aby zapobiec tym atakom należy za każdym razem wylogować się z serwisu po zakończeniu korzystania z niego. Czas sesji serwera powinien być adekwatny do jej poufności. Żądania, które wymagają szczególnej ostrożności, jak np. przelewy, powinny wymagać dodatkowej autoryzacji np. via sms. Stosować dodatkowe ukryte dane przy autentykacji np. pseudolosową liczb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456F9-5B5F-45F2-B59A-4CE8603C9E6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Wykonajmy prosty formularz HTML oraz fragment kodu PHP wyświetlający wprowadzone dane na stroni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E9F778-AF63-41CF-8B13-EA5BFF9596B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sldImg"/>
          </p:nvPr>
        </p:nvSpPr>
        <p:spPr>
          <a:xfrm>
            <a:off x="1106640" y="812880"/>
            <a:ext cx="5344920" cy="4008240"/>
          </a:xfrm>
          <a:prstGeom prst="rect">
            <a:avLst/>
          </a:prstGeom>
          <a:ln w="0">
            <a:noFill/>
          </a:ln>
        </p:spPr>
      </p:sp>
      <p:sp>
        <p:nvSpPr>
          <p:cNvPr id="208"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ten polega na przechwyceniu zdarzenia kliknięcia użytkownika oraz wykonania innej akcji niż oczekiwana przez niego w celu uzyskania poufnych informacji lub wykonania odpowiedniej akcji, np. aktywacji mikrofonu, czy kamerki internetowej poprzez technologie flash. W dzisiejszych czasach wiele stron używa tzw. Likejacking’u, poprzez kliknięcia w obrazki lub inne komponenty strony, które w tajemniczy sposób lubimy, bądź udostępniamy stronę na facebooku. Zabezpieczyć się można poprzez wtyczki w przeglądarce lub odpowiednią jej konfigurację.</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33510A-4620-4443-B5A5-B05073E97F94}"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 name="PlaceHolder 1"/>
          <p:cNvSpPr>
            <a:spLocks noGrp="1"/>
          </p:cNvSpPr>
          <p:nvPr>
            <p:ph type="sldImg"/>
          </p:nvPr>
        </p:nvSpPr>
        <p:spPr>
          <a:xfrm>
            <a:off x="1106640" y="812880"/>
            <a:ext cx="5344920" cy="4008240"/>
          </a:xfrm>
          <a:prstGeom prst="rect">
            <a:avLst/>
          </a:prstGeom>
          <a:ln w="0">
            <a:noFill/>
          </a:ln>
        </p:spPr>
      </p:sp>
      <p:sp>
        <p:nvSpPr>
          <p:cNvPr id="211"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a polega na przechwyceniu sesji serwera danej ofiary. Możemy do tego celu użyć kodu javascript poprzez XSS, który zwróci nam ciasteczko z identyfikatorem sesji osoby zalogowanej do serwisu. Zabezpieczyć się można, korzystając z zapamiętywania adresu IP danej sesji, połączenia poprzez SSL lub enkrypcję danych przesyłanych w odpowiedziach i żądaniach. Można również zaimplementować własny mechanizm sesji, oparty np. o bazę dany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2FEEED-E768-4243-B99A-3FBF9CD124F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3" name="PlaceHolder 1"/>
          <p:cNvSpPr>
            <a:spLocks noGrp="1"/>
          </p:cNvSpPr>
          <p:nvPr>
            <p:ph type="sldImg"/>
          </p:nvPr>
        </p:nvSpPr>
        <p:spPr>
          <a:xfrm>
            <a:off x="1106640" y="812880"/>
            <a:ext cx="5344920" cy="4008240"/>
          </a:xfrm>
          <a:prstGeom prst="rect">
            <a:avLst/>
          </a:prstGeom>
          <a:ln w="0">
            <a:noFill/>
          </a:ln>
        </p:spPr>
      </p:sp>
      <p:sp>
        <p:nvSpPr>
          <p:cNvPr id="214"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ta jest metodą pochodną, poprzedniej. Po uzyskaniu identyfikatora sesji, należy znaleźć sposób na umieszczenie w odpowiednim miejscu identyfikatora sesji, czyli obejście wcześniej wspomnianych w poprzedniej metodzie zabezpieczeń, w sposób zależny od metody zabezpieczeni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0F683-5065-4B47-B859-F00CC1B8C74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1106640" y="812880"/>
            <a:ext cx="5344920" cy="4008240"/>
          </a:xfrm>
          <a:prstGeom prst="rect">
            <a:avLst/>
          </a:prstGeom>
          <a:ln w="0">
            <a:noFill/>
          </a:ln>
        </p:spPr>
      </p:sp>
      <p:sp>
        <p:nvSpPr>
          <p:cNvPr id="217"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 na podszycie się pod zaufaną osobę, instytucję lub firmę, w celu wyłudzenia poufnych danych np. loginu i hasła użytkownika. Osoba atakująca może np. podać się za firmę hostingową, po wcześniejszym sprawdzeniu dostawcy usług internetowych i poprzez odpowiedni schemat konwersacji, uzyskać odpowiednie dane. Popularność metoda ta zawdzięcza najsłynniejszemu hakerowi w historii informatyki Kevinowi Mitnickowi, który jak twierdzi łamał ludzi, a nie hasła. Metoda ta bazuje na socjotechnice, czyli metodzie manipulacji osobami w kontakcie bezpośrednim. Zabezpieczenie przed nią jest oczywiste, nigdy nie wolno podawać żadnych danych poufnych osobom z zewnątrz, gdyż nawet jak same firmy często zaznaczają, nikt z obsługi o takie dane prosić nie będzi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1F1F3-7428-49CE-ADF5-A5377CC5304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9" name="PlaceHolder 1"/>
          <p:cNvSpPr>
            <a:spLocks noGrp="1"/>
          </p:cNvSpPr>
          <p:nvPr>
            <p:ph type="sldImg"/>
          </p:nvPr>
        </p:nvSpPr>
        <p:spPr>
          <a:xfrm>
            <a:off x="1106640" y="812880"/>
            <a:ext cx="5344920" cy="4008240"/>
          </a:xfrm>
          <a:prstGeom prst="rect">
            <a:avLst/>
          </a:prstGeom>
          <a:ln w="0">
            <a:noFill/>
          </a:ln>
        </p:spPr>
      </p:sp>
      <p:sp>
        <p:nvSpPr>
          <p:cNvPr id="22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i DoS i DDoS, czyli odpowiednio Denial of Service i Disturbed Denial of Service, polegają na zablokowaniu serwera, zasypując go ogromną ilością żądań, najczęściej wykorzystuje się do tego odpowiednie oprogramowanie, np. boty lub oprogramowanie do testowania wydajności serwera. Serwer otrzymując ogromną liczbę żądań, nie jest w stanie przetwarzać kolejnych co powoduje wstrzymanie jego pracy lub po wyczerpaniu pamięci operacyjnej jego zawieszenie. Przerwa w pracy serwera w niektórych przypadkach, może spowodować ogromne straty finansowe. Nie ma skutecznej metody zapobiegania tej metodzie.</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rafika z www.cisco.co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37633-462A-4A14-BF88-B0CA70491ED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sldImg"/>
          </p:nvPr>
        </p:nvSpPr>
        <p:spPr>
          <a:xfrm>
            <a:off x="1106640" y="812880"/>
            <a:ext cx="5344920" cy="4008240"/>
          </a:xfrm>
          <a:prstGeom prst="rect">
            <a:avLst/>
          </a:prstGeom>
          <a:ln w="0">
            <a:noFill/>
          </a:ln>
        </p:spPr>
      </p:sp>
      <p:sp>
        <p:nvSpPr>
          <p:cNvPr id="22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wiele narzędzi służących do testowania aplikacji internetowych, jedne są bardziej skuteczne, drugie mniej. Należy pamiętać o tym, że testują one tylko te ataki, które są im znane. Nie są one jednak w stanie przetestować wszystkich luk w aplikacjach. Do tego celu najlepszy jest człowiek, który jest istotą kreatywną i jest w stanie znajdować luki nikomu wcześniej nie znane oraz często publikować wynik swoich badań w internecie np. na swoim blogu. Dlatego najlepszą metodą testów jest połączenie trzech czynników: programy analizujące wszystkie znane luki, wiedza ludzi, którzy szukają nowych dziur w technologiach, aplikacjach oraz architekturach, jak i własny wkład, gdyż jako programiści, znamy najlepiej swoje aplikacje i rozumiemy ich potencjalne słabe punkty.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C33A31-A91E-455E-8504-08A2F0A8B2BB}"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sldImg"/>
          </p:nvPr>
        </p:nvSpPr>
        <p:spPr>
          <a:xfrm>
            <a:off x="1106640" y="812880"/>
            <a:ext cx="5344920" cy="4008240"/>
          </a:xfrm>
          <a:prstGeom prst="rect">
            <a:avLst/>
          </a:prstGeom>
          <a:ln w="0">
            <a:noFill/>
          </a:ln>
        </p:spPr>
      </p:sp>
      <p:sp>
        <p:nvSpPr>
          <p:cNvPr id="22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otowe rozwiązania tego zadania znajdują się w plik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krypt.sql – skrypt tworzący tabelę w bazie dany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qlInjection.php – formularz HTML, połączenie do bazy danych, dodawanie adresu e-mail do bazy, wyświetlenie istniejących dany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ykłady ataku SLQ Injection – kasowanie tabeli, zmiana adresu dla istniejącego użytkowni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 prawidłowego przetestowania tego kodu w pliku php.ini trzeba wyłączyć zabezpieczenie poprzez wyłączenie flagi magic_quotes_gpc = Of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oszę upewnić się również, czy php posiada możliwość użycia php_mssql.dll potrzebnego do połączenia się z bazą danych (plik php.ini, linijka extension=php_mssql.dll powinna być odkomentowa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B0F47-1643-4647-89FF-71F5931C1BCD}"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1106640" y="812880"/>
            <a:ext cx="5344920" cy="4008240"/>
          </a:xfrm>
          <a:prstGeom prst="rect">
            <a:avLst/>
          </a:prstGeom>
          <a:ln w="0">
            <a:noFill/>
          </a:ln>
        </p:spPr>
      </p:sp>
      <p:sp>
        <p:nvSpPr>
          <p:cNvPr id="2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otowe rozwiązania tego zadania znajdują się w plik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brute.php – przy pomocy trudniejszej metody rekursji (funkcja wywołuje samą sieb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Brute1.php – przy pomocy łatwiejszej metody dla hasła 4 literowego</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29468-ABBF-43CF-B4DD-5F842169A7DC}"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1" name="PlaceHolder 1"/>
          <p:cNvSpPr>
            <a:spLocks noGrp="1"/>
          </p:cNvSpPr>
          <p:nvPr>
            <p:ph type="sldImg"/>
          </p:nvPr>
        </p:nvSpPr>
        <p:spPr>
          <a:xfrm>
            <a:off x="1106640" y="812880"/>
            <a:ext cx="5344920" cy="4008240"/>
          </a:xfrm>
          <a:prstGeom prst="rect">
            <a:avLst/>
          </a:prstGeom>
          <a:ln w="0">
            <a:noFill/>
          </a:ln>
        </p:spPr>
      </p:sp>
      <p:sp>
        <p:nvSpPr>
          <p:cNvPr id="23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otowe rozwiązania tego zadania znajdują się w plik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Do prawidłowego przetestowania tego kodu w pliku php.ini trzeba wyłączyć zabezpieczenie poprzez wyłączenie flagi magic_quotes_gpc = Of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4F8FA-F08B-4A69-8DC9-35FC412C04C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4" name="PlaceHolder 1"/>
          <p:cNvSpPr>
            <a:spLocks noGrp="1"/>
          </p:cNvSpPr>
          <p:nvPr>
            <p:ph type="sldImg"/>
          </p:nvPr>
        </p:nvSpPr>
        <p:spPr>
          <a:xfrm>
            <a:off x="1106640" y="812880"/>
            <a:ext cx="5344920" cy="4008240"/>
          </a:xfrm>
          <a:prstGeom prst="rect">
            <a:avLst/>
          </a:prstGeom>
          <a:ln w="0">
            <a:noFill/>
          </a:ln>
        </p:spPr>
      </p:sp>
      <p:sp>
        <p:nvSpPr>
          <p:cNvPr id="23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otowe rozwiązania tego zadania znajdują się w plik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curlLoop.ph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ktualnie skrypt wykonuje próbę pobrania zasobu w pętli 10 razy, można próbować manipulować tym parametrem aby bardziej dociążyć atakowany kompu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CF2D9-14B8-49CA-B026-CD97D5DE5536}"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by atak zadziałał w pliku php.ini magic_quotes_gpc musi być wyłączo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agic_quotes_gpc = Of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86A7B5-010C-4774-80DF-5B15C7D18AF2}"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sldImg"/>
          </p:nvPr>
        </p:nvSpPr>
        <p:spPr>
          <a:xfrm>
            <a:off x="1106640" y="812880"/>
            <a:ext cx="5344920" cy="4008240"/>
          </a:xfrm>
          <a:prstGeom prst="rect">
            <a:avLst/>
          </a:prstGeom>
          <a:ln w="0">
            <a:noFill/>
          </a:ln>
        </p:spPr>
      </p:sp>
      <p:sp>
        <p:nvSpPr>
          <p:cNvPr id="23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łowa na zakończeni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E406A9-91D9-40BD-9F72-173EF5466C47}"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Największą zaletą aplikacji internetowych jest ich powszechność i ogólnodostępność. Zaleta ta jednak może zamienić się w wadę, ponieważ, czym więcej osób ma do czegoś dostęp, tym większe ryzyko związane z atakami. Nowe technologie sieciowe, bądź te, które są jeszcze w fazie rozwoju (do których należy PHP), narażone są na luki we własnej implementacji, bądź ich niewłaściwe stosowanie. Jest wiele ataków na systemy komputerowe, jednak my zajmiemy się tylko częścią związaną z bezpośrednim dostępem do aplikacji, czyli atakami na portale internetowe. Podstawowymi typami ataków na portale są:</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rwanie – polega na przerwaniu świadczenia usług przez serwer danej aplikacji np. DoS lub DDo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odyfikacja – wprowadzenie zmian w aplikacji przez osoby nieupoważnione do wykonania takowych zmia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rzechwycenie – uzyskanie kontroli nad aplikacją, bądź jej częścią lub dostępu do obszarów/zasobów, do których nie powinny mieć dostępu osoby nieuprawnion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Podrobienie – wprowadzenie fałszywych danych do aplikacj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7C93B7-27EA-485D-96FE-755C54F543C9}"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Brute – force to najprostszy rodzaj ataku na systemy komputerowe, w tym portale internetowe. Polega na znalezieniu formularza dostępu do aplikacji, konta użytkownika, bądź bazy danych, często też znalezieniu loginu i wpisywaniu wszystkich możliwych kombinacji haseł. W wersji ulepszonej z racji tego, że dla lepszego zapamiętania hasła ludzie stosują naturalne ciągi znaków jak wyrazy, korzysta się z zewnętrznej bazy danych haseł lub słowników np. imion.</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est wiele metod zapobiegawczych tego typu atakom. Do najważniejszych zaliczamy w przypadku formularza logowania, który jest ogólnodostępny: losowe generatory haseł, określona z góry złożoność hasła, podpisywanie w aplikacji użytkownika inną nazwą, niż jego login (np. imieniem i nazwiskiem), blokowanie formularza dostępu po określonej ilości prób wpisania błędnego hasła (np. po trzech), systemy wymuszające zmianę hasła, co jakiś czas. W przypadku paneli administracyjnych oraz aplikacji do obsługi baz danych typu phpMyAdmin, oprócz wyżej wymienionych zabezpieczeń możemy głęboko ukryć link oraz przypisać określony adres ip dostępu do panelu, bądź zezwolić na dostęp tylko z hosta lokalnego, a nie z zewnątrz. Jest jeszcze wiele innych metod, na przykład autoryzacja innych adresów IP drogą mailową lub smsesową.</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135FF8-5443-4858-955A-5A9E8AD4B0B3}"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Konsola przedstawiająca próby łamania hasła metodą brute-force – sprawdzanie wielu kombinacji haseł.</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Screen ze strony http://www.virtualizationadmin.com/articles-tutorials/terminal-services/security/brute-force-hacking-terminal-server-environments.html</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1E750-6E57-434A-BAF5-BEB254A13BCF}"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Głębokie ukrycie to termin dotyczący bezpieczeństwa dokumentów na portalach internetowych. Umieszczamy dokument pod adresem, którego nie jest w stanie wpisać człowiek oraz nie indeksujemy go w wyszukiwarkach, w czym pomocny jest htmlowy rel=„nofollow” lub ustawienia pliku robots. Metoda ataku polega na znalezieniu niezabezpieczonej ścieżki i dotarciu do dokumentów. Prostym, a mocnym zabezpieczeniem jest użycie pliku .htaccess i zabronienie dostępu osobom z zewnątrz lub bez autoryzacji po http. Możemy również zabezpieczyć dostęp z poziomu systemu operacyjnego np. dla systemów uniksowych, zmieniamy właściciela katalogu na serwer apache, który ma wszystkie uprawnienia i zabieramy wszelkie uprawnienia innym użytkownik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E4C78-4507-4D77-A8BA-E516C82E8BF8}"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1" name="PlaceHolder 1"/>
          <p:cNvSpPr>
            <a:spLocks noGrp="1"/>
          </p:cNvSpPr>
          <p:nvPr>
            <p:ph type="sldImg"/>
          </p:nvPr>
        </p:nvSpPr>
        <p:spPr>
          <a:xfrm>
            <a:off x="1106640" y="812880"/>
            <a:ext cx="534492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Atak polega na blokowaniu kont w aplikacjach internetowych, dlatego używając wcześniej wymienionego zabezpieczenia, które blokuje dostęp do konta, warto zadbać o prostą i szybką możliwość odblokowania konta na przykład drogą mailową, bądź smsową, czy w przypadku banków i innych instytucji zaufania publicznego, telefoniczną lub za pomocą wydrukowanych wcześniej kodó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FA97D1-0A55-4DAB-9AF0-210DC6CFB4FA}"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sldImg"/>
          </p:nvPr>
        </p:nvSpPr>
        <p:spPr>
          <a:xfrm>
            <a:off x="1106640" y="812880"/>
            <a:ext cx="5344920" cy="4008240"/>
          </a:xfrm>
          <a:prstGeom prst="rect">
            <a:avLst/>
          </a:prstGeom>
          <a:ln w="0">
            <a:noFill/>
          </a:ln>
        </p:spPr>
      </p:sp>
      <p:sp>
        <p:nvSpPr>
          <p:cNvPr id="175"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Metoda polega na przekazywaniu metodą GET lub POST, parametrów które różnią się od tych dostępnych w aplikacji. Użytkownik, może mieć w ten sposób dostęp do funkcji lub danych, do których nie powinien go mieć. Warto więc zwrócić uwagę na to co przekazujemy ww. metodami oraz pomyśleć o szyfrowaniu parametrów, jak i ich walidowaniu. Warto też zwrócić uwagę na to w jaki sposób nasze strony komunikują się z poziomu JS -&gt; PHP, jeżeli wykorzystujemy metody AJAX-owe oraz czy nasza aplikacja, nie wypisuje bezpośrednio tego co podajemy jako parametry, w przeciwnym wypadku możemy przekazać fragment kodu PHP, poprzez parametr i narobić szkód na portal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7106C-A7D1-4125-B1D6-59FD71A86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2F961-6F9C-4664-9671-69D28793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90EE0-D970-4E65-9F8E-BD4347B07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160F2-B39B-4FEC-AF98-C1DEDF467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5576D-CB24-480F-9736-6DD62EA54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D96D-5E40-482B-91EE-17F7DA381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748E-E751-49FD-B578-243E3F790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4C45-B5E4-485D-B5AA-63566626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7902F-771F-4655-8BA1-05FE6062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8B64-928E-4622-8D15-522613CC4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E878-28CD-4880-A875-078F3D7A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1216-3843-4DD6-AF56-A0DEE7BB6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CEE32-310F-4079-A189-4B06382B2721}" type="slidenum">
              <a:rPr b="0" lang="pl-P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1440000" y="1044720"/>
            <a:ext cx="8135640" cy="48956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PHP: Hypertext Preprocessor</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 poziom średnio zaawansowany</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Lekcja 1</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Bezpieczeństwo aplikacji</a:t>
            </a:r>
            <a:endParaRPr b="0" lang="en-US" sz="3200" spc="-1" strike="noStrike">
              <a:solidFill>
                <a:srgbClr val="000000"/>
              </a:solidFill>
              <a:latin typeface="Arial"/>
            </a:endParaRPr>
          </a:p>
        </p:txBody>
      </p:sp>
      <p:sp>
        <p:nvSpPr>
          <p:cNvPr id="49" name="Text Box 2"/>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50" name="Obraz 3" descr="PO KL_z podpisem_kolor.jpg"/>
          <p:cNvPicPr/>
          <p:nvPr/>
        </p:nvPicPr>
        <p:blipFill>
          <a:blip r:embed="rId1"/>
          <a:stretch/>
        </p:blipFill>
        <p:spPr>
          <a:xfrm>
            <a:off x="2630520" y="5286240"/>
            <a:ext cx="5753160" cy="108612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ath i information disclosure</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róba uzyskania szczegółowych informacji o umiejscowieniu aplikacji, konfiguracji serwera itp.</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Forced brows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spreparowaniu adresu url, w celu wykonania operacji, bądź uzyskania informacji, do których atakująca osoba nie powinna mieć dostępu</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ath traversal</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zmianie nazwy pliku, w adresie do zasobu, który zwróciła aplikacja</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3"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4"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Unicode encoding</a:t>
            </a:r>
            <a:endParaRPr b="0" lang="en-US" sz="36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przesłaniu za pomocą formularza zakodowanego kodu, który w przypadku wykonania, w którymś momencie aplikacji, może wywołać niepożądane efekty</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8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HP injection</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a polega na wstrzyknięcie kodu PHP do aplikacji, a następnie poprzez odpowiednią manipulacje aplikacją uruchomienie złośliwego kodu</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QL injection</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wstrzyknięcie kodu zawierającego zapytanie SQL, które następnie wykona niepożądane działanie na bazie danych.</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1468440" y="1779120"/>
            <a:ext cx="8207280" cy="63180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QL injection</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9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9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97" name="Picture 2" descr=""/>
          <p:cNvPicPr/>
          <p:nvPr/>
        </p:nvPicPr>
        <p:blipFill>
          <a:blip r:embed="rId1"/>
          <a:stretch/>
        </p:blipFill>
        <p:spPr>
          <a:xfrm>
            <a:off x="2004840" y="3419640"/>
            <a:ext cx="6875640" cy="2143080"/>
          </a:xfrm>
          <a:prstGeom prst="rect">
            <a:avLst/>
          </a:prstGeom>
          <a:ln w="0">
            <a:noFill/>
          </a:ln>
        </p:spPr>
      </p:pic>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XSS – Cross Site Script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umieszczeniu na stronie skryptu np. js, który będzie powodował niepożądane akcje (np wysyłał dane logowania na inny serwer) </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9"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0"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XST – Cross Site Trac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Wykorzystuję metodę HTTP Trace, poprzez obiekty ActiveX lub Flash. Gromadzi otrzymane w odpowiedzi nagłówki HTTP w tym nagłówek autoryzacji, który zawiera zakodowane przeważnie w base64 ciasteczko z loginem i hasłem, po czym wykorzystuje je do tworzenia własnych zapytań HTTP.</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XSRF – Cross Site Request Forgery</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wysyłaniu żądań do serwera za pomocą osób trzecich, które są w nim autoryzowane.</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468440" y="1618920"/>
            <a:ext cx="8207280" cy="4660920"/>
          </a:xfrm>
          <a:prstGeom prst="rect">
            <a:avLst/>
          </a:prstGeom>
          <a:noFill/>
          <a:ln w="0">
            <a:noFill/>
          </a:ln>
        </p:spPr>
        <p:txBody>
          <a:bodyPr lIns="0" rIns="0" tIns="23040" bIns="0" anchor="t">
            <a:normAutofit fontScale="97000"/>
          </a:bodyPr>
          <a:p>
            <a:pPr marL="41868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owy atak</a:t>
            </a:r>
            <a:endParaRPr b="0" lang="en-US" sz="36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a65700"/>
                </a:solidFill>
                <a:latin typeface="Arial"/>
              </a:rPr>
              <a:t>&lt;</a:t>
            </a:r>
            <a:r>
              <a:rPr b="1" lang="pl-PL" sz="1800" spc="-1" strike="noStrike">
                <a:solidFill>
                  <a:srgbClr val="800000"/>
                </a:solidFill>
                <a:latin typeface="Arial"/>
              </a:rPr>
              <a:t>html</a:t>
            </a:r>
            <a:r>
              <a:rPr b="0" lang="pl-PL" sz="1800" spc="-1" strike="noStrike">
                <a:solidFill>
                  <a:srgbClr val="a65700"/>
                </a:solidFill>
                <a:latin typeface="Arial"/>
              </a:rPr>
              <a:t>&g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a65700"/>
                </a:solidFill>
                <a:latin typeface="Arial"/>
              </a:rPr>
              <a:t>&lt;</a:t>
            </a:r>
            <a:r>
              <a:rPr b="1" lang="pl-PL" sz="1800" spc="-1" strike="noStrike">
                <a:solidFill>
                  <a:srgbClr val="800000"/>
                </a:solidFill>
                <a:latin typeface="Arial"/>
              </a:rPr>
              <a:t>form</a:t>
            </a:r>
            <a:r>
              <a:rPr b="0" lang="pl-PL" sz="1800" spc="-1" strike="noStrike">
                <a:solidFill>
                  <a:srgbClr val="a65700"/>
                </a:solidFill>
                <a:latin typeface="Arial"/>
              </a:rPr>
              <a:t>&g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Imie: </a:t>
            </a:r>
            <a:r>
              <a:rPr b="0" lang="pl-PL" sz="1800" spc="-1" strike="noStrike">
                <a:solidFill>
                  <a:srgbClr val="a65700"/>
                </a:solidFill>
                <a:latin typeface="Arial"/>
              </a:rPr>
              <a:t>&lt;</a:t>
            </a:r>
            <a:r>
              <a:rPr b="1" lang="pl-PL" sz="1800" spc="-1" strike="noStrike">
                <a:solidFill>
                  <a:srgbClr val="800000"/>
                </a:solidFill>
                <a:latin typeface="Arial"/>
              </a:rPr>
              <a:t>input</a:t>
            </a:r>
            <a:r>
              <a:rPr b="0" lang="pl-PL" sz="1800" spc="-1" strike="noStrike">
                <a:solidFill>
                  <a:srgbClr val="274796"/>
                </a:solidFill>
                <a:latin typeface="Arial"/>
              </a:rPr>
              <a:t> </a:t>
            </a:r>
            <a:r>
              <a:rPr b="0" lang="pl-PL" sz="1800" spc="-1" strike="noStrike">
                <a:solidFill>
                  <a:srgbClr val="074726"/>
                </a:solidFill>
                <a:latin typeface="Arial"/>
              </a:rPr>
              <a:t>type</a:t>
            </a:r>
            <a:r>
              <a:rPr b="0" lang="pl-PL" sz="1800" spc="-1" strike="noStrike">
                <a:solidFill>
                  <a:srgbClr val="808030"/>
                </a:solidFill>
                <a:latin typeface="Arial"/>
              </a:rPr>
              <a:t>=</a:t>
            </a:r>
            <a:r>
              <a:rPr b="0" lang="pl-PL" sz="1800" spc="-1" strike="noStrike">
                <a:solidFill>
                  <a:srgbClr val="0000e6"/>
                </a:solidFill>
                <a:latin typeface="Arial"/>
              </a:rPr>
              <a:t>"text"</a:t>
            </a:r>
            <a:r>
              <a:rPr b="0" lang="pl-PL" sz="1800" spc="-1" strike="noStrike">
                <a:solidFill>
                  <a:srgbClr val="274796"/>
                </a:solidFill>
                <a:latin typeface="Arial"/>
              </a:rPr>
              <a:t> </a:t>
            </a:r>
            <a:r>
              <a:rPr b="0" lang="pl-PL" sz="1800" spc="-1" strike="noStrike">
                <a:solidFill>
                  <a:srgbClr val="074726"/>
                </a:solidFill>
                <a:latin typeface="Arial"/>
              </a:rPr>
              <a:t>name</a:t>
            </a:r>
            <a:r>
              <a:rPr b="0" lang="pl-PL" sz="1800" spc="-1" strike="noStrike">
                <a:solidFill>
                  <a:srgbClr val="808030"/>
                </a:solidFill>
                <a:latin typeface="Arial"/>
              </a:rPr>
              <a:t>=</a:t>
            </a:r>
            <a:r>
              <a:rPr b="0" lang="pl-PL" sz="1800" spc="-1" strike="noStrike">
                <a:solidFill>
                  <a:srgbClr val="0000e6"/>
                </a:solidFill>
                <a:latin typeface="Arial"/>
              </a:rPr>
              <a:t>"firstname"</a:t>
            </a:r>
            <a:r>
              <a:rPr b="0" lang="pl-PL" sz="1800" spc="-1" strike="noStrike">
                <a:solidFill>
                  <a:srgbClr val="a65700"/>
                </a:solidFill>
                <a:latin typeface="Arial"/>
              </a:rPr>
              <a:t>&gt;&lt;</a:t>
            </a:r>
            <a:r>
              <a:rPr b="1" lang="pl-PL" sz="1800" spc="-1" strike="noStrike">
                <a:solidFill>
                  <a:srgbClr val="800000"/>
                </a:solidFill>
                <a:latin typeface="Arial"/>
              </a:rPr>
              <a:t>br</a:t>
            </a:r>
            <a:r>
              <a:rPr b="0" lang="pl-PL" sz="1800" spc="-1" strike="noStrike">
                <a:solidFill>
                  <a:srgbClr val="a65700"/>
                </a:solidFill>
                <a:latin typeface="Arial"/>
              </a:rPr>
              <a:t>&g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Nazwisko: </a:t>
            </a:r>
            <a:r>
              <a:rPr b="0" lang="pl-PL" sz="1800" spc="-1" strike="noStrike">
                <a:solidFill>
                  <a:srgbClr val="a65700"/>
                </a:solidFill>
                <a:latin typeface="Arial"/>
              </a:rPr>
              <a:t>&lt;</a:t>
            </a:r>
            <a:r>
              <a:rPr b="1" lang="pl-PL" sz="1800" spc="-1" strike="noStrike">
                <a:solidFill>
                  <a:srgbClr val="800000"/>
                </a:solidFill>
                <a:latin typeface="Arial"/>
              </a:rPr>
              <a:t>input</a:t>
            </a:r>
            <a:r>
              <a:rPr b="0" lang="pl-PL" sz="1800" spc="-1" strike="noStrike">
                <a:solidFill>
                  <a:srgbClr val="274796"/>
                </a:solidFill>
                <a:latin typeface="Arial"/>
              </a:rPr>
              <a:t> </a:t>
            </a:r>
            <a:r>
              <a:rPr b="0" lang="pl-PL" sz="1800" spc="-1" strike="noStrike">
                <a:solidFill>
                  <a:srgbClr val="074726"/>
                </a:solidFill>
                <a:latin typeface="Arial"/>
              </a:rPr>
              <a:t>type</a:t>
            </a:r>
            <a:r>
              <a:rPr b="0" lang="pl-PL" sz="1800" spc="-1" strike="noStrike">
                <a:solidFill>
                  <a:srgbClr val="808030"/>
                </a:solidFill>
                <a:latin typeface="Arial"/>
              </a:rPr>
              <a:t>=</a:t>
            </a:r>
            <a:r>
              <a:rPr b="0" lang="pl-PL" sz="1800" spc="-1" strike="noStrike">
                <a:solidFill>
                  <a:srgbClr val="0000e6"/>
                </a:solidFill>
                <a:latin typeface="Arial"/>
              </a:rPr>
              <a:t>"text"</a:t>
            </a:r>
            <a:r>
              <a:rPr b="0" lang="pl-PL" sz="1800" spc="-1" strike="noStrike">
                <a:solidFill>
                  <a:srgbClr val="274796"/>
                </a:solidFill>
                <a:latin typeface="Arial"/>
              </a:rPr>
              <a:t> </a:t>
            </a:r>
            <a:r>
              <a:rPr b="0" lang="pl-PL" sz="1800" spc="-1" strike="noStrike">
                <a:solidFill>
                  <a:srgbClr val="074726"/>
                </a:solidFill>
                <a:latin typeface="Arial"/>
              </a:rPr>
              <a:t>name</a:t>
            </a:r>
            <a:r>
              <a:rPr b="0" lang="pl-PL" sz="1800" spc="-1" strike="noStrike">
                <a:solidFill>
                  <a:srgbClr val="808030"/>
                </a:solidFill>
                <a:latin typeface="Arial"/>
              </a:rPr>
              <a:t>=</a:t>
            </a:r>
            <a:r>
              <a:rPr b="0" lang="pl-PL" sz="1800" spc="-1" strike="noStrike">
                <a:solidFill>
                  <a:srgbClr val="0000e6"/>
                </a:solidFill>
                <a:latin typeface="Arial"/>
              </a:rPr>
              <a:t>"lastname"</a:t>
            </a:r>
            <a:r>
              <a:rPr b="0" lang="pl-PL" sz="1800" spc="-1" strike="noStrike">
                <a:solidFill>
                  <a:srgbClr val="a65700"/>
                </a:solidFill>
                <a:latin typeface="Arial"/>
              </a:rPr>
              <a:t>&g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a65700"/>
                </a:solidFill>
                <a:latin typeface="Arial"/>
              </a:rPr>
              <a:t>&lt;</a:t>
            </a:r>
            <a:r>
              <a:rPr b="1" lang="pl-PL" sz="1800" spc="-1" strike="noStrike">
                <a:solidFill>
                  <a:srgbClr val="800000"/>
                </a:solidFill>
                <a:latin typeface="Arial"/>
              </a:rPr>
              <a:t>input</a:t>
            </a:r>
            <a:r>
              <a:rPr b="0" lang="pl-PL" sz="1800" spc="-1" strike="noStrike">
                <a:solidFill>
                  <a:srgbClr val="274796"/>
                </a:solidFill>
                <a:latin typeface="Arial"/>
              </a:rPr>
              <a:t> </a:t>
            </a:r>
            <a:r>
              <a:rPr b="0" lang="pl-PL" sz="1800" spc="-1" strike="noStrike">
                <a:solidFill>
                  <a:srgbClr val="074726"/>
                </a:solidFill>
                <a:latin typeface="Arial"/>
              </a:rPr>
              <a:t>type</a:t>
            </a:r>
            <a:r>
              <a:rPr b="0" lang="pl-PL" sz="1800" spc="-1" strike="noStrike">
                <a:solidFill>
                  <a:srgbClr val="808030"/>
                </a:solidFill>
                <a:latin typeface="Arial"/>
              </a:rPr>
              <a:t>=</a:t>
            </a:r>
            <a:r>
              <a:rPr b="0" lang="pl-PL" sz="1800" spc="-1" strike="noStrike">
                <a:solidFill>
                  <a:srgbClr val="0000e6"/>
                </a:solidFill>
                <a:latin typeface="Arial"/>
              </a:rPr>
              <a:t>"submit"</a:t>
            </a:r>
            <a:r>
              <a:rPr b="0" lang="pl-PL" sz="1800" spc="-1" strike="noStrike">
                <a:solidFill>
                  <a:srgbClr val="274796"/>
                </a:solidFill>
                <a:latin typeface="Arial"/>
              </a:rPr>
              <a:t> </a:t>
            </a:r>
            <a:r>
              <a:rPr b="0" lang="pl-PL" sz="1800" spc="-1" strike="noStrike">
                <a:solidFill>
                  <a:srgbClr val="074726"/>
                </a:solidFill>
                <a:latin typeface="Arial"/>
              </a:rPr>
              <a:t>value</a:t>
            </a:r>
            <a:r>
              <a:rPr b="0" lang="pl-PL" sz="1800" spc="-1" strike="noStrike">
                <a:solidFill>
                  <a:srgbClr val="808030"/>
                </a:solidFill>
                <a:latin typeface="Arial"/>
              </a:rPr>
              <a:t>=</a:t>
            </a:r>
            <a:r>
              <a:rPr b="0" lang="pl-PL" sz="1800" spc="-1" strike="noStrike">
                <a:solidFill>
                  <a:srgbClr val="0000e6"/>
                </a:solidFill>
                <a:latin typeface="Arial"/>
              </a:rPr>
              <a:t>"Submit"</a:t>
            </a:r>
            <a:r>
              <a:rPr b="0" lang="pl-PL" sz="1800" spc="-1" strike="noStrike">
                <a:solidFill>
                  <a:srgbClr val="a65700"/>
                </a:solidFill>
                <a:latin typeface="Arial"/>
              </a:rPr>
              <a:t>&g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a65700"/>
                </a:solidFill>
                <a:latin typeface="Arial"/>
              </a:rPr>
              <a:t>&lt;/</a:t>
            </a:r>
            <a:r>
              <a:rPr b="1" lang="pl-PL" sz="1800" spc="-1" strike="noStrike">
                <a:solidFill>
                  <a:srgbClr val="800000"/>
                </a:solidFill>
                <a:latin typeface="Arial"/>
              </a:rPr>
              <a:t>form</a:t>
            </a:r>
            <a:r>
              <a:rPr b="0" lang="pl-PL" sz="1800" spc="-1" strike="noStrike">
                <a:solidFill>
                  <a:srgbClr val="a65700"/>
                </a:solidFill>
                <a:latin typeface="Arial"/>
              </a:rPr>
              <a:t>&g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a65700"/>
                </a:solidFill>
                <a:latin typeface="Arial"/>
              </a:rPr>
              <a:t>&lt;/</a:t>
            </a:r>
            <a:r>
              <a:rPr b="1" lang="pl-PL" sz="1800" spc="-1" strike="noStrike">
                <a:solidFill>
                  <a:srgbClr val="800000"/>
                </a:solidFill>
                <a:latin typeface="Arial"/>
              </a:rPr>
              <a:t>html</a:t>
            </a:r>
            <a:r>
              <a:rPr b="0" lang="pl-PL" sz="1800" spc="-1" strike="noStrike">
                <a:solidFill>
                  <a:srgbClr val="a65700"/>
                </a:solidFill>
                <a:latin typeface="Arial"/>
              </a:rPr>
              <a:t>&gt;</a:t>
            </a:r>
            <a:r>
              <a:rPr b="0" lang="pl-PL" sz="1800" spc="-1" strike="noStrike">
                <a:solidFill>
                  <a:srgbClr val="000000"/>
                </a:solidFill>
                <a:latin typeface="Arial"/>
              </a:rPr>
              <a:t> </a:t>
            </a:r>
            <a:br>
              <a:rPr sz="1800"/>
            </a:br>
            <a:r>
              <a:rPr b="0" lang="pl-PL" sz="1800" spc="-1" strike="noStrike">
                <a:solidFill>
                  <a:srgbClr val="5f5035"/>
                </a:solidFill>
                <a:latin typeface="Arial"/>
              </a:rPr>
              <a:t>&lt;?php</a:t>
            </a:r>
            <a:r>
              <a:rPr b="0" lang="pl-PL" sz="1800" spc="-1" strike="noStrike">
                <a:solidFill>
                  <a:srgbClr val="000000"/>
                </a:solidFill>
                <a:latin typeface="Arial"/>
              </a:rPr>
              <a:t> </a:t>
            </a:r>
            <a:br>
              <a:rPr sz="1800"/>
            </a:br>
            <a:r>
              <a:rPr b="0" lang="pl-PL" sz="1800" spc="-1" strike="noStrike">
                <a:solidFill>
                  <a:srgbClr val="000000"/>
                </a:solidFill>
                <a:latin typeface="Arial"/>
              </a:rPr>
              <a:t>if </a:t>
            </a:r>
            <a:r>
              <a:rPr b="0" lang="pl-PL" sz="1800" spc="-1" strike="noStrike">
                <a:solidFill>
                  <a:srgbClr val="808030"/>
                </a:solidFill>
                <a:latin typeface="Arial"/>
              </a:rPr>
              <a:t>(</a:t>
            </a:r>
            <a:r>
              <a:rPr b="1" lang="pl-PL" sz="1800" spc="-1" strike="noStrike">
                <a:solidFill>
                  <a:srgbClr val="800000"/>
                </a:solidFill>
                <a:latin typeface="Arial"/>
              </a:rPr>
              <a:t>isset</a:t>
            </a:r>
            <a:r>
              <a:rPr b="0" lang="pl-PL" sz="1800" spc="-1" strike="noStrike">
                <a:solidFill>
                  <a:srgbClr val="808030"/>
                </a:solidFill>
                <a:latin typeface="Arial"/>
              </a:rPr>
              <a:t>(</a:t>
            </a:r>
            <a:r>
              <a:rPr b="0" lang="pl-PL" sz="1800" spc="-1" strike="noStrike">
                <a:solidFill>
                  <a:srgbClr val="797997"/>
                </a:solidFill>
                <a:latin typeface="Arial"/>
              </a:rPr>
              <a:t>$_GET</a:t>
            </a:r>
            <a:r>
              <a:rPr b="0" lang="pl-PL" sz="1800" spc="-1" strike="noStrike">
                <a:solidFill>
                  <a:srgbClr val="808030"/>
                </a:solidFill>
                <a:latin typeface="Arial"/>
              </a:rPr>
              <a:t>[</a:t>
            </a:r>
            <a:r>
              <a:rPr b="0" lang="pl-PL" sz="1800" spc="-1" strike="noStrike">
                <a:solidFill>
                  <a:srgbClr val="0000e6"/>
                </a:solidFill>
                <a:latin typeface="Arial"/>
              </a:rPr>
              <a:t>'firstname'</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800080"/>
                </a:solidFill>
                <a:latin typeface="Arial"/>
              </a:rPr>
              <a:t>{</a:t>
            </a:r>
            <a:br>
              <a:rPr sz="1800"/>
            </a:br>
            <a:r>
              <a:rPr b="0" lang="pl-PL" sz="1800" spc="-1" strike="noStrike">
                <a:solidFill>
                  <a:srgbClr val="000000"/>
                </a:solidFill>
                <a:latin typeface="Arial"/>
              </a:rPr>
              <a:t>    echo </a:t>
            </a:r>
            <a:r>
              <a:rPr b="0" lang="pl-PL" sz="1800" spc="-1" strike="noStrike">
                <a:solidFill>
                  <a:srgbClr val="0000e6"/>
                </a:solidFill>
                <a:latin typeface="Arial"/>
              </a:rPr>
              <a:t>"Imie: "</a:t>
            </a:r>
            <a:r>
              <a:rPr b="0" lang="pl-PL" sz="1800" spc="-1" strike="noStrike">
                <a:solidFill>
                  <a:srgbClr val="000000"/>
                </a:solidFill>
                <a:latin typeface="Arial"/>
              </a:rPr>
              <a:t> </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797997"/>
                </a:solidFill>
                <a:latin typeface="Arial"/>
              </a:rPr>
              <a:t>$_GET</a:t>
            </a:r>
            <a:r>
              <a:rPr b="0" lang="pl-PL" sz="1800" spc="-1" strike="noStrike">
                <a:solidFill>
                  <a:srgbClr val="808030"/>
                </a:solidFill>
                <a:latin typeface="Arial"/>
              </a:rPr>
              <a:t>[</a:t>
            </a:r>
            <a:r>
              <a:rPr b="0" lang="pl-PL" sz="1800" spc="-1" strike="noStrike">
                <a:solidFill>
                  <a:srgbClr val="0000e6"/>
                </a:solidFill>
                <a:latin typeface="Arial"/>
              </a:rPr>
              <a:t>'firstname'</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0000e6"/>
                </a:solidFill>
                <a:latin typeface="Arial"/>
              </a:rPr>
              <a:t>"&lt;br&gt;"</a:t>
            </a:r>
            <a:r>
              <a:rPr b="0" lang="pl-PL" sz="1800" spc="-1" strike="noStrike">
                <a:solidFill>
                  <a:srgbClr val="800080"/>
                </a:solidFill>
                <a:latin typeface="Arial"/>
              </a:rPr>
              <a:t>;</a:t>
            </a:r>
            <a:br>
              <a:rPr sz="1800"/>
            </a:br>
            <a:r>
              <a:rPr b="0" lang="pl-PL" sz="1800" spc="-1" strike="noStrike">
                <a:solidFill>
                  <a:srgbClr val="000000"/>
                </a:solidFill>
                <a:latin typeface="Arial"/>
              </a:rPr>
              <a:t>    echo </a:t>
            </a:r>
            <a:r>
              <a:rPr b="0" lang="pl-PL" sz="1800" spc="-1" strike="noStrike">
                <a:solidFill>
                  <a:srgbClr val="0000e6"/>
                </a:solidFill>
                <a:latin typeface="Arial"/>
              </a:rPr>
              <a:t>"Nazwisko: "</a:t>
            </a:r>
            <a:r>
              <a:rPr b="0" lang="pl-PL" sz="1800" spc="-1" strike="noStrike">
                <a:solidFill>
                  <a:srgbClr val="000000"/>
                </a:solidFill>
                <a:latin typeface="Arial"/>
              </a:rPr>
              <a:t> </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797997"/>
                </a:solidFill>
                <a:latin typeface="Arial"/>
              </a:rPr>
              <a:t>$_GET</a:t>
            </a:r>
            <a:r>
              <a:rPr b="0" lang="pl-PL" sz="1800" spc="-1" strike="noStrike">
                <a:solidFill>
                  <a:srgbClr val="808030"/>
                </a:solidFill>
                <a:latin typeface="Arial"/>
              </a:rPr>
              <a:t>[</a:t>
            </a:r>
            <a:r>
              <a:rPr b="0" lang="pl-PL" sz="1800" spc="-1" strike="noStrike">
                <a:solidFill>
                  <a:srgbClr val="0000e6"/>
                </a:solidFill>
                <a:latin typeface="Arial"/>
              </a:rPr>
              <a:t>'lastname'</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808030"/>
                </a:solidFill>
                <a:latin typeface="Arial"/>
              </a:rPr>
              <a:t>.</a:t>
            </a:r>
            <a:r>
              <a:rPr b="0" lang="pl-PL" sz="1800" spc="-1" strike="noStrike">
                <a:solidFill>
                  <a:srgbClr val="000000"/>
                </a:solidFill>
                <a:latin typeface="Arial"/>
              </a:rPr>
              <a:t> </a:t>
            </a:r>
            <a:r>
              <a:rPr b="0" lang="pl-PL" sz="1800" spc="-1" strike="noStrike">
                <a:solidFill>
                  <a:srgbClr val="0000e6"/>
                </a:solidFill>
                <a:latin typeface="Arial"/>
              </a:rPr>
              <a:t>"&lt;br&gt;"</a:t>
            </a:r>
            <a:r>
              <a:rPr b="0" lang="pl-PL" sz="1800" spc="-1" strike="noStrike">
                <a:solidFill>
                  <a:srgbClr val="800080"/>
                </a:solidFill>
                <a:latin typeface="Arial"/>
              </a:rPr>
              <a:t>;</a:t>
            </a:r>
            <a:r>
              <a:rPr b="0" lang="pl-PL" sz="1800" spc="-1" strike="noStrike">
                <a:solidFill>
                  <a:srgbClr val="000000"/>
                </a:solidFill>
                <a:latin typeface="Arial"/>
              </a:rPr>
              <a:t> </a:t>
            </a:r>
            <a:br>
              <a:rPr sz="1800"/>
            </a:br>
            <a:r>
              <a:rPr b="0" lang="pl-PL" sz="1800" spc="-1" strike="noStrike">
                <a:solidFill>
                  <a:srgbClr val="800080"/>
                </a:solidFill>
                <a:latin typeface="Arial"/>
              </a:rPr>
              <a:t>}</a:t>
            </a:r>
            <a:r>
              <a:rPr b="0" lang="pl-PL" sz="1800" spc="-1" strike="noStrike">
                <a:solidFill>
                  <a:srgbClr val="000000"/>
                </a:solidFill>
                <a:latin typeface="Arial"/>
              </a:rPr>
              <a:t> </a:t>
            </a:r>
            <a:endParaRPr b="0" lang="en-US" sz="1800" spc="-1" strike="noStrike">
              <a:solidFill>
                <a:srgbClr val="000000"/>
              </a:solidFill>
              <a:latin typeface="Arial"/>
            </a:endParaRPr>
          </a:p>
          <a:p>
            <a:pPr marL="418680" indent="0">
              <a:lnSpc>
                <a:spcPct val="11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800" spc="-1" strike="noStrike">
                <a:solidFill>
                  <a:srgbClr val="5f5035"/>
                </a:solidFill>
                <a:latin typeface="Arial"/>
              </a:rPr>
              <a:t>?&gt;</a:t>
            </a:r>
            <a:endParaRPr b="0" lang="en-US" sz="1800" spc="-1" strike="noStrike">
              <a:solidFill>
                <a:srgbClr val="000000"/>
              </a:solidFill>
              <a:latin typeface="Arial"/>
            </a:endParaRPr>
          </a:p>
        </p:txBody>
      </p:sp>
      <p:sp>
        <p:nvSpPr>
          <p:cNvPr id="5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Click jack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przechwyceniu zdarzenia kliknięcia użytkownika oraz wykonania innej akcji niż oczekiwana przez niego w celu uzyskania poufnych informacji lub wykonania odpowiedniej akcji.</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0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ession hijacking</a:t>
            </a:r>
            <a:endParaRPr b="0" lang="en-US" sz="36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przechwyceniu sesji serwera danej ofiary.</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Session fixation</a:t>
            </a:r>
            <a:endParaRPr b="0" lang="en-US" sz="36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wykorzystaniu identyfikatora sesji, uzyskanego np przy pomocy ataku session hijacking i użycie go poprzez wstawienie w odpowiednie miejsce (np adres URL czy parametr POST)</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468080" y="1779480"/>
            <a:ext cx="5605560" cy="1712880"/>
          </a:xfrm>
          <a:prstGeom prst="rect">
            <a:avLst/>
          </a:prstGeom>
          <a:noFill/>
          <a:ln w="0">
            <a:noFill/>
          </a:ln>
        </p:spPr>
        <p:txBody>
          <a:bodyPr lIns="0" rIns="0" tIns="23040" bIns="0" anchor="t">
            <a:normAutofit fontScale="74000"/>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Phishing</a:t>
            </a:r>
            <a:endParaRPr b="0" lang="en-US" sz="36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olega na podszycie się pod zaufaną osobę, instytucję lub firmę, w celu wyłudzenia poufnych danych np. loginu i hasła użytkownika.</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1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19" name="Picture 6" descr=""/>
          <p:cNvPicPr/>
          <p:nvPr/>
        </p:nvPicPr>
        <p:blipFill>
          <a:blip r:embed="rId1"/>
          <a:stretch/>
        </p:blipFill>
        <p:spPr>
          <a:xfrm>
            <a:off x="7074000" y="2050920"/>
            <a:ext cx="2619360" cy="3745080"/>
          </a:xfrm>
          <a:prstGeom prst="rect">
            <a:avLst/>
          </a:prstGeom>
          <a:ln w="0">
            <a:noFill/>
          </a:ln>
        </p:spPr>
      </p:pic>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468080" y="1779120"/>
            <a:ext cx="7893000" cy="77652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Ataki DoS i DDoS</a:t>
            </a:r>
            <a:endParaRPr b="0" lang="en-US" sz="36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12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23" name="Picture 5" descr=""/>
          <p:cNvPicPr/>
          <p:nvPr/>
        </p:nvPicPr>
        <p:blipFill>
          <a:blip r:embed="rId1"/>
          <a:stretch/>
        </p:blipFill>
        <p:spPr>
          <a:xfrm>
            <a:off x="5400720" y="2343240"/>
            <a:ext cx="4464000" cy="3308400"/>
          </a:xfrm>
          <a:prstGeom prst="rect">
            <a:avLst/>
          </a:prstGeom>
          <a:ln w="0">
            <a:noFill/>
          </a:ln>
        </p:spPr>
      </p:pic>
      <p:sp>
        <p:nvSpPr>
          <p:cNvPr id="124" name="TextBox 1"/>
          <p:cNvSpPr/>
          <p:nvPr/>
        </p:nvSpPr>
        <p:spPr>
          <a:xfrm>
            <a:off x="7780320" y="5651640"/>
            <a:ext cx="1748880" cy="2635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Arial"/>
              </a:rPr>
              <a:t>Źródło: www.cisco.com</a:t>
            </a:r>
            <a:endParaRPr b="0" lang="en-US" sz="1200" spc="-1" strike="noStrike">
              <a:solidFill>
                <a:srgbClr val="000000"/>
              </a:solidFill>
              <a:latin typeface="Arial"/>
            </a:endParaRPr>
          </a:p>
        </p:txBody>
      </p:sp>
      <p:sp>
        <p:nvSpPr>
          <p:cNvPr id="125" name="TextBox 1"/>
          <p:cNvSpPr/>
          <p:nvPr/>
        </p:nvSpPr>
        <p:spPr>
          <a:xfrm>
            <a:off x="1440000" y="2343240"/>
            <a:ext cx="4248000" cy="3671640"/>
          </a:xfrm>
          <a:prstGeom prst="rect">
            <a:avLst/>
          </a:prstGeom>
          <a:noFill/>
          <a:ln w="0">
            <a:noFill/>
          </a:ln>
        </p:spPr>
        <p:style>
          <a:lnRef idx="0"/>
          <a:fillRef idx="0"/>
          <a:effectRef idx="0"/>
          <a:fontRef idx="minor"/>
        </p:style>
        <p:txBody>
          <a:bodyPr lIns="90000" rIns="90000" tIns="46800" bIns="46800" anchor="t">
            <a:sp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polegają na zablokowaniu serwera, zasypując go ogromną ilością żądań, najczęściej wykorzystuje się do tego odpowiednie oprogramowanie, np. boty lub oprogramowanie do testowania wydajności serwera.</a:t>
            </a:r>
            <a:endParaRPr b="0" lang="en-US" sz="24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400" spc="-1" strike="noStrike">
                <a:solidFill>
                  <a:srgbClr val="000000"/>
                </a:solidFill>
                <a:latin typeface="Arial"/>
              </a:rPr>
              <a:t>Metody zapobiegawcze</a:t>
            </a:r>
            <a:endParaRPr b="0" lang="en-US" sz="2400" spc="-1" strike="noStrike">
              <a:solidFill>
                <a:srgbClr val="000000"/>
              </a:solidFill>
              <a:latin typeface="Arial"/>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440000" y="1619280"/>
            <a:ext cx="8207280" cy="464328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Testowanie zagrożeń</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600" spc="-1" strike="noStrike">
                <a:solidFill>
                  <a:srgbClr val="000000"/>
                </a:solidFill>
                <a:latin typeface="Arial"/>
              </a:rPr>
              <a:t>Jak testować bezpieczeństwo swojego portalu?</a:t>
            </a:r>
            <a:endParaRPr b="0" lang="en-US" sz="2600" spc="-1" strike="noStrike">
              <a:solidFill>
                <a:srgbClr val="000000"/>
              </a:solidFill>
              <a:latin typeface="Arial"/>
            </a:endParaRPr>
          </a:p>
          <a:p>
            <a:pPr lvl="2" marL="565200" indent="-457200">
              <a:lnSpc>
                <a:spcPct val="93000"/>
              </a:lnSpc>
              <a:spcAft>
                <a:spcPts val="1412"/>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600" spc="-1" strike="noStrike">
                <a:solidFill>
                  <a:srgbClr val="000000"/>
                </a:solidFill>
                <a:latin typeface="Arial"/>
              </a:rPr>
              <a:t>Stosując metody automatyczne, np. programy analizujące znane luki (Burp site, WebScarab, w3af, Nikto Web Scanner)</a:t>
            </a:r>
            <a:endParaRPr b="0" lang="en-US" sz="2600" spc="-1" strike="noStrike">
              <a:solidFill>
                <a:srgbClr val="000000"/>
              </a:solidFill>
              <a:latin typeface="Arial"/>
            </a:endParaRPr>
          </a:p>
          <a:p>
            <a:pPr lvl="2" marL="565200" indent="-457200">
              <a:lnSpc>
                <a:spcPct val="93000"/>
              </a:lnSpc>
              <a:spcAft>
                <a:spcPts val="1412"/>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600" spc="-1" strike="noStrike">
                <a:solidFill>
                  <a:srgbClr val="000000"/>
                </a:solidFill>
                <a:latin typeface="Arial"/>
              </a:rPr>
              <a:t>Próbując dokonać ataku samodzielnie, znając własny kod łatwiej jest przeprowadzić atak</a:t>
            </a:r>
            <a:endParaRPr b="0" lang="en-US" sz="2600" spc="-1" strike="noStrike">
              <a:solidFill>
                <a:srgbClr val="000000"/>
              </a:solidFill>
              <a:latin typeface="Arial"/>
            </a:endParaRPr>
          </a:p>
          <a:p>
            <a:pPr lvl="2" marL="565200" indent="-457200">
              <a:lnSpc>
                <a:spcPct val="93000"/>
              </a:lnSpc>
              <a:spcAft>
                <a:spcPts val="1412"/>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600" spc="-1" strike="noStrike">
                <a:solidFill>
                  <a:srgbClr val="000000"/>
                </a:solidFill>
                <a:latin typeface="Arial"/>
              </a:rPr>
              <a:t>Śledząc nowości dotyczące znalezienia nowych luk przez społeczność zajmującą się bezpieczeństwem</a:t>
            </a:r>
            <a:endParaRPr b="0" lang="en-US" sz="2600" spc="-1" strike="noStrike">
              <a:solidFill>
                <a:srgbClr val="000000"/>
              </a:solidFill>
              <a:latin typeface="Arial"/>
            </a:endParaRPr>
          </a:p>
          <a:p>
            <a:pPr lvl="2" marL="565200" indent="0">
              <a:lnSpc>
                <a:spcPct val="93000"/>
              </a:lnSpc>
              <a:spcAft>
                <a:spcPts val="1412"/>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7"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28"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24000" y="169236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30"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1"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32" name="TextBox 1"/>
          <p:cNvSpPr/>
          <p:nvPr/>
        </p:nvSpPr>
        <p:spPr>
          <a:xfrm>
            <a:off x="1511280" y="2340000"/>
            <a:ext cx="8209080" cy="3407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Proszę wykonać formularz HTML zawierający pole z adresem e-mail oraz tabelę w bazie danych z kluczem głównym „id” (autoincrement int) oraz polem „adres”. Następnie przygotuj skrypt PHP, który będzie wyświetlał zawartość stworzonej tabeli, oraz umożliwiał dodanie nowego adresu e-mail do bazy. Na tak przygotowanym materiale proszę wykonać atak SQL Injection tak ab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osoba atakująca skasowała tabele w bazie danych</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osoba atakująca podmieniła adres e-mail innego użytkownika o znanym adresi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roponowane dodatkowe zadania związane z tym ćwiczeniem:</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Zabezpiecz skrypt przed atakiem poprzez dodanie walidacji pola formularz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224000" y="169236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3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36" name="TextBox 1"/>
          <p:cNvSpPr/>
          <p:nvPr/>
        </p:nvSpPr>
        <p:spPr>
          <a:xfrm>
            <a:off x="1511280" y="2340000"/>
            <a:ext cx="8209080" cy="2897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Proszę przygotować skrypt PHP, dzięki któremu możliwe będzie wykonanie ataku typu brute-force, polegające na złamaniu hasła zakodowanego algorytmem MD5. Zakodowane hasło to: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098f6bcd4621d373cade4e832627b4f6</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roponowane dodatkowe zadania związane z tym ćwiczeniem:</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zmień złożoność hasła i zbadaj jaki ma to wpływ na czas łamania hasła</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zmień sposób kodowania hasła np na SHA-1 i zbadaj czy takie samo hasło jest łamane w tym samym czasie dla 2 różnych algorytmów (np MD5 i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SHA-1)</a:t>
            </a:r>
            <a:endParaRPr b="0" lang="en-US" sz="1800" spc="-1" strike="noStrike">
              <a:solidFill>
                <a:srgbClr val="000000"/>
              </a:solidFill>
              <a:latin typeface="Arial"/>
            </a:endParaRPr>
          </a:p>
        </p:txBody>
      </p:sp>
    </p:spTree>
  </p:cSld>
  <p:transition spd="med">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224000" y="169236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3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3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40" name="TextBox 1"/>
          <p:cNvSpPr/>
          <p:nvPr/>
        </p:nvSpPr>
        <p:spPr>
          <a:xfrm>
            <a:off x="1511280" y="2340000"/>
            <a:ext cx="8209080" cy="1878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Proszę wykonać formularz HTML zawierający dowolne pole, oraz fragment skryptu PHP odczytujący zawartość tego pola metodą GET. Następnie proszę zrealizować atak JS Injection poprzez wpisanie w pole formularza kodu JS, który wykona się w przeglądarc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Proponowane dodatkowe zadania związane z tym ćwiczeniem:</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Zabezpiecz skrypt przed atakiem poprzez dodanie walidacji pola formularza</a:t>
            </a:r>
            <a:endParaRPr b="0" lang="en-US" sz="1800" spc="-1" strike="noStrike">
              <a:solidFill>
                <a:srgbClr val="000000"/>
              </a:solidFill>
              <a:latin typeface="Arial"/>
            </a:endParaRPr>
          </a:p>
        </p:txBody>
      </p:sp>
    </p:spTree>
  </p:cSld>
  <p:transition spd="med">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24000" y="1692360"/>
            <a:ext cx="8207280" cy="50328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Ćwiczenia praktyczne</a:t>
            </a:r>
            <a:endParaRPr b="0" lang="en-US" sz="3200" spc="-1" strike="noStrike">
              <a:solidFill>
                <a:srgbClr val="000000"/>
              </a:solidFill>
              <a:latin typeface="Arial"/>
            </a:endParaRPr>
          </a:p>
        </p:txBody>
      </p:sp>
      <p:sp>
        <p:nvSpPr>
          <p:cNvPr id="142"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3"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
        <p:nvSpPr>
          <p:cNvPr id="144" name="TextBox 1"/>
          <p:cNvSpPr/>
          <p:nvPr/>
        </p:nvSpPr>
        <p:spPr>
          <a:xfrm>
            <a:off x="1511280" y="2340000"/>
            <a:ext cx="8209080" cy="1368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Arial"/>
              </a:rPr>
              <a:t>	</a:t>
            </a:r>
            <a:r>
              <a:rPr b="0" lang="pl-PL" sz="1800" spc="-1" strike="noStrike">
                <a:solidFill>
                  <a:srgbClr val="000000"/>
                </a:solidFill>
                <a:latin typeface="Arial"/>
              </a:rPr>
              <a:t> </a:t>
            </a:r>
            <a:r>
              <a:rPr b="0" lang="pl-PL" sz="1800" spc="-1" strike="noStrike">
                <a:solidFill>
                  <a:srgbClr val="000000"/>
                </a:solidFill>
                <a:latin typeface="Arial"/>
              </a:rPr>
              <a:t>Przy pomocy skryptu curlLoop.php wraz z kolegami z klasy, sróbujcie wykonać atak DoS na komputer jednego z kolegów. Jeden komputer udostępnia dowolny zasób pod podanym adresem HTTP, pozostali uczniowie z wielu komputerów wykonują skrypt, który wielokrotnie w pętli próbuje ten zasób pobrać.</a:t>
            </a:r>
            <a:endParaRPr b="0" lang="en-US" sz="1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468440" y="1618920"/>
            <a:ext cx="8207280" cy="466092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Przykładowy atak JS injection</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Wprowadzamy zamiast imienia fragment kodu JavaScript:</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808030"/>
                </a:solidFill>
                <a:latin typeface="Arial"/>
              </a:rPr>
              <a:t>&lt;</a:t>
            </a:r>
            <a:r>
              <a:rPr b="0" lang="pl-PL" sz="2000" spc="-1" strike="noStrike">
                <a:solidFill>
                  <a:srgbClr val="000000"/>
                </a:solidFill>
                <a:latin typeface="Arial"/>
              </a:rPr>
              <a:t>script</a:t>
            </a:r>
            <a:r>
              <a:rPr b="0" lang="pl-PL" sz="2000" spc="-1" strike="noStrike">
                <a:solidFill>
                  <a:srgbClr val="808030"/>
                </a:solidFill>
                <a:latin typeface="Arial"/>
              </a:rPr>
              <a:t>&gt;</a:t>
            </a:r>
            <a:r>
              <a:rPr b="0" lang="pl-PL" sz="2000" spc="-1" strike="noStrike">
                <a:solidFill>
                  <a:srgbClr val="000000"/>
                </a:solidFill>
                <a:latin typeface="Arial"/>
              </a:rPr>
              <a:t>alert</a:t>
            </a:r>
            <a:r>
              <a:rPr b="0" lang="pl-PL" sz="2000" spc="-1" strike="noStrike">
                <a:solidFill>
                  <a:srgbClr val="808030"/>
                </a:solidFill>
                <a:latin typeface="Arial"/>
              </a:rPr>
              <a:t>(</a:t>
            </a:r>
            <a:r>
              <a:rPr b="0" lang="pl-PL" sz="2000" spc="-1" strike="noStrike">
                <a:solidFill>
                  <a:srgbClr val="0000e6"/>
                </a:solidFill>
                <a:latin typeface="Arial"/>
              </a:rPr>
              <a:t>'Hacked'</a:t>
            </a:r>
            <a:r>
              <a:rPr b="0" lang="pl-PL" sz="2000" spc="-1" strike="noStrike">
                <a:solidFill>
                  <a:srgbClr val="808030"/>
                </a:solidFill>
                <a:latin typeface="Arial"/>
              </a:rPr>
              <a:t>)</a:t>
            </a:r>
            <a:r>
              <a:rPr b="0" lang="pl-PL" sz="2000" spc="-1" strike="noStrike">
                <a:solidFill>
                  <a:srgbClr val="800080"/>
                </a:solidFill>
                <a:latin typeface="Arial"/>
              </a:rPr>
              <a:t>;</a:t>
            </a:r>
            <a:r>
              <a:rPr b="0" lang="pl-PL" sz="2000" spc="-1" strike="noStrike">
                <a:solidFill>
                  <a:srgbClr val="808030"/>
                </a:solidFill>
                <a:latin typeface="Arial"/>
              </a:rPr>
              <a:t>&lt;/</a:t>
            </a:r>
            <a:r>
              <a:rPr b="0" lang="pl-PL" sz="2000" spc="-1" strike="noStrike">
                <a:solidFill>
                  <a:srgbClr val="000000"/>
                </a:solidFill>
                <a:latin typeface="Arial"/>
              </a:rPr>
              <a:t>script</a:t>
            </a:r>
            <a:r>
              <a:rPr b="0" lang="pl-PL" sz="2000" spc="-1" strike="noStrike">
                <a:solidFill>
                  <a:srgbClr val="808030"/>
                </a:solidFill>
                <a:latin typeface="Arial"/>
              </a:rPr>
              <a:t>&gt;</a:t>
            </a:r>
            <a:r>
              <a:rPr b="0" lang="pl-PL" sz="2000" spc="-1" strike="noStrike">
                <a:solidFill>
                  <a:srgbClr val="000000"/>
                </a:solidFill>
                <a:latin typeface="Arial"/>
              </a:rPr>
              <a:t> </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ub</a:t>
            </a: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000" spc="-1" strike="noStrike">
                <a:solidFill>
                  <a:srgbClr val="000000"/>
                </a:solidFill>
                <a:latin typeface="Arial"/>
              </a:rPr>
              <a:t>&lt;script&gt;alert(document.cookie);&lt;/script&gt; </a:t>
            </a:r>
            <a:endParaRPr b="0" lang="en-US" sz="2000" spc="-1" strike="noStrike">
              <a:solidFill>
                <a:srgbClr val="000000"/>
              </a:solidFill>
              <a:latin typeface="Arial"/>
            </a:endParaRPr>
          </a:p>
        </p:txBody>
      </p:sp>
      <p:sp>
        <p:nvSpPr>
          <p:cNvPr id="55"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6"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079640" y="3384360"/>
            <a:ext cx="8207280" cy="502920"/>
          </a:xfrm>
          <a:prstGeom prst="rect">
            <a:avLst/>
          </a:prstGeom>
          <a:noFill/>
          <a:ln w="0">
            <a:noFill/>
          </a:ln>
        </p:spPr>
        <p:txBody>
          <a:bodyPr lIns="0" rIns="0" tIns="2808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000000"/>
                </a:solidFill>
                <a:latin typeface="Arial"/>
              </a:rPr>
              <a:t>Dziękujemy za uwagę</a:t>
            </a:r>
            <a:endParaRPr b="0" lang="en-US" sz="3200" spc="-1" strike="noStrike">
              <a:solidFill>
                <a:srgbClr val="000000"/>
              </a:solidFill>
              <a:latin typeface="Arial"/>
            </a:endParaRPr>
          </a:p>
        </p:txBody>
      </p:sp>
      <p:sp>
        <p:nvSpPr>
          <p:cNvPr id="146"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147"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148" name="Obraz 4" descr="PO KL_z podpisem_kolor.jpg"/>
          <p:cNvPicPr/>
          <p:nvPr/>
        </p:nvPicPr>
        <p:blipFill>
          <a:blip r:embed="rId1"/>
          <a:stretch/>
        </p:blipFill>
        <p:spPr>
          <a:xfrm>
            <a:off x="2630520" y="5286240"/>
            <a:ext cx="5753160" cy="108612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468440" y="1994040"/>
            <a:ext cx="8207280" cy="428616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Rodzaje ataków</a:t>
            </a:r>
            <a:endParaRPr b="0" lang="en-US" sz="36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erwanie (ang. interruptio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odyfikacja (ang. modificatio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rzychwycenie (ang. interceptio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podrobienie (ang. fabrication)</a:t>
            </a:r>
            <a:endParaRPr b="0" lang="en-US" sz="2800" spc="-1" strike="noStrike">
              <a:solidFill>
                <a:srgbClr val="000000"/>
              </a:solidFill>
              <a:latin typeface="Arial"/>
            </a:endParaRPr>
          </a:p>
        </p:txBody>
      </p:sp>
      <p:sp>
        <p:nvSpPr>
          <p:cNvPr id="5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5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Atak brute-forc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Najprostszy atak na systemy komputerowe.</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Wykorzystanie bazy danych</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510920" y="1547280"/>
            <a:ext cx="8364600" cy="863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Atak brute-force</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pic>
        <p:nvPicPr>
          <p:cNvPr id="66" name="Picture 6" descr=""/>
          <p:cNvPicPr/>
          <p:nvPr/>
        </p:nvPicPr>
        <p:blipFill>
          <a:blip r:embed="rId1"/>
          <a:stretch/>
        </p:blipFill>
        <p:spPr>
          <a:xfrm>
            <a:off x="3581280" y="3203640"/>
            <a:ext cx="4051440" cy="841320"/>
          </a:xfrm>
          <a:prstGeom prst="rect">
            <a:avLst/>
          </a:prstGeom>
          <a:ln w="0">
            <a:noFill/>
          </a:ln>
        </p:spPr>
      </p:pic>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600" spc="-1" strike="noStrike">
                <a:solidFill>
                  <a:srgbClr val="000000"/>
                </a:solidFill>
                <a:latin typeface="Arial"/>
              </a:rPr>
              <a:t>Atak ‘Głębokie ukrycie’</a:t>
            </a:r>
            <a:endParaRPr b="0" lang="en-US" sz="36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Ukrywanie dokumentów/zasobów pod adresami, których nie jest w stanie wpisać/odgadnąć człowiek.</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marL="431640" indent="0" algn="ctr">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8"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69"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Account lockout</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Blokowanie kont w aplikacjach internetowych.</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2"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468440" y="1779120"/>
            <a:ext cx="8207280" cy="4643640"/>
          </a:xfrm>
          <a:prstGeom prst="rect">
            <a:avLst/>
          </a:prstGeom>
          <a:noFill/>
          <a:ln w="0">
            <a:noFill/>
          </a:ln>
        </p:spPr>
        <p:txBody>
          <a:bodyPr lIns="0" rIns="0" tIns="23040" bIns="0" anchor="t">
            <a:norm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600" spc="-1" strike="noStrike">
                <a:solidFill>
                  <a:srgbClr val="000000"/>
                </a:solidFill>
                <a:latin typeface="Arial"/>
              </a:rPr>
              <a:t>Web parameter tampering</a:t>
            </a:r>
            <a:endParaRPr b="0" lang="en-US" sz="36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Próba przekazania parametrów, które różnią się od tych dostępnych w aplikacji. </a:t>
            </a:r>
            <a:endParaRPr b="0" lang="en-US" sz="2800" spc="-1" strike="noStrike">
              <a:solidFill>
                <a:srgbClr val="000000"/>
              </a:solidFill>
              <a:latin typeface="Arial"/>
            </a:endParaRPr>
          </a:p>
          <a:p>
            <a:pPr>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Arial"/>
              </a:rPr>
              <a:t>Metody zapobiegawcze</a:t>
            </a:r>
            <a:endParaRPr b="0" lang="en-US" sz="2800" spc="-1" strike="noStrike">
              <a:solidFill>
                <a:srgbClr val="000000"/>
              </a:solidFill>
              <a:latin typeface="Arial"/>
            </a:endParaRPr>
          </a:p>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Text Box 2"/>
          <p:cNvSpPr/>
          <p:nvPr/>
        </p:nvSpPr>
        <p:spPr>
          <a:xfrm>
            <a:off x="2016000" y="7164360"/>
            <a:ext cx="7920000" cy="2160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PHP: Hypertext Preprocessor - poziom średnio zaawansowany</a:t>
            </a:r>
            <a:endParaRPr b="0" lang="en-US" sz="1400" spc="-1" strike="noStrike">
              <a:solidFill>
                <a:srgbClr val="000000"/>
              </a:solidFill>
              <a:latin typeface="Arial"/>
            </a:endParaRPr>
          </a:p>
        </p:txBody>
      </p:sp>
      <p:sp>
        <p:nvSpPr>
          <p:cNvPr id="75" name="Text Box 3"/>
          <p:cNvSpPr/>
          <p:nvPr/>
        </p:nvSpPr>
        <p:spPr>
          <a:xfrm>
            <a:off x="7056360" y="612720"/>
            <a:ext cx="2808360" cy="612720"/>
          </a:xfrm>
          <a:prstGeom prst="rect">
            <a:avLst/>
          </a:prstGeom>
          <a:noFill/>
          <a:ln w="0">
            <a:noFill/>
          </a:ln>
        </p:spPr>
        <p:style>
          <a:lnRef idx="0"/>
          <a:fillRef idx="0"/>
          <a:effectRef idx="0"/>
          <a:fontRef idx="minor"/>
        </p:style>
        <p:txBody>
          <a:bodyPr lIns="0" rIns="0" tIns="15840" bIns="0" anchor="t">
            <a:noAutofit/>
          </a:bodyPr>
          <a:p>
            <a:pPr algn="ctr">
              <a:lnSpc>
                <a:spcPct val="93000"/>
              </a:lnSpc>
              <a:spcAft>
                <a:spcPts val="1412"/>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800" spc="-1" strike="noStrike">
                <a:solidFill>
                  <a:srgbClr val="000000"/>
                </a:solidFill>
                <a:latin typeface="Arial"/>
              </a:rPr>
              <a:t>PHP: Hypertext Preprocessor</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09:29:28Z</dcterms:created>
  <dc:creator/>
  <dc:description/>
  <dc:language>en-US</dc:language>
  <cp:lastModifiedBy>Michał Galas</cp:lastModifiedBy>
  <dcterms:modified xsi:type="dcterms:W3CDTF">2014-10-23T06:28:29Z</dcterms:modified>
  <cp:revision>112</cp:revision>
  <dc:subject/>
  <dc:title>Slajd 1</dc:title>
</cp:coreProperties>
</file>