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E4BE2-CB1B-47BC-94A6-6E1C5FB30CD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AECDE-F3E6-4A7F-83D8-84B2B3E1805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łowa wstę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5D6F2-7C0F-4CE8-913E-2EEDB0BCB4E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 nagłówek jest ustawiany przez przeglądarki i programy ułatwiające ściąganie plików. Określa czy klient potrafi (wartość bytes) lub nie (wartość none) odczytywać pliki przesyłane w części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6F061-A521-4AC5-814D-030963DEC98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a metod na które serwer ma zezwoli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A646A-7137-4175-B0B5-00B78F1BDCE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esyła nagłówek do autoryzacji, najczęściej zakodowane login i hasł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510F8-9612-420D-9DCC-98D7904E9F6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regułę według której przeglądarka może (lub nie może) przechowywać stronę w pamięci podrę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stępne wartości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-store – strona nie może być przechowywa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-cache – strona może być przechowywana pod warunkiem każdorazowego sprawdzania jej aktualn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 dwa nagłówki mają szczególne znaczenie dla serwerów proxy. Pierwszy nakazuje przesyłać dokument bezwzględnie, natomiast drugi pozwala na skorzystanie z kopii w pamięci podręcznej, jeżeli dokument źródłowy się nie zmieni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-age=liczba_sekund – oznacza, że można skorzystać z cache pod warunkiem iż nie jest przechowywane dłużej jak liczba_sekund. Jeżeli jest starsze przeglądarka powinna ściągnąć nowszą wersj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n-fresh=liczba_sekund – nakazuje przeglądarce ściągnąć dokument jeżeli jego wiek nie przekracza liczby_sekund + aktualna_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1BD3D-5D39-4341-89F6-AA8C0011E75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określa, czy zamknąć połączenie po zapytaniu, czy je utrzymyw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D4705-F61A-49F0-9DE6-6547AA5AE00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tym nagłówku przesyłane są wszystkie ciasteczka ustawione w przegląd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4D589-6DE4-4C26-94D5-ED736C40B5E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typ kodowania plik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5FC90-4C0B-4D83-8948-4C0E72ADDF3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ęzyk dokumentu przesłanego przez serwer. Może być określony więcej niż jeden język. Wtedy język główny strony jest określony jako ostatni na tej liśc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9494D-CC4F-44DA-BBEF-17923347B9B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rozmiar zawartości w bajt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10231-3346-42AA-87D0-11F9D21CF14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zakres przesłanej części pliku w tym przypadku bajty od 123 do 456 z 5000(cały pli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4FF34-010F-4B86-AD88-3665A35EA0B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ki HTTP w języku PHP, wykorzystywane są do komunikacji pomiędzy serwerem, a stroną WW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 ich wysyłania najczęściej stosujemy funkcję ‘header’. Używać ich może w różnych celach np. do autoryzacji HTTP, odświeżenia strony, bądź przekierowania przez serwer na inną stron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45F79-C25D-4DA2-9FC4-A37CEF5BD7A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ym nagłówkiem serwer informuje przeglądarkę, w jakim formacie i stronie kodowej wysyłany jest dok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FAE4-3442-413C-BE2C-7BD57496B0E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ta serw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F201A-B33E-4B92-96E4-24D0F3DFCF0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ta powyżej której dokument będzie nieaktual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F52CE-E537-4220-BB59-23192316192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określający z/dla jakiej domeny określony został URI (do serwera bowiem nie dociera nazwa domenowa, ale jedynie adres IP). Nagłówek wymagany w HTTP 1.1. Dzięki niemu można uruchomić kilka serwerów wirtualnych na jednym adresie 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626EA-5D91-4BFE-8591-789B55C75A4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nakazuje serwerowi przesłać dokument tylko jeżeli został zmodyfikowany od danej daty. Jeżeli dokument się nie zmienił serwer powinien wysłać przeglądarce kod odpowiedzi 3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71449-82FA-46A3-A5C2-B973A78FD74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serwera informujący o ostatniej aktualizacji dokumen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01790-D6D9-43D9-A0EF-03BDA2C85C3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musza przekierowanie na określony ad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la kodu odpowiedzi 201 adres oznacza miejsce nowo utworzonego zasob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d 301 - oznacza przekierowanie stałe. Od tej pory przeglądarka powinna korzystać z nowego adres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d 304 - oznacza, że strona nie została zmodyfikowana od ostatniego zgłoszonego pobr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d 307 – oznacza czasowe przekierow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ecyfikacja odpowiedzi HTTP: http://www.w3.org/Protocols/rfc2616/rfc2616-sec1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69152-6A27-4D85-AF1C-E4C8622A10C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jaką część pliku oczekuje przeglądarka. Podawany w formacie bytes=pozycja_początkowa-pozycja_końc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95215-D2ED-4F9E-9D41-C1216FB1BF5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adres strony internetowej, z której użytkownik został przekierowany za pomocą odnośnik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kład: film z YouTube został umieszczony na FaceBook’u, po kliknięciu w adres filmu serwer YouTube otrzymuje w nagłówku informację, że wejście na film odbyło się z serwisu Fac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1FBCA-4FC5-4AC0-A50E-8EB552B9B1F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tawia automatyczne przekierowanie w przeglądarce na podany adres po określonym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C73B9-7EDE-40FD-AA9C-79267953101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1717A-E08E-4889-AF1A-3408046687A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żywany razem z kodem odpowiedzi 503 (Serwer zajęty). Określa czas po którym serwer będzie w stanie odpowiedzieć. Czas może być podany w formie konkretnej daty (jak w przykładzie) lub liczby sek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BCE2D-A4E6-473D-B70E-2CCF38B531A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identyfikujący serwer i użyte w nim oprogramowa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16483-3E19-4DAE-A2E8-C7344478F17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ek wysłany od serwera nakazuje przeglądarce ustawienie określonych ciastecz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BFAE0-E6E8-44C5-AA8B-D76261243F6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w jaki sposób serwer przesłał zawartość dokumen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stępne meto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un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znacza przesyłanie zawartości kawałkami. Każdy z nich powinien mieć postać: wielkość treść wielkość – jest to długość treści w bajtach ,zapisane w formie szesnastkowej. Przykład: 1a abcdefghijklmnopqrstuvwxyz 10 1234567890abcdef 0 Zero w ostatniej linijce określa zerowej długości kawałek i kończy transmisj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d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znacza tekst nieskompre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znacza dane skompresowane algorytmem 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e skompresowane algorytmem LZ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8B387-9DD4-4C88-BDBE-E182EF8FA06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dentyfikuje przeglądarkę, silnik html oraz System operacyj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8D2C0-D522-472B-ABC0-C0DFACA56ED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esyłany razem z kodem 401. Określa sposób w jaki ma zostać przeprowadzona identyfikacja użytkownik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DF6A8-771C-402C-8724-A84B7B3A5D2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kcja ‘getallheaders’ pobiera wszystkie nagłówki żądania http i parsuje je do tablicy PHP, a funkcja ‘apache_response_headers’, parsuje wszystkie nagłówki odpowiedzi ht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458C2-6B92-4281-B4B1-99C01CE78B2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konaj skrypty z lekcji 4, wyświetlające rezultaty funkcji getallheaders(); oraz apache_response_headers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77EF2-0384-44C8-AD11-C5D74C3E82E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kcja ‘header’ służy do przesyłania nagłówka http dokumentu. Pierwszym argumentem jest treść nagłówka w postaci ciągu znaków PHP. Drugim argumentem jest argument opcjonalny, mówi o tym, czy funkcja ma zastąpić nagłówek tego samego typu przygotowany przez serwer. Kolejnym argumentem opcjonalnym jest narzucony serwerowi kod odpowiedz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87110-D57C-402E-A455-006CF68036C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 odpowiedniej konfiguracji serwera HTTP, język PHP może zwracać komunikaty o braku zasobów np. strony o podanym adresie. W tym wypadku znany wszystkim błąd 4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rzut ekranu przedstawia narzędzie Firebug. Jeśli przeglądarka Firefox nie zawiera wspomnianego narzędzia, trzeba je pobrać oraz zainstalować (Firefox -&gt; Dodatki -&gt; Rozszerzeni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E73ED-8F88-4F93-AF8C-111657C631D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ki HTTP w języku PHP, dzielimy na standardowe i niestandardowe. Standardowe to te, które znajdują się w specyfikacji HTTP w wersji 1.1, a niestandardowe to takie nagłówki, które są dostępne, lecz nie znajdują się w specyfik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EF260-65BE-4FAE-9F5F-D1EAC05463B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ste przekierowanie HTTP na podany ad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6E3AC-AFCB-46E3-B2F2-01454F513DB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kład dotyczy wykorzystania nagłówków do pobrania pliku typu PHP jako tek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EA1A6-1DBD-416A-B0E2-F01A3BF29F0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yższy przykład spowoduje wyłączenie cache’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83254-7E87-4222-BB41-1239D82085E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yższy przykład ustawia typ kodowanie pliku na utf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WAGA: nagłówek informuje przeglądarkę, że będzie wysyłał treść w kodowaniu UTF-8. Aby polskie znaki diakrytyczne prawidłowo wyświetliły się w przeglądarce, plik zawierający polskie znaki również musi być zakodowany w UTF-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8625B-D1C5-437F-89D6-74EB8A21522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ekierowanie lub odświeżenie strony wygenerowane przed kod ph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 załadowaniu strony przeglądarka wykonuje kod HTML i przechodzi na adres http://przykład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szę zwrócić uwagę na fakt, iż jest to inna metoda ni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ader('Location: http://przykład.pl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dzie przeglądarka bez ładowania strony natychmiast wykonuje przekierowa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68427-32FE-43C6-A28A-F77AFAACB92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04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D3699-FD60-4F0F-996A-DAE52E50DAB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3216D-3C17-48CE-94E2-5AD7AD28A7A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wnloadFile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4A015-FCE5-4886-9D64-6D7DD37DE6B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t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98B73-E927-4865-AB16-3575837B6FB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r1.php, referer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F38C0-3410-4B37-BE66-F4E6D0EF486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główki HTTP w języku PHP, wykorzystywane są do komunikacji pomiędzy serwerem, a stroną WW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 ich wysyłania najczęściej stosujemy funkcję ‘header’. Używać ich może w różnych celach np. do autoryzacji HTTP, odświeżenia strony, bądź przekierowania przez serwer na inną stron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91170-B250-4FAC-B15A-71A5EA57F44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1377E-7DF3-4F09-8832-CB16E5A596E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łuży do określenia listy akceptowalnych przez przeglądarkę typów MIME dokumentu, oraz opcjonalnie hierarchii każdego typu. Liczby podane po ;q= powinny mieć wartości od 0 do 1, co 0.1. Jako separator miejsc dziesiętnych użyta musi być kropka. W przypadku braku zdefiniowanej wartości ;q= przyjmowana jest wartość: ;q=1 (równoznaczna z ;q=1.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yższy przykład ustala najwyższy priorytet typowi application/xhtml+xml. Jeżeli serwer nie posiada dokumentu w formacie application/xhtml+xml, to prześle plik w formacie application/xml – ogólnym dla podjęzyków XML, takich jak XHTML, SVG. Jeżeli na serwerze nie ma również dokumentu w tym formacie, dane zostaną przesłane jako text/xml – czyli ogólne dane w formacie XML, w ostateczności, jeżeli żadnego z tych typów nie posiada, serwer wyśle dane w formacie text/plain, czyli zwykłego teks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ypy MIME mogą być określone za pomocą symboli wieloznacznych np.: text/*, */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A6BF3-3E05-4D85-9DB0-863CB2E63B6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preferowane przez przeglądarkę formaty kodowania. Wartości ;q= interpretowane są na takich samych zasadach, jak w przypadku typów MIME z nagłówka Ac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AEBD3-1476-44B6-B1D8-325F2E31947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 nagłówek określa kodowanie, za pomocą którego zostanie przesłana zawartość. Stosowane zwykle do kompresji tre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E7F66-9F4F-457C-9250-49C5466818D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kreśla w jakim języku użytkownik przeglądarki życzy sobie czytać st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DD8-5BA7-40CC-9E7D-690DE6EE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8BA-480B-40BB-95D2-EF77258A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CCB-97B7-4537-8067-E025A19D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B96-8629-453B-91F7-14C6214D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C12-C330-4692-B26E-F8605AFA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28F-FCB7-420B-A435-2963DB15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C9D-1657-4CC6-9522-0991BA4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462-0903-41ED-99B6-94160C5D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54F-BA13-442F-8904-A70BCC2A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644-1F0E-45F8-AB67-153A8152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1C6-921C-47FD-B920-AFBAB7B1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DC3-8E60-492C-BA88-2A36FFF4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35F45-9765-4621-B5A9-D56CFD5B01B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440000" y="1044720"/>
            <a:ext cx="8135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poziom średnio zaawansow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ekcj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dyfikacja nagłówków 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az 3" descr="PO KL_z podpisem_kolor.jpg"/>
          <p:cNvPicPr/>
          <p:nvPr/>
        </p:nvPicPr>
        <p:blipFill>
          <a:blip r:embed="rId1"/>
          <a:stretch/>
        </p:blipFill>
        <p:spPr>
          <a:xfrm>
            <a:off x="2630520" y="4870440"/>
            <a:ext cx="5753160" cy="1085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-R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-Ranges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bytes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llow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GET, POST,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uth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 Basic QWxhZGRpbjpvcGVuIHNlc2FtZQ==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ache-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ache-Control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o-cache/no-store/max-age=3600/min-freash=3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nection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eep-alive/clos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oki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iastko1=wartosc1; ciastko2=wartos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3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En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Encod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 g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Languag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en,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Length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1000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Range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23-456/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ki HT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główki w 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33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Content-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ntent-Typ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pplication/xhtml+xml; charset=utf-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ue, 15 Nov 1994 08:12:31 GM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Exp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xpires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hu, 01 Dec 1994 16:00:00 GM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ost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ww.w3.org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If-Modified-S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-Modified-Si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t, 29 Oct 1994 19:43:31 GM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Last-Mod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-Modifi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ue, 15 Nov 1994 12:45:26 GM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ocation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://serw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ng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bytes=500-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Ref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ferer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://serwer/katalog/plik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Refr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fresh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zas; url=adr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twórz dowolną stronę www i przeanalizuj nagłówki HTTP przy pomocy narzędzia firebu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40000" y="3419640"/>
            <a:ext cx="822960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Retry-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y-Aft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i, 31 Dec 1999 23:59:59 G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erver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pache/2.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Set-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et-Cooki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iastko1=wartosc1; ciastko2=wartosc2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Transfer-En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ransfer-Encoding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hunk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User-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ser-Agent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Mozilla/5.0 (X11; U; Linux i686; pl; rv:1.8.0.1) Gecko/20060124 Firefox/1.5.0.1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WWW-Authent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WW-Authenticat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rodzaj_autentyfi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Funkcja getallheaders() oraz apache_response_headers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ray 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tallheader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 ( void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ray 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pache_response_header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 ( void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7000"/>
          </a:bodyPr>
          <a:p>
            <a:pPr marL="3322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Funkcja getallh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280" indent="-2491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ray 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tallheader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 ( void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280" indent="-2491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ray 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pache_response_header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 ( void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konaj skrypty wyświetlające rezultaty ww funkcji.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Funkcja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( string $string [, bool $repla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 = 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[, int $http_response_code ]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865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4057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bb"/>
                </a:solidFill>
                <a:latin typeface="Courier New"/>
                <a:ea typeface="Courier New"/>
              </a:rPr>
              <a:t>&lt;?php</a:t>
            </a:r>
            <a:br>
              <a:rPr sz="2400"/>
            </a:br>
            <a:r>
              <a:rPr b="0" lang="pl-PL" sz="2400" spc="-1" strike="noStrike">
                <a:solidFill>
                  <a:srgbClr val="0000bb"/>
                </a:solidFill>
                <a:latin typeface="Courier New"/>
                <a:ea typeface="Courier New"/>
              </a:rPr>
              <a:t>header</a:t>
            </a:r>
            <a:r>
              <a:rPr b="0" lang="pl-PL" sz="24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pl-PL" sz="2400" spc="-1" strike="noStrike">
                <a:solidFill>
                  <a:srgbClr val="dd0000"/>
                </a:solidFill>
                <a:latin typeface="Courier New"/>
                <a:ea typeface="Courier New"/>
              </a:rPr>
              <a:t>"</a:t>
            </a:r>
            <a:r>
              <a:rPr b="0" i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/1.0 404 Not Found</a:t>
            </a:r>
            <a:r>
              <a:rPr b="0" lang="pl-PL" sz="2400" spc="-1" strike="noStrike">
                <a:solidFill>
                  <a:srgbClr val="dd0000"/>
                </a:solidFill>
                <a:latin typeface="Courier New"/>
                <a:ea typeface="Courier New"/>
              </a:rPr>
              <a:t>"</a:t>
            </a:r>
            <a:r>
              <a:rPr b="0" lang="pl-PL" sz="2400" spc="-1" strike="noStrike">
                <a:solidFill>
                  <a:srgbClr val="0077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bb"/>
                </a:solidFill>
                <a:latin typeface="Courier New"/>
                <a:ea typeface="Courier New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511280" y="5075280"/>
            <a:ext cx="8039160" cy="79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ostępne nagłów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andard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standard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&lt;?php</a:t>
            </a:r>
            <a:br>
              <a:rPr sz="2000"/>
            </a:b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header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pl-PL" sz="2000" spc="-1" strike="noStrike">
                <a:solidFill>
                  <a:srgbClr val="dd0000"/>
                </a:solidFill>
                <a:latin typeface="Courier New"/>
                <a:ea typeface="Courier New"/>
              </a:rPr>
              <a:t>"Location: http://przyklad.pl/"</a:t>
            </a: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);</a:t>
            </a:r>
            <a:br>
              <a:rPr sz="2000"/>
            </a:br>
            <a:r>
              <a:rPr b="0" lang="pl-PL" sz="2000" spc="-1" strike="noStrike">
                <a:solidFill>
                  <a:srgbClr val="007700"/>
                </a:solidFill>
                <a:latin typeface="Courier New"/>
                <a:ea typeface="Courier New"/>
              </a:rPr>
              <a:t>ex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bb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&lt;?php</a:t>
            </a:r>
            <a:br>
              <a:rPr sz="1800"/>
            </a:b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$file 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= 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przyklad.php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header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Content-disposition: attachment; filename=' 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. 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basename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$file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));</a:t>
            </a:r>
            <a:br>
              <a:rPr sz="1800"/>
            </a:b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header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Content-type: text/plain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);</a:t>
            </a:r>
            <a:br>
              <a:rPr sz="1800"/>
            </a:b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readfile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$file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er('Cache-Control: no-cache, no-store, max-age=0, must-revalidate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er('Expires: Mon, 26 Jul 1997 05:00:00 GMT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er('Pragma: no-cache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y zastosowania header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&lt;?php</a:t>
            </a:r>
            <a:br>
              <a:rPr sz="1800"/>
            </a:b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header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(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Content-Type: text/html; charset=utf-8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);</a:t>
            </a:r>
            <a:br>
              <a:rPr sz="1800"/>
            </a:b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echo </a:t>
            </a:r>
            <a:r>
              <a:rPr b="0" lang="pl-PL" sz="1800" spc="-1" strike="noStrike">
                <a:solidFill>
                  <a:srgbClr val="dd0000"/>
                </a:solidFill>
                <a:latin typeface="Courier New"/>
                <a:ea typeface="Courier New"/>
              </a:rPr>
              <a:t>'ąćężźńóś'</a:t>
            </a:r>
            <a:r>
              <a:rPr b="0" lang="pl-PL" sz="1800" spc="-1" strike="noStrike">
                <a:solidFill>
                  <a:srgbClr val="0077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bb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rzykład zastosowania kodu HTML w PHP - przekierow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bb"/>
                </a:solidFill>
                <a:latin typeface="Arial"/>
              </a:rPr>
              <a:t>&lt;?php</a:t>
            </a:r>
            <a:br>
              <a:rPr sz="2000"/>
            </a:br>
            <a:r>
              <a:rPr b="0" lang="pl-PL" sz="2000" spc="-1" strike="noStrike">
                <a:solidFill>
                  <a:srgbClr val="007700"/>
                </a:solidFill>
                <a:latin typeface="Arial"/>
              </a:rPr>
              <a:t>echo </a:t>
            </a:r>
            <a:r>
              <a:rPr b="0" lang="pl-PL" sz="2000" spc="-1" strike="noStrike">
                <a:solidFill>
                  <a:srgbClr val="dd0000"/>
                </a:solidFill>
                <a:latin typeface="Arial"/>
              </a:rPr>
              <a:t>"&lt;meta http-equiv='refresh' content='0;url=http://przykład.pl'&gt;"</a:t>
            </a:r>
            <a:r>
              <a:rPr b="0" lang="pl-PL" sz="2000" spc="-1" strike="noStrike">
                <a:solidFill>
                  <a:srgbClr val="0077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bb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a prakt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onaj skrypt, który zwróci do przeglądarki odpowiedź o braku znalezienia strony (404 – Not Found). Sprawdź działanie skryptu poprzez analizę nagłówka zwróconej odpowiedzi HTTP  przy pomocy dowolnego narzędzia (Firebug w Firefox, Narzędzie dla programistów – Chr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a prakt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onaj skrypt, który najpierw odczeka 10 sekund a następnie zmodyfikuje element nagłówka „Location” i przekieruje użytkownika na dowolny inny ad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a prakt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onaj skrypt, który wymusi na przeglądarce rozpoczęcie pobieranie zdefiniowanego przez Ciebie pliku oraz ukryje przed pobierającym oryginalną lokalizację pli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a prakt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onaj skrypt, który z poziomu PHP wyświetli nagłówek HTTP żądania oraz odpowiedz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Ćwiczenia prakt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twórz plik, który będzie zawierał link do innego pliku. Po kliknięciu w link wyszukaj i sprawdź element nagłówka Referer żądania HTT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39360" y="3350880"/>
            <a:ext cx="82076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a nagłówk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79640" y="3384360"/>
            <a:ext cx="82072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ękujemy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4" descr="PO KL_z podpisem_kolor.jpg"/>
          <p:cNvPicPr/>
          <p:nvPr/>
        </p:nvPicPr>
        <p:blipFill>
          <a:blip r:embed="rId1"/>
          <a:stretch/>
        </p:blipFill>
        <p:spPr>
          <a:xfrm>
            <a:off x="2306520" y="4716360"/>
            <a:ext cx="5753160" cy="108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pplication/xhtml+xml, application/xml;q=0.9, text/xml;q=0.7, text/html;q=0.5, text/plain;q=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-Char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-Charset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utf-8, iso-8859-13;q=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468440" y="1993680"/>
            <a:ext cx="8207280" cy="321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-En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-Encoding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gzip;q=1.0, identity; q=0.5, *;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468440" y="199404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Nagłówek Accept-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ccept-Language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l, en-us;q=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2016000" y="7164360"/>
            <a:ext cx="792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HP: Hypertext Preprocessor - poziom średnio zaawansow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056360" y="612720"/>
            <a:ext cx="280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9:29:28Z</dcterms:created>
  <dc:creator/>
  <dc:description/>
  <dc:language>en-US</dc:language>
  <cp:lastModifiedBy>Michał Galas</cp:lastModifiedBy>
  <dcterms:modified xsi:type="dcterms:W3CDTF">2014-10-23T06:31:10Z</dcterms:modified>
  <cp:revision>77</cp:revision>
  <dc:subject/>
  <dc:title>Slajd 1</dc:title>
</cp:coreProperties>
</file>