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31F1E-7065-4BB7-B515-0B26581ECBA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4FD49-44EE-4D35-8BBA-C5E13622AB1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łowa wstę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C9060-5D2A-4112-8FA6-01332B91E42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ykonać ćwiczen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12D38-3339-42C1-A131-82A6DE38C6B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 pierwszej kolejności definiujemy adres pod który chcemy wysłać maila, treśc maila oraz jego tem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stępnie próbujemy wysłać maila, jeżeli nam się uda otrzymujemy komunikat o wysłaniu, w przeciwnym wypadku treść błędu, który mówi nam o tym dlaczego się nie powiodł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86A06-429B-4DE0-891D-A6941BAF475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zykład zobrazuje nam całą komunikację pomiędzy serwerem SMTP, a kleintem i wyświetli w postaci tablicy. Został skompresowany na potrzeby zoobrazowania niskopoziomowego mechanizmu komunikacji z serwerem oraz uszczuplony o mechanizmy zabezpieczające aplikacje. Nie należy korzystać z niego jako z gotowej aplikacji. W pierwszej kolejności tworzymy plik konfiguracyjny dla naszego obiektu umieszczamy go w osobnym pliku i wypełniamy odpowiednimi danymi., które będą nam potrzebne do wysłania mai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FCF5A-387B-43C6-AE6E-4BD03177DFA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trzebujemy obiekt formularza, który będzie przetwarzany na wiadomości e-mail. Powyższy obiekt posiada jedną metodę, która zwraca nam formularz HTML w postaci ciągu znaków PHP. Umieszczamy go w osobnym plik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E8D20-B1FA-461B-BF49-974207AE7ED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zęść pierwsza kla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6378F-25F0-4089-9988-1CFA64B8FA2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zęść druga klasy, procedura, która ustawia odpowiedni parametry i dane, potrzebne do wysłania naszego mai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61F72-85B4-4892-BA14-82BA2EEBF47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zęść trzecia klasy. Próbujemy otworzyć połączenie z serwerem SMTP za pomocą funkcji fsockopen, a jeżeli nam się powiedzie zaczynamy się z nim komunikować. Funkcja fwrite wysyła komendy z parametrami, a funkcja fgets pobiera odpowied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72C4A-12C9-4E96-827D-54E2092ADEF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statnia część klasy. Na końcu pobieramy tablicę odpowiedzi od serw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0489A-1D00-4D10-B01C-22C15FFA129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mplementujemy główne wywołanie naszego kilenta SMTP. W przykładzie można ten kod umieścić w pliku index.php w katalogu naszej aplika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mportujemy plik konfiguracyjny oraz klasę naszej aplikacji, która zaraz zaimplementujemy. Tworzymy jej egzemplarz i wywołujemy metodę inicjalizując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55DEF-93F6-46C6-A495-35F89615E2B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ierwsza część klasy. Rozpoczynamy implementację obiektu App. W przykładzie powyżej znajdują się zmienne wewnętrzne jak dane konfiguracyjne, formularz i dane do wysłania. Plik konfiguracyjny przesyłamy za pomocą konstruktora obiektu, który wywoływany jest w momencie jego tworzenia. Funkcja aplikacji mogła by być obiektem type singleton, lecz ze względu na brak potrzeby, mogło by to tylko zaciemnić obraz przykł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C86BD-15E0-4EE9-B106-78A59F433EB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okół SMTP(ang. Simple Mail Transfer Protocol ) – to protokół komunikacyjny, który służy jako opis standardu przesyłania poczty elektronicznej. BO raz pierwszy został opisany w roku 1982 przez Jonathana B. Postela. Często jest wymieniany razem z protokołem POP3, który sluży do pobierania poczty z serwera. SMTP jest wykorzystywany w języku PHP jako warstwa do obsługi poczty elektronicznej. Możemy z niego korzystać bezpośrednio lub za pomocą np. obiektu phpmailer. Istnieje również wiele innych komponentów wspomagających obsługę poczty elektronicznej na serwerach WW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D3126-7296-4D8F-A928-7760A907DF3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zęść druga implementacji klasy App. Funkcja inicializująca aplikację. W pierwszej kolejności, ładuje odpowiednie klasy, przekazane w argumencie jako tablica. Następnie pobiera formularz potrzebny do wysłania maila. Metoda sprawdza czy zostało coś wysłane metodą POST jeżeli tak to pobiera te dane, przetwarza je i wysyła maila. W przeciwnym wypadku wyświetla formular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E923B-0D02-4481-A2C2-F2E6C535961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zęść trzecia implementacji klasy App. Pierwsza metoda ładuje klasy podane w tablicy jako argumen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uga metoda wyświetla formularz, wcześniej wcztany do obiekt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23CC4-EE5A-43DE-9B58-1D0F5DAED3B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zęść czwarta implementacji klasy App. Tworzymy egzemplarz wcześniej utworzonej klasy i wywołujemy jej metodę sendmail. Nstępnie wypisujemy tablicę z odpowiedziami od serwera SM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39426-DA2D-40A0-A5F5-14C5FBB4029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statnia część trzecia implementacji klasy App. Funkcja przetwarzjąca dane z formularza. Plik zapisujemy jako np. App.php. Nareszcie możemy zobaczyć efekt działania naszej aplikacji, pod warunkiem, że serwer SMTP jest poprawnie skonfigurowany oraz wprowadziliśmy poprawne dane w pliku konfiguracyjnym i formularz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272F0-FC9B-4BDD-AB9F-F4505BBA483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 pierwszej kolejności dołączamy klasę phpmailera do naszego skryptu, używamy reuire_once ze wzgłedu na to, że potrzebujemy dokładniej jeden egzemplarz. Następnie tworzymy egzemplarz klasy i pobieramy szablon html, badź txt naszego maila w zależności od potrze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7682E-3BCB-4024-966E-8A91F407B48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talamy protokuł na SMTP, włączamy autoryzację oraz konfigurujemy podstawowe parametry dla konta SMTP., takie jak host, port, nazwę uzytkownika i hasł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287C9-C78B-4784-AD39-050B098E07F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 tym miejscu ustalamy adres nadawcy, adres pod kótry należy wysyłać odpowiedź, temat wiadomości oraz treść wiadomości, w tym przypadku wiadomość w formacie HT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D8B0B-B718-404B-8D13-A5485138F85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żemy dodawać wiele adresów, bądź załączników do wiadomości e-mail. Należy jednak pamiętać, że wielkość załącznika jest konfigurowalna po stronie serwera, co może spowodować niemożliwość przyjęcia go przez serwer SM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6B93A-180B-444A-B134-4776F8DEE03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 odpowiednim skonfigurowaniu naszego obiektu próbujemy wysłać wiadomość, w przypadku niepowodzenia otrzymuje błąd zdefiniowany w Klasie PHPMailer, w przeciwnym razie otrzymujemy komunikat o wysłaniu wiadomoś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33FF2-3BBD-42E6-A280-C6995BFBD34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14FE3-6D8F-412C-9F95-EA678B8E268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o najpopularniejszych systemów pocztowych w internecie należa te wyżej wymienione. Są dostępne z poziomu przeglądarki najczęściej po protokole HTTPS. Działają najczęściej w oparciu o protkoły IMAP(następca POP3) oraz SMTP. W niektórych istnieje możliwość dostępu bo zdefiniowanych przez nas protokoł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9BBE9-5F2A-47CA-BE4A-7747D63BB67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okół SMTP wykorzystuje warstwę transportową TCP, domyślnie po porcie 25. Adres pocztowy zdefiniowany jest jako część związana z domeną, czyli adres serwera na serwerze DNS, który zwraca adres IP danej domeny oraz nazwę użytkownika systemu pocztowego na danym serwer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B5962-ECDC-44F7-B697-4F509F7F2D0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kładnia wiadomości SMTP wygląda całkeim podobnie do składni żadania HTTP. Można ją podzielić na cześć w której znajdują się nagłówki, część z treścią oraz część kończącą wiadomość. Treść zawsze musi być zakończona znakiem kropki (.) oraz znakami powrotu karetki (CR) i znakiem przejścia do nowej linii (LF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0222E-D5B7-4D90-A020-D19F8A94BAF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 pierwszej kolejności nawiązywane jest połączenie TCP hosta z serwerem, do którego ma zostać wysłana wiadomość( wysyłane są trzy wiadomości, piersza z hosta na serwer, druga to odpowiedź serwera, trzecia prośba o otwarcie sesji). Następnie serwer SMTP wysyła wiadomość, która potwierdza otwarcie sesji. Kolejną rzeczą jest identyfikacja hosta( wiadomośc z koemndą EHLO). Po zidentyfikowaniu hosta, klient SMTP wysyła wiadomość MAIL służącą do identyfiakcji nadawcy. W dalszej części serwer potwierdza gotowość na odebranie maila( wysyła wiadomość zawierającą komendę 250 O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9EA50-9AA3-49B7-A354-BD53E36D4CE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lient SMTP wysyła wiadomość z informacją o odbiorcy maila (RCPT TO). Serwer akceptuje dane odpowiadając komendą: 250 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stępnie klient SMTP wysyła wiadomość z komendą DATA &lt;CRLF&gt; informując o początku przesyłania danych maila. Serwer akceptuje komendę, odpowiadając komendą: 354. Wkońcu dane zostająprzesłane, zkończone kropką i przejściem do nowej linii w formacie systemu windows. Klient kończy sesje wysyła wiadomość z komendą QUIT. Serwer potwierdza koniec sesji wysyłając wiadomość z kodem: 22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99EF3-3799-493A-BED3-88BA7ED3066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by, PHP mogło wysyłać wiadomości via SMTP, musi mieć dostęp do serwera, który pocztowego albo do serwera, na którym jest zainstalowany i skonfigurowany protokuł SM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414E8-7526-4EA4-AA6F-4C7151D5482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o wysyłania wiadomości e-mail bezpośrednio z serwera na którym SMTP jest skonfigurowane, można uzyć funkcji mail. Funkcje zwraca wartość true, jeżeli wysyłanie wiadomości się powiodło, false w przeciwnym wypadku. Wymaga trzech argumentów: pierwszym jest adres e-mail osoby do której wysyłamy wiadomość, drugi to temat wiadomości, a trzeci jej treść. Posiada również dwa argumenty opcjonalne: pierwszy to dodatkowe nagłówki oraz drugi to dodatkowe parametry dla polecen linii kom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52F1-C660-4E2F-8026-525404B3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2567-ABD9-4A17-BD72-17CDF231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19B2-3532-4C21-85C1-4F4342E2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2FF6-2DA2-49B9-AF46-AFEABBDA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64F-CD5B-4AC1-8531-D00ABE8C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2370-10E9-47EB-8BA1-3BF5536C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52D8-E376-4228-B5C2-C4EF7224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77A9-B552-4948-99AC-AC313375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1966-6A9D-4053-994E-B14685C1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B1A4-A879-43CC-B5F2-62B82493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0CA7-ECDE-4071-9E21-C4CD7D9B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20D5-FC08-4CB6-8C9B-72FB2B80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89A3AC-25CC-4A51-AA68-846C80FFA49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1440000" y="1044720"/>
            <a:ext cx="813564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- poziom średnio zaawansow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Lekcja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czta - systemy SM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a 3"/>
          <p:cNvGrpSpPr/>
          <p:nvPr/>
        </p:nvGrpSpPr>
        <p:grpSpPr>
          <a:xfrm>
            <a:off x="2664000" y="5541840"/>
            <a:ext cx="5689440" cy="974880"/>
            <a:chOff x="2664000" y="5541840"/>
            <a:chExt cx="5689440" cy="974880"/>
          </a:xfrm>
        </p:grpSpPr>
        <p:sp>
          <p:nvSpPr>
            <p:cNvPr id="51" name="Shape 24"/>
            <p:cNvSpPr/>
            <p:nvPr/>
          </p:nvSpPr>
          <p:spPr>
            <a:xfrm>
              <a:off x="2664000" y="5541840"/>
              <a:ext cx="568944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złowiek - najlepsza inwestycj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rojekt współfinansowany przez Unię Europejską w ramach Europejskiego Funduszu Społeczneg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Obraz 5" descr="KAPITAL_LUDZKI"/>
            <p:cNvPicPr/>
            <p:nvPr/>
          </p:nvPicPr>
          <p:blipFill>
            <a:blip r:embed="rId1"/>
            <a:stretch/>
          </p:blipFill>
          <p:spPr>
            <a:xfrm>
              <a:off x="2947320" y="5652000"/>
              <a:ext cx="1228680" cy="5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Obraz 6" descr="UE+EFS_L-kolor"/>
            <p:cNvPicPr/>
            <p:nvPr/>
          </p:nvPicPr>
          <p:blipFill>
            <a:blip r:embed="rId2"/>
            <a:stretch/>
          </p:blipFill>
          <p:spPr>
            <a:xfrm>
              <a:off x="7057080" y="5724000"/>
              <a:ext cx="1123920" cy="428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3441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Ćwiczenie – wysyłania mai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Używając skonfigurowanego serwera SMTP, wysłąć maila na  swoje konto. Użyć funkcji PHP ‚mail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368360" y="1601280"/>
            <a:ext cx="8207280" cy="59626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Rozwiązanie ćwicze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$email ='adres@domena.pl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$subject = 'Temat maila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$content = 'Hello Filip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mail($email, $subject, $cont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echo 'Wysłano wiadomość email!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} catch(Exception $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echo $e-&gt;messa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rzykład obiektu klienta SMTP cz.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$CFG = new StdClas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$CFG-&gt;SMTP-&gt;SmtpServer = 'localhost'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$CFG-&gt;SMTP-&gt;SmtpPort = '25'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$CFG-&gt;SMTP-&gt;SmtpUser = 'me@localhost.com'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$CFG-&gt;SMTP-&gt;SmtpPass = 'aaaaa'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468440" y="1645920"/>
            <a:ext cx="8207280" cy="4941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rzykład obiektu do klienta SMTP cz.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?ph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lass MailForm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ublic static function getForm(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$form = '&lt;form method="post" action=""&gt;&lt;tab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tr&gt;&lt;td&gt;To: &lt;/td&gt;&lt;td&gt;&lt;input type="text" name="to" /&gt;&lt;/td&gt;&lt;/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tr&gt;&lt;td&gt;From: &lt;/td&gt;&lt;td&gt;&lt;input type="text" name="from" /&gt;&lt;/td&gt;&lt;/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tr&gt;&lt;td&gt;Subject: &lt;/td&gt;&lt;td&gt;&lt;input type="text" name="sub" /&gt;&lt;/td&gt;&lt;/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tr&gt;&lt;td&gt;Message: &lt;/td&gt;&lt;td&gt;&lt;textarea name="message"&gt;&lt;/textarea&gt;&lt;/td&gt;&lt;/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tr&gt;&lt;td colspan="2"&gt;&lt;input type="submit" value=" Send " /&gt;&lt;/td&gt;&lt;/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/table&gt;&lt;/form&gt;'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eturn $for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468440" y="1618920"/>
            <a:ext cx="820728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rzykład obiektu klienta SMTP cz.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lass SMTP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468440" y="1547640"/>
            <a:ext cx="820728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unction SMTPClient ($SmtpServer, $SmtpPort, $SmtpUser, $SmtpPass, $from, $to, $subject, $bo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$this-&gt;SmtpServer = $SmtpServ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$this-&gt;SmtpUser = base64_encode ($SmtpUs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$this-&gt;SmtpPass = base64_encode ($SmtpPas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$this-&gt;from = $fro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$this-&gt;to = $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$this-&gt;subject = $subj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$this-&gt;body = $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f ($SmtpPort == ""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$this-&gt;PortSMTP = 2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$this-&gt;PortSMTP = $SmtpPo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468440" y="1547640"/>
            <a:ext cx="820728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unction SendMai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$talk = arra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$HTTP_HOST = $_SERVER['HTTP_HOST'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f ($SMTPIN = fsockopen ($this-&gt;SmtpServer, $this-&gt;PortSMTP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write($SMTPIN, "EHLO ".$HTTP_HOST."\r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$talk["hello"] = fgets ( $SMTPIN, 1024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write($SMTPIN, "auth login\r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$talk["res"]=fgets($SMTPIN,1024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write($SMTPIN, $this-&gt;SmtpUser."\r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$talk["user"]=fgets($SMTPIN,1024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write($SMTPIN, $this-&gt;SmtpPass."\r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$talk["pass"]=fgets($SMTPIN,25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write ($SMTPIN, "MAIL FROM: &lt;".$this-&gt;from."&gt;\r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$talk["From"] = fgets ( $SMTPIN, 1024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468440" y="1547640"/>
            <a:ext cx="820728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fwrite ($SMTPIN, "RCPT TO: &lt;".$this-&gt;to."&gt;\r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$talk["To"] = fgets ($SMTPIN, 102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fwrite($SMTPIN, "DATA\r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$talk["data"]=fgets( $SMTPIN,1024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fwrite($SMTPIN, "To: &lt;".$this-&gt;to."&gt;\r\nFrom: &lt;".$this-&gt;from."&gt;\r\nSubject:".$this-&gt;subject."\r\n\r\n\r\n".$this-&gt;body."\r\n.\r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$talk["send"]=fgets($SMTPIN,256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fwrite ($SMTPIN, "QUIT\r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fclose($SMTPI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return $tal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rzykład obiektu klienta SMTP cz.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quire_once('config.php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quire_once('App.php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$app = new App($CF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$app-&gt;ini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468440" y="1474920"/>
            <a:ext cx="82072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rzykład obiektu klienta SMTP cz.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 App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ivate $confi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ivate $for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ivate $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blic function __construct($config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$this-&gt;config = $confi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$this-&gt;data = new StdClass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3441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Simple Mail Transfer Protocol – czyli SM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o to j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is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astosowanie w języku 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468440" y="154764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5000"/>
          </a:bodyPr>
          <a:p>
            <a:pPr marL="4100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public function init(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$this-&gt;loadClasses(array('SMTPClient', 'MailForm'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$this-&gt;form = MailForm::getForm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if($_SERVER["REQUEST_METHOD"] == "POST"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$this-&gt;getPostData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$this-&gt;sendMail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$this-&gt;display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468440" y="1474920"/>
            <a:ext cx="82072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vate function loadClasses($arr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each($arr as $cl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quire_once($class.'.php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vate function display(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cho $this-&gt;for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468440" y="1474920"/>
            <a:ext cx="82072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private function sendMail(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$SMTPMail = new SMTPClient ($this-&gt;config-&gt;SMTP-&gt;SmtpServer, $this-&gt;config-&gt;SMTP-&gt;SmtpPort, $this-&gt;config-&gt;SMTP-&gt;SmtpUser, $this-&gt;config-&gt;SMTP-&gt;SmtpPass, $this-&gt;data-&gt;from, $this-&gt;data-&gt;to, $this-&gt;data-&gt;subject, $this-&gt;data-&gt;bod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$SMTPChat = $SMTPMail-&gt;SendMail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print_r($SMTPCha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468440" y="1474920"/>
            <a:ext cx="82072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8000"/>
          </a:bodyPr>
          <a:p>
            <a:pPr marL="4230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private function getPostData(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if($_SERVER["REQUEST_METHOD"] == "POST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{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$this-&gt;data-&gt;to = $_POST['to'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$this-&gt;data-&gt;from = $_POST['from'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$this-&gt;data-&gt;subject = $_POST['sub'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$this-&gt;data-&gt;body = $_POST['message'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rzykład użycia PHPMailera cz.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require_once('../class.phpmailer.php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$mail             = new PHPMaile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$body             = file_get_contents('szablon_wiadomosci.html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rzykład użycia PHPMailera cz.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$mail-&gt;IsSMT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$mail-&gt;Host       = "mail.nazwa_domeny.pl"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$mail-&gt;SMTPAuth   = true;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$mail-&gt;Port       = 25;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$mail-&gt;Username   = "mail.nazwa_domeny.pl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$mail-&gt;Password   = "haslo"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rzykład użycia PHPMailera cz.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$mail-&gt;From('filip@nazwa_domeny.pl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$mail-&gt;AddReplyTo("filip@nazwa_domeny.pl", 'Filip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$mail-&gt;Subject    = "Temat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$mail-&gt;MsgHTML($bod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rzykład użycia PHPMailera cz.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$address = "adres_odbiorcy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// dodawanie adresów i załącznik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$mail-&gt;AddAddress($address, "Filip M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$mail-&gt;AddAttachment("sciezka_do_zalacznika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rzykład użycia PHPMailera cz.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if(!$mail-&gt;Send()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echo "Bład phpmailera: " . $mail-&gt;ErrorInf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echo "Wysłano!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79640" y="3384360"/>
            <a:ext cx="820728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ziękujemy za uwag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3441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Systemy pocztowe w Internec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G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ot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Yah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3441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myslny port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ykorzystuje warstwe 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dres user@domena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440000" y="1835280"/>
            <a:ext cx="820728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2732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Składnia wiadomości SM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220 domena.pl ESMTP Postfix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helo filip.domena.pl 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250 domena.pl 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mail from:filip@domena.pl 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250 2.1.0 Ok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rcpt to:filip@domena.pl 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250 2.1.5 Ok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data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354 End data with &lt;CR&gt;&lt;LF&gt;.&lt;CR&gt;&lt;LF&gt;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This is the message body.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250 2.0.0 Ok: queued as C2BEC5B0143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quit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221 2.0.0 B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ziałanie protokołu SMTP cz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łączen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twierdzenie otwarcia ses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entyfikacja ho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entyfikacja nadaw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twierdzenie gotowości na odebranie wiadomości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ziałanie protokołu SMTP cz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AutoNum type="arabicPeriod" startAt="6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ysłanie informacji o odbior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AutoNum type="arabicPeriod" startAt="6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informowanie o rozpoczęciu przesyłania da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AutoNum type="arabicPeriod" startAt="6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zesłanie da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AutoNum type="arabicPeriod" startAt="6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akończenie sesji -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440000" y="334764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SMTP w PH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3441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HP funkcja 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o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 string $to , string $subject , string $message [, string $additional_headers [, string $additional_parameters ]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09:29:28Z</dcterms:created>
  <dc:creator/>
  <dc:description/>
  <dc:language>en-US</dc:language>
  <cp:lastModifiedBy>Mac</cp:lastModifiedBy>
  <dcterms:modified xsi:type="dcterms:W3CDTF">2013-03-25T16:01:25Z</dcterms:modified>
  <cp:revision>52</cp:revision>
  <dc:subject/>
  <dc:title>Slajd 1</dc:title>
</cp:coreProperties>
</file>