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D4733-33C2-470E-8982-B5004DB5FEA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6D051-2F93-4429-93CB-7B91B2A3F1D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łowa wstę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2AA3A-40E4-4621-A587-62E891496F5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eżeli klucz w sesji istnieje, a my dodamy od niego nowe dane, zostanie on nadpisany. Tablica sesji działa dokładnie tak jak inne tablice w języku PH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E9D42-C2BB-4443-A861-2FD61E2005C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kcja session_destroy usuwa tylko bieżące dane skojarzone z sesją. Nie usuwa jednak sesji, której identyfikator przechowywany jest w ciasteczku ses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ED088-07B2-488B-AC41-25E11555B0E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zwa sesji jest obok identyfikatora, jest używana do identyfikacji sesji. Funkcja session_name podobnie jak funkcja session_id, służy albo do zwracania nazwy sesji albo do zmieniania jej nazwy. Podobnie jak session_id musi być wywołana przed funkcją session_st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BC78F-856F-4B3D-BF01-246B7282BCF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by usunąć sesje całkowicie, należy usunąć ciasteczko z jej nazwą, które jest przechowywane po stronie użytkownika. Pierw należy sprawdzi, czy takowe istnieje, a następnie należy je usunąć, metodą podaną w poprzedniej lek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D45B1-58DC-48FB-AE96-20913643FF9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by usunąć wszystkie dane ustawione w sesji kiedykolwiek, należy zastosować funkcję session_uns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by usunąć konkretną zmienną należy użyć drugiej konstruk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D79A8-CFB6-422D-94DF-D591B8DB2DB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ykonać ćwiczenie, na następnej stronie znajduje się rozwiązanie ćwiczenia, nie pokazywać dopóki studenci nie skończ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58EFF-FB33-4E11-8A11-BD1434C3A9C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 pierwszej kolejności inicjalizujemy sesję. Następnie ustawiamy zmienną $_SESSION[‘name’] na nasze imię oraz wyświetlamy j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lejnym krokiem jest nadpisanie zmiennej naszym nazwiskiem oraz wyświetlenie j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7BD91-2F2B-4D57-B5BF-7973A70BE05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zęść końcową naszego skryptu rozpoczyna usunięcie zmiennych z sesji oraz zniszczenie ciasteczka z jej identyfikato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2AFB0-51EF-4597-BEEB-DCC26BBCA19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ykonać ćwiczenie, na następnej stronie znajduje się rozwiązanie ćwiczenia, nie pokazywać dopóki studenci nie skończ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8C366-EC05-4134-A8F9-65CFD58C020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 pierwszej kolejności potrzebujemy adres url naszej strony, będzie nam on potrzebny do zerowania licznik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3E404-0CCF-4E79-9A34-8FB32D3F709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sja HTTP to mechanizm przechowywania danych po stronie serwera. Parametry sesji takie jak np. czas trwania sesji, znajdują się w pliku konfiguracyjnym serwera. W przeciwieństwie do mechanizmu ciasteczek znanego z poprzedniej lekcji. Sesje są niezależne od klienta, dzięki czemu dają programiście większą kontrolę nad danymi w nich przechowywanymi. Każda sesja posiada swój identyfikator, który jest unikatowy i jeden dla każdego klienta. Klientem w rozumieniu sesji jest np. przeglądarka, a nie adres komputera osoby z niej korzystającej. Konsekwencją tego jest tworzenie kilku sesji, dla jednego adresu komputera, w przypadku np. zalogowania się z różnych przeglądarek, czyli możliwość wielokrotnego logowania się na np. jedno konto, w przypadku nie zaimplementowanej możliwości jednokrotnego dostępu z poziomu jednego kon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2A73C-8996-450B-8171-2C25A6BB328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stępnie czyścimy z niego zmienne z tablicy $_GET, w przeciwnym wypadku zerowalibyśmy licznik za każdym razem. Kolejną rzeczą jest implementacja samego mechanizmu zliczającego i przechowującego dane w ses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AF06E-A42A-4913-8109-2C64C8B7884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 koniec potrzebna jest nam akcja, która w związku ze zmienną $_GET wyczyści nam licznik i odświeży stronę. Kolejną rzeczą jest wyświetlenie naszego licznika oraz linku do jego zerow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EB853-E35D-40B0-A13F-5E6E9D247F4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sje HTTP służą głównie do systemów logowania oraz przechowywania danych globalnych lub konfiguracyjnych. Są bezpieczniejsze od ciasteczek jeśli chodzi przechowywanie danych ze względu na ich umiejscowienie(serwer). Opierają się jednak o system ciasteczek, co może spowodować brak możliwości dostania się do odpowiedniej ses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7BC33-C434-4B42-952B-0184BF7F7A0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331FD-77BA-479C-8670-D3F58BBDC62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sje w przeciwieństwie do ciasteczek, są mechanizmem bardziej rozbudowanym. Podobnie jak ciasteczka posiadają tablicę superglobalną, dostępną w każdym miejscu aplikacji PHP. Dane z sesji są dostępne w skrypcie od razu po ich stworzeniu(ustawieniu), nie ma potrzeby odświeżania strony, żeby korzystać z sesji trzeba ją jednak najpierw otworzyć lub stworzyć, możemy ją również zamknąć wedle naszej potrzeb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4099D-91C8-4A46-B36E-B412FBF8355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by, zainicjalizować sesje, używamy funkcji ‘session_start’, zwraca ona zawsze wartość true i nie przyjmuje żadnych argumentów. Aby pobrać stan sesji stosujemy funkcje ‘session_status’, zwraca 0 jeżeli sesje są wyłączone po stronie serwera, 1 jeżeli sesja nie istnieje lub jest nieaktywna bądź, 2 jeżeli istniej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0FA93-2493-4D75-9586-BAEC73BA410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kcja session_id(), zwraca nam identyfikator obecnej sesji lub jeżeli dostanie identyfikator jako parametr, ustawia identyfikator sesji, w tym przypadku należy ją wywołać przed funkcją session_start. Kolejna funkcja zastępuje obecny identyfikator sesji, nowym, a argument decyduje o tym, czy usunąć zmienianą sesję, czy n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8A470-70CB-4719-A299-63A61F29B60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by, zainicjalizować sesje, używamy funkcji ‘session_start’, zwraca ona zawsze wartość true i nie przyjmuje żadnych argumentów. Aby pobrać stan sesji stosujemy funkcje ‘session_status’, zwraca 0 jeżeli sesje są wyłączone po stronie serwera, 1 jeżeli sesja nie istnieje lub jest nieaktywna bądź, 2 jeżeli istniej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D1CBC-6118-4202-8E73-A0C9D998DC5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ykonać ćwiczenie, na następnej stronie znajduje się rozwiązanie ćwiczenia, nie pokazywać dopóki studenci nie skończ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18211-D461-41EB-8192-587D87B7B5F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 pierwszej kolejności ustalamy nazwę sesji na nasze imię. Następnie sprawdzamy czy sesja istnieje, jeżeli nie istnieje tworzymy nową lub startujemy wcześniej utworzoną. Na koniec wypisujemy identyfikator ses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E258E-8F1F-40D4-972C-B1AA879C4F7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by dodać dane do wcześniej rozpoczętej sesji, należy użyć drugiej metody ze slajdu. Pierwsza metoda jest przestarzała i niepoprawna w najnowszej implementacji PHP, działa w wersji PHP &lt; 5.4. Wartości zapisujemy operując bezpośrednio na superglobalnej tablicy ses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44A9-3F80-49B9-AEE1-3B39AC5C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0DD-EA93-4D08-9E8E-7FCFCF59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C848-F14D-4938-830C-12368A43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08E9-3EFF-465A-B38F-5CCD0E73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1E8A-92BF-4D1D-87A9-2328E29C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F10-6953-47FE-AD56-66418730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98F-C261-45CE-AB00-87891053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A467-25A6-4E73-94D1-9DA4C27E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B061-6BBB-4047-896F-93963BA5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D29E-C3A9-45F3-86A2-FA9D8FC1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1A98-E5DB-4A53-87D0-8A8C815A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D68F-EB3D-454F-AD0E-63CE7160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C031CA-1B77-4878-8965-D5BA38C2177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1440000" y="1044720"/>
            <a:ext cx="813564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- poziom średnio zaawansow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Lekcja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esje - współdzielenie inform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a 3"/>
          <p:cNvGrpSpPr/>
          <p:nvPr/>
        </p:nvGrpSpPr>
        <p:grpSpPr>
          <a:xfrm>
            <a:off x="2664000" y="5541840"/>
            <a:ext cx="5689440" cy="974880"/>
            <a:chOff x="2664000" y="5541840"/>
            <a:chExt cx="5689440" cy="974880"/>
          </a:xfrm>
        </p:grpSpPr>
        <p:sp>
          <p:nvSpPr>
            <p:cNvPr id="51" name="Shape 24"/>
            <p:cNvSpPr/>
            <p:nvPr/>
          </p:nvSpPr>
          <p:spPr>
            <a:xfrm>
              <a:off x="2664000" y="5541840"/>
              <a:ext cx="568944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złowiek - najlepsza inwestycj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rojekt współfinansowany przez Unię Europejską w ramach Europejskiego Funduszu Społeczne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Obraz 5" descr="KAPITAL_LUDZKI"/>
            <p:cNvPicPr/>
            <p:nvPr/>
          </p:nvPicPr>
          <p:blipFill>
            <a:blip r:embed="rId1"/>
            <a:stretch/>
          </p:blipFill>
          <p:spPr>
            <a:xfrm>
              <a:off x="2947320" y="5652000"/>
              <a:ext cx="122868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Obraz 6" descr="UE+EFS_L-kolor"/>
            <p:cNvPicPr/>
            <p:nvPr/>
          </p:nvPicPr>
          <p:blipFill>
            <a:blip r:embed="rId2"/>
            <a:stretch/>
          </p:blipFill>
          <p:spPr>
            <a:xfrm>
              <a:off x="7057080" y="5724000"/>
              <a:ext cx="1123920" cy="428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dpisywanie danych w ses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$_SESSION[‘key’] = $valu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Usuwanie bieżących danych ses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ession_destroy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zwa ses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tring 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session_nam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 ([ string $nazwa 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Usuwanie ses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f (isset($_COOKIE[session_name()])) {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tcookie(session_name(), '', time()-42000, '/'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Usuwanie danych z ses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ession_unset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unset($_SESSION[‘key’]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Ćwiczenie – tworzenie ses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leży przygotować skrypt, który zapisze w sesji nasze imię oraz wyświetli  ‘Hello, nasze_imie’ z sesji. Następnie zapisze do poprzednie zmienne nazwisko i wyświetli ‘Hello, nasze_nazwisko’. Na końcu usunie całą sesj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5000"/>
          </a:bodyPr>
          <a:p>
            <a:pPr marL="4100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Rozwiązanie cz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?ph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f(session_id() == '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ssion_star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f(!isset($_SESSION['name']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$_SESSION['name'] = 'Filip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cho 'Hello, ' . $_SESSION['name'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$_SESSION['name'] = 'Kowalski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cho '&lt;br /&gt;Hello, ' . $_SESSION['name'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Rozwiązanie cz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ssion_unset()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f (isset($_COOKIE[session_name()])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tcookie(session_name(), '', time()-42000, '/'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Ćwiczenie – tworzenie ses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pisz skrypt, który będzie zliczał i wyświetlał wizyty na stronie. Dane musi przechowywać w tablicy sesji. Korzystając z tablicy $_GET oraz funkcji header do naszego licznika dodajmy link, który go zer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468440" y="1707840"/>
            <a:ext cx="82072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Rozwiąza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?ph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$url = (@$_SERVER["HTTPS"] == "on") ? "https://" : "http://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f ($_SERVER["SERVER_PORT"] != "80"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$url .= $_SERVER["SERVER_NAME"].":".$_SERVER["SERVER_PORT"].$_SERVER["REQUEST_URI"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$url .= $_SERVER["SERVER_NAME"].$_SERVER["REQUEST_URI"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Session – czyli Sesje HT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zym jest Sesja HTT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 czym polega mechanizm Sesji internetow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Rozwiąza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$url = str_replace('?clear=1', '', $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f(session_id() == '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ssion_star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f(!isset($_SESSION['count']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$_SESSION['count'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$_SESSION['count'] = $_SESSION['count']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Rozwiąza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f(isset($_GET['clear']) and $_GET['clear']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$_SESSION['count'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eader('Location: ' . $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cho 'Odwiedzasz nas ' . $_SESSION['count'] . ' raz!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cho '&lt;br /&gt;&lt;a href="?clear=1"&gt;Zeruj&lt;/a&gt;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dsumowa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 czego stosować sesje internetow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79640" y="3384360"/>
            <a:ext cx="820728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ziękujemy za uwag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Sesje w PH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uperglobalna tablica $_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twieranie i zamykanie ses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Inicjalizacja ses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bool session_star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ession_statu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Identyfikator ses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tring session_id([string $id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 session_regenerate_id ([ bool $usunięcie_starej_sesji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 = fa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Zamykanie ses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bool session_star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ession_statu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Ćwiczenie – tworzenie ses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pisz skrypt, który stworzy nową sesję oraz wyświetli jej identyfikator, którym będzie Twoje imię(nie stosuj polskich znaków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Rozwiąza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&lt;?ph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ssion_id('Filip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f(session_id() == ''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ssion_start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cho session_id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odawanie danych do ses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ession_register (stara meto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$_SESSION[‘key’] = $valu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09:29:28Z</dcterms:created>
  <dc:creator/>
  <dc:description/>
  <dc:language>en-US</dc:language>
  <cp:lastModifiedBy>Mac</cp:lastModifiedBy>
  <dcterms:modified xsi:type="dcterms:W3CDTF">2013-03-25T16:01:08Z</dcterms:modified>
  <cp:revision>51</cp:revision>
  <dc:subject/>
  <dc:title>Slajd 1</dc:title>
</cp:coreProperties>
</file>