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3172C5-9E39-43B1-9E9D-63A644B0C35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83B073-B623-4CE9-BA3E-818EC1D2B90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2" name="PlaceHolder 1"/>
          <p:cNvSpPr>
            <a:spLocks noGrp="1"/>
          </p:cNvSpPr>
          <p:nvPr>
            <p:ph type="sldImg"/>
          </p:nvPr>
        </p:nvSpPr>
        <p:spPr>
          <a:xfrm>
            <a:off x="1106640" y="812880"/>
            <a:ext cx="5344920" cy="4008240"/>
          </a:xfrm>
          <a:prstGeom prst="rect">
            <a:avLst/>
          </a:prstGeom>
          <a:ln w="0">
            <a:noFill/>
          </a:ln>
        </p:spPr>
      </p:sp>
      <p:sp>
        <p:nvSpPr>
          <p:cNvPr id="1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2566D4-E866-41C5-A5DB-412F84BFE99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 na następnej stronie znajduje się rozwiązanie ćwiczenia, nie pokazywać dopóki studenci nie skończą.</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7A6AAB-41E9-4900-AC3B-7843B9F134F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sprawdzamy, czy ciasteczko istnieje, aby następnie ustawić jego datę ważności na godzinę wstec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jeżeli istnieje, wypisujemy ‘Hello, ciastko’, bądź jeżeli je usuneliśmy tylko ‘Hell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827BC-3035-4B26-9B60-0D19B3C56BD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krypty PHP wykonywane są po stronie serwera w wyniku zgłoszenia żądanie HTTP w którym wysyłamy ciasteczka dla danego serwera. Przy pierwszym żądaniu serwer otrzymuje stan ciasteczek z poprzedniego żądania, następnie wykonuje skrypt w którym ustawia ciastko. Wysyła odpowiedź HTTP z nowo ustawionym ciastkiem. Dopiero w drugim żądaniu otrzymuje ciastko ustawione w pierwszym żądaniu i może je przetworzyć.</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3588E-62D7-4357-87B6-C1C8B593B2C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12880"/>
            <a:ext cx="534492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 na następnej stronie znajduje się rozwiązanie ćwiczenia, nie pokazywać dopóki studenci nie skończą.</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AC9F3-2699-4E66-823B-80AE01A5A9F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ciastko licznika nie istnieje ustawiamy je na dwa, ponieważ, zostanie wyświetlone dopiero przy następnej wizycie i wyświetlamy ciąg znaków z wyrażenia warunkowe po ‘else’. W przypadku gdy ciastku jest już ustawione, wyświetlamy jego wartość i zwiększamy o jeden. Kolejność nie ma znaczenia, gdyż jak wcześniej wspomniano ustawione zostanie ono dopiero w odpowiedz HTTP po stronie klienta, aby zostać wysłane przy kolejnym żądaniu HTT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49A2AF-E384-4927-BF3E-91E4FC0BBA7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96C86-8690-4D1B-8E37-9EB9537EB92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984FF0-2236-4A78-865F-F7D3E49787D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74CDA7-F09F-4F16-AD23-A37534BCA72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6981CC-86F7-4AEE-B35A-14424647E23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iasteczka ułatwiają życie zarówno użytkownikowi, programiście oraz właścicielowi portalu. W niektórych kwestiach warto je stosować np. statystykach, autouzupełnianiu formularzy, kampaniach reklamowych czy jeżeli używamy szyfrowania np. SSL również do autoryzacj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51D706-DAF5-4DA8-A24C-ADAD9DC7500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chanizm ciasteczek został wymyślony przez pracownika firmy Netscape Communic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iasteczko to niewielka porcja danych wysyłana przez serwer WWW i zapisywana w danych przeglądarki po stronie klienta. Dostęp do nich ma tylko serwer, który je wysłał, czyli mówiąc prosto każda domena ma swoje własne ciasteczka po stronie klienta, o ile mechanizm jest włączony i ciasteczka dla konkretnego adresu są akceptowane. Obecnie wykorzystuje się je głównie do prowadzenia statystyk, bądź zliczania wyświetleń rekla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D9515-2EEF-4214-97B1-9978B390801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061900-3C35-407C-AB70-DD373909825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szystkie ciasteczka dla danej domeny przechowywane są w superglobalnej tablicy $_COOKIE. PHP udostępnia kilka funkcji pomocniczych do mechanizmu ciasteczek np. setcook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FD9961-9F90-40B7-9DFC-AE6A644EBB0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iasteczko ustawiamy(tworzymy) używając funkcji setcookie lub analogicznej funkcji setrawcookie, które różnią się tylko tym, że setrawcookie nie używa automatycznego enkodowania adresu url. Wymagany jest pierwszy paramter, czyli nazwa ciasteczka. Pozostałe parametry są opcjonalne, dlatego umieszczone w nawiasach kwadratowych. Drugim parametrem jest wartość ciasteczka. Kolejnym data w do której ciasteczko jest ważne w formacie Unixowym, czyli daty i czasu skonwertowanego do liczby całkowitej.Czwartym parametrem jest ścieżka pod która ciasteczka mają być dostępne np. /, pozwala na dostęp w dowolnej ścieżce. Piątym parametrem jest nazwa domeny, która ogranicza dostęp do ciasteczka dla domen zewnętrznych, najbardziej zewnętrzną domeną, która pozwala na dostęp dla całej witryny jest np. nazwa_domeny.pl. Wszystkie domeny wewnętrzne np. www.nazwa_domeny.pl, będą miały dostęp do ciasteczek. Następne parametry określają dostęp do ciasteczka ze względu na używany prookół. Secure mówi, że ciasteczko będzie tylko dostępne jeżeli ustawione jest połączenie HTTPS., a httponly, że jest doestępne tylko za pomocą protokołu HTTP. Funkcja zwraca true(prawdę), jeżeli ciasteczko zostało ustawione, false(fałsz) w przeciwnym wypadk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3E6B1-CFC1-4A11-A328-C737CB266A7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dczyt ciasteczek jest o wiele prostszy, niż ich tworzenie. Posługujemy się tablicą $_COOKIES oraz nazwą ciasteczka. Z racji możliwości kasowania ciasteczek przez użytkowników, należy się upewnić, że owe ciasteczko istnieje, możemy wykorzystać do tego funkcje iss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4AF1E6-FE79-4874-B692-3007FBF8AE3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 na następnej stronie znajduje się rozwiązanie ćwiczenia, nie pokazywać dopóki studenci nie skończą.</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7E4EE-CEE9-4339-BA0B-2642BC8E590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sprawdzamy, czy ciasteczko istnieje, jeżeli nie to je tworzymy. Następnie jeżeli ciastko istnieje i nie jest puste wypisujemy ‘Hello, imię’, a jeżeli istnieje i jest puste wypisujemy tylko ‘Hell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3E0B9-C589-46EE-B910-E59E8C4F0EB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prawdzenie istnienie ciasteczka za pomocą funkcji ‘isset’, jest rzeczą istotna, ponieważ jeżeli ustawimy ciasteczko o nazwie istniejącego ciasteczko, zostanie ono nadpisane nowym. Mechanizm ten jest wykorzystywany z tym, że dobrze rozumieć jak to działa, ze względu na możliwe problemy w aplikacjac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19AC4-D67B-4E3E-B04E-54EA73499C9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 usuwania ciasteczek najczęściej stosuje się mechanizm nadpisywania, ponieważ ciasteczka, których okres ważności się skończył, są usuwane. W powyższym przykładzie ustawiliśmy ważność ciasteczka na czas obecny minus 3600 sekund, czyli na godzinę wstecz.</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C785D-070A-43A8-B754-B96DFF924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90E33-6CD1-40A3-AC7E-37F76B43A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DF3DC-5A86-4E84-AD07-6D2CB32BF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7E962-9A95-4E05-933B-343DB54E8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7018-AC72-420C-9054-CCCE0929B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C2677-4080-47D0-A554-24D918CE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0290-2B8B-4292-9951-F38F02D9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20040-5906-4116-BA98-2DBEC62AC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F24F2-6C0C-4DB4-BFA7-0750354C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D1423-206E-40A7-8F12-E08148A5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DF57-7A46-4917-851F-8194C5C1D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CF3E-C198-4B4F-A0BB-D2BDC040F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7A0BED9-0AC8-4996-8815-FD4FC98CD0F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4</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Cookie - informacje o użytkowniku</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grpSp>
        <p:nvGrpSpPr>
          <p:cNvPr id="50" name="Grupa 3"/>
          <p:cNvGrpSpPr/>
          <p:nvPr/>
        </p:nvGrpSpPr>
        <p:grpSpPr>
          <a:xfrm>
            <a:off x="2664000" y="5541840"/>
            <a:ext cx="5689440" cy="974880"/>
            <a:chOff x="2664000" y="5541840"/>
            <a:chExt cx="5689440" cy="974880"/>
          </a:xfrm>
        </p:grpSpPr>
        <p:sp>
          <p:nvSpPr>
            <p:cNvPr id="51" name="Shape 24"/>
            <p:cNvSpPr/>
            <p:nvPr/>
          </p:nvSpPr>
          <p:spPr>
            <a:xfrm>
              <a:off x="2664000" y="5541840"/>
              <a:ext cx="5689440" cy="974880"/>
            </a:xfrm>
            <a:prstGeom prst="rect">
              <a:avLst/>
            </a:prstGeom>
            <a:noFill/>
            <a:ln w="0">
              <a:noFill/>
            </a:ln>
          </p:spPr>
          <p:style>
            <a:lnRef idx="0"/>
            <a:fillRef idx="0"/>
            <a:effectRef idx="0"/>
            <a:fontRef idx="minor"/>
          </p:style>
          <p:txBody>
            <a:bodyPr tIns="91440" bIns="9144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Człowiek - najlepsza inwestycja</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Projekt współfinansowany przez Unię Europejską w ramach Europejskiego Funduszu Społecznego</a:t>
              </a:r>
              <a:endParaRPr b="0" lang="en-US" sz="1000" spc="-1" strike="noStrike">
                <a:solidFill>
                  <a:srgbClr val="000000"/>
                </a:solidFill>
                <a:latin typeface="Arial"/>
              </a:endParaRPr>
            </a:p>
          </p:txBody>
        </p:sp>
        <p:pic>
          <p:nvPicPr>
            <p:cNvPr id="52" name="Obraz 5" descr="KAPITAL_LUDZKI"/>
            <p:cNvPicPr/>
            <p:nvPr/>
          </p:nvPicPr>
          <p:blipFill>
            <a:blip r:embed="rId1"/>
            <a:stretch/>
          </p:blipFill>
          <p:spPr>
            <a:xfrm>
              <a:off x="2947320" y="5652000"/>
              <a:ext cx="1228680" cy="590760"/>
            </a:xfrm>
            <a:prstGeom prst="rect">
              <a:avLst/>
            </a:prstGeom>
            <a:ln w="0">
              <a:noFill/>
            </a:ln>
          </p:spPr>
        </p:pic>
        <p:pic>
          <p:nvPicPr>
            <p:cNvPr id="53" name="Obraz 6" descr="UE+EFS_L-kolor"/>
            <p:cNvPicPr/>
            <p:nvPr/>
          </p:nvPicPr>
          <p:blipFill>
            <a:blip r:embed="rId2"/>
            <a:stretch/>
          </p:blipFill>
          <p:spPr>
            <a:xfrm>
              <a:off x="7057080" y="5724000"/>
              <a:ext cx="1123920" cy="428760"/>
            </a:xfrm>
            <a:prstGeom prst="rect">
              <a:avLst/>
            </a:prstGeom>
            <a:ln w="0">
              <a:noFill/>
            </a:ln>
          </p:spPr>
        </p:pic>
      </p:gr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ąc skrypt napisany w poprzednim ćwiczeniu, usunąć ciasteczko i zmodyfikować skrypt w taki sposób, aby nie ustawiać ponownie ciasteczka. Odświeżyć przeglądarkę dwa raz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lt;?php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if(isset($_COOKIE['nam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	</a:t>
            </a:r>
            <a:r>
              <a:rPr b="0" i="1" lang="pl-PL" sz="2000" spc="-1" strike="noStrike">
                <a:solidFill>
                  <a:srgbClr val="000000"/>
                </a:solidFill>
                <a:latin typeface="Arial"/>
              </a:rPr>
              <a:t>setcookie('name', '', time() - 3600);</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if(isset($_COOKIE['name']) and !empty($_COOKIE['nam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	</a:t>
            </a:r>
            <a:r>
              <a:rPr b="0" i="1" lang="pl-PL" sz="2000" spc="-1" strike="noStrike">
                <a:solidFill>
                  <a:srgbClr val="000000"/>
                </a:solidFill>
                <a:latin typeface="Arial"/>
              </a:rPr>
              <a:t>echo 'Hello, ' . $_COOKIE['name'] .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els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	</a:t>
            </a:r>
            <a:r>
              <a:rPr b="0" i="1" lang="pl-PL" sz="2000" spc="-1" strike="noStrike">
                <a:solidFill>
                  <a:srgbClr val="000000"/>
                </a:solidFill>
                <a:latin typeface="Arial"/>
              </a:rPr>
              <a:t>echo 'Hello!';</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laczego odświeżamy przeglądarkę dwa razy?</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stawiamy ciastko</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bieramy ciastko</a:t>
            </a:r>
            <a:endParaRPr b="0" lang="en-US" sz="2800" spc="-1" strike="noStrike">
              <a:solidFill>
                <a:srgbClr val="000000"/>
              </a:solidFill>
              <a:latin typeface="Arial"/>
            </a:endParaRPr>
          </a:p>
        </p:txBody>
      </p:sp>
      <p:sp>
        <p:nvSpPr>
          <p:cNvPr id="8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 przykładowe zastosowani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ąc wiedzę z poprzednich slajdów i ćwiczeń. Napisać licznik odwiedzin, wykorzystujący mechanizm ciasteczek.</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8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468440" y="1565280"/>
            <a:ext cx="8207280" cy="49291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lt;?php </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if(!isset($_COOKIE['counter']))</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	</a:t>
            </a:r>
            <a:r>
              <a:rPr b="0" i="1" lang="pl-PL" sz="1800" spc="-1" strike="noStrike">
                <a:solidFill>
                  <a:srgbClr val="000000"/>
                </a:solidFill>
                <a:latin typeface="Arial"/>
              </a:rPr>
              <a:t>setcookie('counter', 2);</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if(isset($_COOKIE['counter'])){</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	</a:t>
            </a:r>
            <a:r>
              <a:rPr b="0" i="1" lang="pl-PL" sz="1800" spc="-1" strike="noStrike">
                <a:solidFill>
                  <a:srgbClr val="000000"/>
                </a:solidFill>
                <a:latin typeface="Arial"/>
              </a:rPr>
              <a:t>setcookie('counter', $_COOKIE['counter'] + 1);</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	</a:t>
            </a:r>
            <a:r>
              <a:rPr b="0" i="1" lang="pl-PL" sz="1800" spc="-1" strike="noStrike">
                <a:solidFill>
                  <a:srgbClr val="000000"/>
                </a:solidFill>
                <a:latin typeface="Arial"/>
              </a:rPr>
              <a:t>echo 'Odwiedzasz stronę ' . $_COOKIE['counter'] . ' raz!';</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 else {</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	</a:t>
            </a:r>
            <a:r>
              <a:rPr b="0" i="1" lang="pl-PL" sz="1800" spc="-1" strike="noStrike">
                <a:solidFill>
                  <a:srgbClr val="000000"/>
                </a:solidFill>
                <a:latin typeface="Arial"/>
              </a:rPr>
              <a:t>echo 'Odwiedzasz stronę 1 raz!';</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	</a:t>
            </a:r>
            <a:r>
              <a:rPr b="0" i="1" lang="pl-PL" sz="1800" spc="-1" strike="noStrike">
                <a:solidFill>
                  <a:srgbClr val="000000"/>
                </a:solidFill>
                <a:latin typeface="Arial"/>
              </a:rPr>
              <a:t>?&gt;</a:t>
            </a:r>
            <a:endParaRPr b="0" lang="en-US" sz="1800" spc="-1" strike="noStrike">
              <a:solidFill>
                <a:srgbClr val="000000"/>
              </a:solidFill>
              <a:latin typeface="Arial"/>
            </a:endParaRPr>
          </a:p>
        </p:txBody>
      </p:sp>
      <p:sp>
        <p:nvSpPr>
          <p:cNvPr id="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Zalety ciasteczek</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ywatność - są dostępne tylko dla użytkownika w jego przeglądarce i nikt z zewnątrz nie ma do nich dostępu</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a na nie bezpośredni wpływ, co może być również wadą, ale w niektórych przypadkach jest zdecydowanie zaletą np. możliwość ich blokowania dla konkretnych stron</a:t>
            </a:r>
            <a:endParaRPr b="0" lang="en-US" sz="2800" spc="-1" strike="noStrike">
              <a:solidFill>
                <a:srgbClr val="000000"/>
              </a:solidFill>
              <a:latin typeface="Arial"/>
            </a:endParaRPr>
          </a:p>
        </p:txBody>
      </p:sp>
      <p:sp>
        <p:nvSpPr>
          <p:cNvPr id="9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Zalety ciasteczek</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Łatwość w ich obsłudze z poziomu języka PHP</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łatwienia dla użytkownika, np. nie musi wypełniać formularza, kolejny raz</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ożliwość tworzenia efektywnych kampanii reklamowych oraz prowadzenia statystyk (zaleta dla właściciela portalu)</a:t>
            </a:r>
            <a:endParaRPr b="0" lang="en-US" sz="2800" spc="-1" strike="noStrike">
              <a:solidFill>
                <a:srgbClr val="000000"/>
              </a:solidFill>
              <a:latin typeface="Arial"/>
            </a:endParaRPr>
          </a:p>
        </p:txBody>
      </p:sp>
      <p:sp>
        <p:nvSpPr>
          <p:cNvPr id="9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ady ciasteczek</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iasteczka muszą być dołożone do każdego żądania HTTP</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ają ograniczony rozmiar z góry przez przeglądarkę</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Bez użycia HTTPS są widoczne i niezaszyfrowane w przeglądarc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oże zmieniać dane w nich zawarte</a:t>
            </a:r>
            <a:endParaRPr b="0" lang="en-US" sz="2800" spc="-1" strike="noStrike">
              <a:solidFill>
                <a:srgbClr val="000000"/>
              </a:solidFill>
              <a:latin typeface="Arial"/>
            </a:endParaRPr>
          </a:p>
        </p:txBody>
      </p:sp>
      <p:sp>
        <p:nvSpPr>
          <p:cNvPr id="10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ady ciasteczek</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oże je usunąć</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oże zablokować ciasteczk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Zależą od przeglądarki, czyli ich bezpieczeństwo zależy od konkretnej implementacji, czasami wadliwej, wykazano luki w niektórych przeglądarkach</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10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odsumowanie </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 warto je stosować?</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warto je stosować?</a:t>
            </a:r>
            <a:endParaRPr b="0" lang="en-US" sz="2800" spc="-1" strike="noStrike">
              <a:solidFill>
                <a:srgbClr val="000000"/>
              </a:solidFill>
              <a:latin typeface="Arial"/>
            </a:endParaRPr>
          </a:p>
        </p:txBody>
      </p:sp>
      <p:sp>
        <p:nvSpPr>
          <p:cNvPr id="10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Cookies - ciasteczka</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istori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m jest mechanizm ciasteczek?</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0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Cookies w PH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Gdzie można je znaleźć – tablica </a:t>
            </a:r>
            <a:r>
              <a:rPr b="0" i="1" lang="pl-PL" sz="2800" spc="-1" strike="noStrike">
                <a:solidFill>
                  <a:srgbClr val="000000"/>
                </a:solidFill>
                <a:latin typeface="Arial"/>
              </a:rPr>
              <a:t>$_COOKIE</a:t>
            </a:r>
            <a:r>
              <a:rPr b="0" lang="pl-PL" sz="2800" spc="-1" strike="noStrike">
                <a:solidFill>
                  <a:srgbClr val="000000"/>
                </a:solidFill>
                <a:latin typeface="Arial"/>
              </a:rPr>
              <a: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Jak z nich korzystać?</a:t>
            </a:r>
            <a:endParaRPr b="0" lang="en-US" sz="2800" spc="-1" strike="noStrike">
              <a:solidFill>
                <a:srgbClr val="000000"/>
              </a:solidFill>
              <a:latin typeface="Arial"/>
            </a:endParaRPr>
          </a:p>
        </p:txBody>
      </p:sp>
      <p:sp>
        <p:nvSpPr>
          <p:cNvPr id="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et Cookie – Tworzymy ciasteczko</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Arial"/>
              </a:rPr>
              <a:t>bool </a:t>
            </a:r>
            <a:r>
              <a:rPr b="1" lang="en-US" sz="2400" spc="-1" strike="noStrike">
                <a:solidFill>
                  <a:srgbClr val="000000"/>
                </a:solidFill>
                <a:latin typeface="Arial"/>
              </a:rPr>
              <a:t>setcookie</a:t>
            </a:r>
            <a:r>
              <a:rPr b="0" lang="en-US" sz="2400" spc="-1" strike="noStrike">
                <a:solidFill>
                  <a:srgbClr val="000000"/>
                </a:solidFill>
                <a:latin typeface="Arial"/>
              </a:rPr>
              <a:t> ( string $name [, string $value [, int $expire</a:t>
            </a:r>
            <a:r>
              <a:rPr b="0" i="1" lang="en-US" sz="2400" spc="-1" strike="noStrike">
                <a:solidFill>
                  <a:srgbClr val="000000"/>
                </a:solidFill>
                <a:latin typeface="Arial"/>
              </a:rPr>
              <a:t> = 0</a:t>
            </a:r>
            <a:r>
              <a:rPr b="0" lang="en-US" sz="2400" spc="-1" strike="noStrike">
                <a:solidFill>
                  <a:srgbClr val="000000"/>
                </a:solidFill>
                <a:latin typeface="Arial"/>
              </a:rPr>
              <a:t> [, string $path [, string $domain [, bool $secure</a:t>
            </a:r>
            <a:r>
              <a:rPr b="0" i="1" lang="en-US" sz="2400" spc="-1" strike="noStrike">
                <a:solidFill>
                  <a:srgbClr val="000000"/>
                </a:solidFill>
                <a:latin typeface="Arial"/>
              </a:rPr>
              <a:t> = false</a:t>
            </a:r>
            <a:r>
              <a:rPr b="0" lang="en-US" sz="2400" spc="-1" strike="noStrike">
                <a:solidFill>
                  <a:srgbClr val="000000"/>
                </a:solidFill>
                <a:latin typeface="Arial"/>
              </a:rPr>
              <a:t> [, bool $httponly</a:t>
            </a:r>
            <a:r>
              <a:rPr b="0" i="1" lang="en-US" sz="2400" spc="-1" strike="noStrike">
                <a:solidFill>
                  <a:srgbClr val="000000"/>
                </a:solidFill>
                <a:latin typeface="Arial"/>
              </a:rPr>
              <a:t> = false</a:t>
            </a:r>
            <a:r>
              <a:rPr b="0" lang="en-US" sz="2400" spc="-1" strike="noStrike">
                <a:solidFill>
                  <a:srgbClr val="000000"/>
                </a:solidFill>
                <a:latin typeface="Arial"/>
              </a:rPr>
              <a:t>]]]]]] )</a:t>
            </a:r>
            <a:endParaRPr b="0" lang="en-US" sz="2400" spc="-1" strike="noStrike">
              <a:solidFill>
                <a:srgbClr val="000000"/>
              </a:solidFill>
              <a:latin typeface="Arial"/>
            </a:endParaRPr>
          </a:p>
          <a:p>
            <a:pPr lvl="4"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Arial"/>
              </a:rPr>
              <a:t>bool </a:t>
            </a:r>
            <a:r>
              <a:rPr b="1" lang="en-US" sz="2400" spc="-1" strike="noStrike">
                <a:solidFill>
                  <a:srgbClr val="000000"/>
                </a:solidFill>
                <a:latin typeface="Arial"/>
              </a:rPr>
              <a:t>setrawcookie</a:t>
            </a:r>
            <a:r>
              <a:rPr b="0" lang="en-US" sz="2400" spc="-1" strike="noStrike">
                <a:solidFill>
                  <a:srgbClr val="000000"/>
                </a:solidFill>
                <a:latin typeface="Arial"/>
              </a:rPr>
              <a:t> ( string $name [, string $value [, int $expire</a:t>
            </a:r>
            <a:r>
              <a:rPr b="0" i="1" lang="en-US" sz="2400" spc="-1" strike="noStrike">
                <a:solidFill>
                  <a:srgbClr val="000000"/>
                </a:solidFill>
                <a:latin typeface="Arial"/>
              </a:rPr>
              <a:t> = 0</a:t>
            </a:r>
            <a:r>
              <a:rPr b="0" lang="en-US" sz="2400" spc="-1" strike="noStrike">
                <a:solidFill>
                  <a:srgbClr val="000000"/>
                </a:solidFill>
                <a:latin typeface="Arial"/>
              </a:rPr>
              <a:t> [, string $path [, string $domain [, bool $secure</a:t>
            </a:r>
            <a:r>
              <a:rPr b="0" i="1" lang="en-US" sz="2400" spc="-1" strike="noStrike">
                <a:solidFill>
                  <a:srgbClr val="000000"/>
                </a:solidFill>
                <a:latin typeface="Arial"/>
              </a:rPr>
              <a:t> = false</a:t>
            </a:r>
            <a:r>
              <a:rPr b="0" lang="en-US" sz="2400" spc="-1" strike="noStrike">
                <a:solidFill>
                  <a:srgbClr val="000000"/>
                </a:solidFill>
                <a:latin typeface="Arial"/>
              </a:rPr>
              <a:t> [, bool $httponly</a:t>
            </a:r>
            <a:r>
              <a:rPr b="0" i="1" lang="en-US" sz="2400" spc="-1" strike="noStrike">
                <a:solidFill>
                  <a:srgbClr val="000000"/>
                </a:solidFill>
                <a:latin typeface="Arial"/>
              </a:rPr>
              <a:t> = false</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ead Cookie – odczytujemy ciasteczko</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odczytu używamy tablicy oraz klucza(nazw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i="1" lang="pl-PL" sz="2800" spc="-1" strike="noStrike">
                <a:solidFill>
                  <a:srgbClr val="000000"/>
                </a:solidFill>
                <a:latin typeface="Arial"/>
              </a:rPr>
              <a:t>if(isset($_COOKIE[‘cookie_name’]))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800" spc="-1" strike="noStrike">
                <a:solidFill>
                  <a:srgbClr val="000000"/>
                </a:solidFill>
                <a:latin typeface="Arial"/>
              </a:rPr>
              <a:t>	</a:t>
            </a:r>
            <a:r>
              <a:rPr b="0" i="1" lang="pl-PL" sz="2800" spc="-1" strike="noStrike">
                <a:solidFill>
                  <a:srgbClr val="000000"/>
                </a:solidFill>
                <a:latin typeface="Arial"/>
              </a:rPr>
              <a:t>	</a:t>
            </a:r>
            <a:r>
              <a:rPr b="0" i="1" lang="pl-PL" sz="2800" spc="-1" strike="noStrike">
                <a:solidFill>
                  <a:srgbClr val="000000"/>
                </a:solidFill>
                <a:latin typeface="Arial"/>
              </a:rPr>
              <a:t>$cookie = $_COOKIE[‘cookie_name’];</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 usuwamy ciasteczko</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ąc funkcję setcookie ustaw ciasteczko o nazwie ‘name’, zawierające wartość Twojego imienia oraz następnie sprawdź czy istnieje jeżeli tak, wyświetl komunikat: Hello, ‘ciasteczko_z_imieniem’! (skrypt nazwij name.php) Jeżeli nie ma ciasteczka lub jest puste, wypisz tylko ‘Hello’. Odśwież stronę dwa raz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 i opis</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lt;?php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if(!isset($_COOKIE['nam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	</a:t>
            </a:r>
            <a:r>
              <a:rPr b="0" i="1" lang="pl-PL" sz="2000" spc="-1" strike="noStrike">
                <a:solidFill>
                  <a:srgbClr val="000000"/>
                </a:solidFill>
                <a:latin typeface="Arial"/>
              </a:rPr>
              <a:t>setcookie('name', 'Stefan');</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if(isset($_COOKIE['name']) and !empty($_COOKIE['nam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	</a:t>
            </a:r>
            <a:r>
              <a:rPr b="0" i="1" lang="pl-PL" sz="2000" spc="-1" strike="noStrike">
                <a:solidFill>
                  <a:srgbClr val="000000"/>
                </a:solidFill>
                <a:latin typeface="Arial"/>
              </a:rPr>
              <a:t>echo 'Hello, ' . $_COOKIE['name'] .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else</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	</a:t>
            </a:r>
            <a:r>
              <a:rPr b="0" i="1" lang="pl-PL" sz="2000" spc="-1" strike="noStrike">
                <a:solidFill>
                  <a:srgbClr val="000000"/>
                </a:solidFill>
                <a:latin typeface="Arial"/>
              </a:rPr>
              <a:t>echo 'Hello!';</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g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7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Overwrite Cookie – nadpisywanie ciasteczka</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nowne wywołanie funkcji setcookie, bez sprawdzenia, czy ciasteczko już istnieje</a:t>
            </a:r>
            <a:endParaRPr b="0" lang="en-US" sz="2800" spc="-1" strike="noStrike">
              <a:solidFill>
                <a:srgbClr val="000000"/>
              </a:solidFill>
              <a:latin typeface="Arial"/>
            </a:endParaRPr>
          </a:p>
        </p:txBody>
      </p:sp>
      <p:sp>
        <p:nvSpPr>
          <p:cNvPr id="7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elete Cookie – usuwanie ciasteczka</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800" spc="-1" strike="noStrike">
                <a:solidFill>
                  <a:srgbClr val="000000"/>
                </a:solidFill>
                <a:latin typeface="Arial"/>
              </a:rPr>
              <a:t>setcookie("hello", "", time()-3600);</a:t>
            </a:r>
            <a:endParaRPr b="0" lang="en-US" sz="2800" spc="-1" strike="noStrike">
              <a:solidFill>
                <a:srgbClr val="000000"/>
              </a:solidFill>
              <a:latin typeface="Arial"/>
            </a:endParaRPr>
          </a:p>
        </p:txBody>
      </p:sp>
      <p:sp>
        <p:nvSpPr>
          <p:cNvPr id="7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ac</cp:lastModifiedBy>
  <dcterms:modified xsi:type="dcterms:W3CDTF">2013-03-25T16:00:52Z</dcterms:modified>
  <cp:revision>52</cp:revision>
  <dc:subject/>
  <dc:title>Slajd 1</dc:title>
</cp:coreProperties>
</file>