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7E5CB6-2B31-498B-A47E-AAF1485F4CA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CFAD60-2045-46B2-A8CB-F97E1158C35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sldImg"/>
          </p:nvPr>
        </p:nvSpPr>
        <p:spPr>
          <a:xfrm>
            <a:off x="1106640" y="812880"/>
            <a:ext cx="5344920" cy="4008240"/>
          </a:xfrm>
          <a:prstGeom prst="rect">
            <a:avLst/>
          </a:prstGeom>
          <a:ln w="0">
            <a:noFill/>
          </a:ln>
        </p:spPr>
      </p:sp>
      <p:sp>
        <p:nvSpPr>
          <p:cNvPr id="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022C3-88CF-4D64-B3FD-D5304A2FDF8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chcemy używać naszego kodu wielokrotnie, a nie pracujemy samemu, bądź też chcemy udostępniać nasz kod dla innych programistów. Warto zadbać o dobre udokumentowanie kodu. Ułatwia ono i przyśpiesza pracę nie tylko innym, ale też nam samym, kiedy po dłuższym okresie sięgamy po nasz wcześniej napisany kod. Polecanym tutaj narzędziem jest phpDocumentator, który tworzy dokumentację automatycznie na podstawie specjalnych komentarzy zamieszczanych w skrypci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C2458-AE33-48CA-83FC-8D27F528A61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ystemy kontroli wersji lub w skrócie systemy wersjonowania, są to programy, które przechowują historię naszej pracy i ułatwiają pracę w większej grupie programistów. Do najbardziej popularnych należą tortoise subversion oraz git. Po napisaniu danego fragmentu aplikacji, możemy swobodnie wysłać ją na serwer i dołączyć do całości większej aplikacji, możemy także pobierać fragmenty napisane w przeszłości, czy przeglądać zmiany zrobione przez innych w naszym kodzie. Systemy te pozwalają także na tworzenie repozytoriów na serwerach i udostępnianie najnowszych wersji naszych bibliotek, czy też aplikacji inny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982B1-8289-44EC-92CB-5A0D21233AD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estowanie aplikacji to jedna z ważniejszych części programowania, mamy różne rodzaje testów np. integracyjne, wydajnościowe. Jeśli chodzi jednak o najczęściej przeprowadzane testy przez samych programistów, są to testy jednostkowe. Testy jednostkowe to testy poszczególnych metod, procedur, bądź obiektów. Z pomocą przy testowaniu przychodzi nam biblioteka automatyzująca testy jednostkowe phpUnit. Warto z niej korzystać, ponieważ zaoszczędzimy sporo prac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609BF-B54D-4E88-BAC0-2BD09F6FE55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jest językiem skryptowym, stąd też nie posiada instalatorów znanych nam z systemów operacyjnych w formie pliku wykonywalnego. Są jednak narzędzia np. Phing, które pomogą nam stworzyć instalator aplikacji. Phing jest narzędziem niezależnym od platformy, wzorowanym na java-owym ANT-cie. Reguły budowania określa się w pliku xml. Po zakończonym procesie możemy zainstalować naszą aplikację, korzystając przy tym np. z rozszerzenia PEA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69BC2-0E92-434F-B9D5-60DAD3B072C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prócz wcześniej wspomnianych mniejszych elementów jak biblioteki, przy tworzeniu nowej aplikacji, warto się zastanowić, czy jako podstawę do tworzenia, nie wykorzystać jakiegoś gotowego systemu, który jest udostępniany na otwartej licencji i rozwijany od wielu lat. Nasza część implementacji w tym momencie opiera się wtedy tylko, na dopisaniu odpowiednich wtyczek, komponentów, bloków lub modułów, w zależności od wybranego systemu. Wśród systemów zarządzania treścią mamy ogromny wybór, polecić tu jednak można system Joomla, czy Drupal, które należą do najbardziej rozbudowanych. Jeśli chodzi o fora internetowe napisane w języku PHP, szczególną popularnością cieszy się phpBB, z dużym wyborem darmowych szat graficznych i dodatków. Wordpress jest bezkonkurencyjnym systemem, jeśli chodzi o blogi internetowe, choć swój rozwój kieruje w stronę systemu CMS, pewnie z uwagi na prostotę i wygodę zarządzania tym systemem. Jeśli chodzi o darmowe sklepy wykonane w technologii PHP, z racji ogromnej ilości pluginów, warto polecic prestashop. Jeśli chodzi o platformy e-learningowe nie ma za dużego wyboru, zgodność ze standardami i wysoki poziom funkcjonalności, zapewnia tylko system Mood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337011-F7F7-40D7-8625-EE93872FC1B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8D3E8-069E-4A89-B31B-EFE25FFA645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PlaceHolder 1"/>
          <p:cNvSpPr>
            <a:spLocks noGrp="1"/>
          </p:cNvSpPr>
          <p:nvPr>
            <p:ph type="sldImg"/>
          </p:nvPr>
        </p:nvSpPr>
        <p:spPr>
          <a:xfrm>
            <a:off x="1106640" y="812880"/>
            <a:ext cx="5344920" cy="4008240"/>
          </a:xfrm>
          <a:prstGeom prst="rect">
            <a:avLst/>
          </a:prstGeom>
          <a:ln w="0">
            <a:noFill/>
          </a:ln>
        </p:spPr>
      </p:sp>
      <p:sp>
        <p:nvSpPr>
          <p:cNvPr id="10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jest językiem, w którym łatwo rozwiązuje się większość problemów. Jego prostota niesie jednak ze sobą poważną konsekwencję, kod który zaimplementowaliśmy, a który wymaga zmian jest niezrozumiały i wymaga przepisania od nowa, aby zawrzeć odpowiednie zmiany. Często też kod, który rozwiązuje podobny problem w innym projekcie, nie nadaje się do zastosowania. Należy zatem zadać sobie pytanie, czy powinniśmy po raz kolejny rozwiązywać ten sam problem, bądź też na nowo odkrywać koło, czyli pisać rzeczy, które mam w najlepszy i sprawdzony sposób zaimplementowane przez innych programistó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F5653-CEF6-4A88-9343-2B27B179A1E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EAR jest to system dystrybucji opensource’owych rozszerzeń języka PHP. Powstaje od roku 1999 i posiada wielką ilość zasobów, które ułatwiają nam pracę z językiem PHP. PECL to pierwotnie część PEAR, w przeciwieństwie do swojego rodzica, jest to repozytorium społeczności, a pakiety w nim zawarte, są pakietami nieoficjalnymi. Zanim napiszesz coś co już zostało napisane, zajrzyj do repozytorium, gdyż może to Ci pomóc zaoszczędzić mnóstwo czasu i dostarczyć źródło ze sprawdzonym rozwiązani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3B5B2-59DD-4AC5-B75A-36F5259A17D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sldImg"/>
          </p:nvPr>
        </p:nvSpPr>
        <p:spPr>
          <a:xfrm>
            <a:off x="1106640" y="812880"/>
            <a:ext cx="5344920" cy="4008240"/>
          </a:xfrm>
          <a:prstGeom prst="rect">
            <a:avLst/>
          </a:prstGeom>
          <a:ln w="0">
            <a:noFill/>
          </a:ln>
        </p:spPr>
      </p:sp>
      <p:sp>
        <p:nvSpPr>
          <p:cNvPr id="10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mplementując aplikację internetową wykonujemy szereg operacji, które związane są z jej szkieletem oraz często powtarzalnymi rzeczami, jak autoryzacja czy systemy formularzy. Z pomocą przychodzą nam gotowe szkielety aplikacji takie jak Zend Framework czy Symfony. Jeżeli piszemy aplikację, która jest większa niż formularz kontaktowy, warto użyć gotowych rozwiązań. Szkielety te posiadają architekturę MVC oraz całą masę gotowych bibliotek np. pośredniczących w komunikacji z bazą danych, związanych z cache’owaniem, czy chociażby obsługą plików pdf. Wersje 2 powyższych frameworków, są zaimplementowane w pełni obiektowo i wykorzystują wiele wzorców poprawnego programowania, z których można czerpać świetne lekcje. Na ich stronach znajdziemy mnóstwo materiałów związanych z ich użyciem, video-tutoriale oraz wyczerpującą dokumentację np. ZF około 1300 stron formatu A4. Oprócz wyżej wymienionych frameworków, jest jeszcze wiele innych jak np. Yii, cakePHP, codeigniter czy fuel. Warto poświęcić trochę czasu na eksploracje internetu w poszukiwaniu tych zasobów, ponieważ można zaoszczędzić masę pracy i dostać kawał profesjonalnie napisanego kod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1F9B65-FE3D-4D19-BC3C-529EA91B289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 name="PlaceHolder 1"/>
          <p:cNvSpPr>
            <a:spLocks noGrp="1"/>
          </p:cNvSpPr>
          <p:nvPr>
            <p:ph type="sldImg"/>
          </p:nvPr>
        </p:nvSpPr>
        <p:spPr>
          <a:xfrm>
            <a:off x="1106640" y="812880"/>
            <a:ext cx="5344920" cy="4008240"/>
          </a:xfrm>
          <a:prstGeom prst="rect">
            <a:avLst/>
          </a:prstGeom>
          <a:ln w="0">
            <a:noFill/>
          </a:ln>
        </p:spPr>
      </p:sp>
      <p:sp>
        <p:nvSpPr>
          <p:cNvPr id="11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nie czujesz się jeszcze na siłach, aby korzystać z wyrafinowanych narzędzi, ponieważ ich ogrom Cię przeraża lub piszesz tylko małe aplikacje dla których szkoda tracić zasoby i wydajność, możesz korzystać z frameworków jako bibliotek lub ze stricte bibliotek, których jest wiele np. TCPDF do obsługi plików pdf, czy biblioteki SMARTY do obsługi szablonów. Użytecznym narzędziem okazuje się również Composer, czyli program do zarządzania pakietami P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1FB68-8B29-472C-87A2-592FD2CBD5F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2" name="PlaceHolder 1"/>
          <p:cNvSpPr>
            <a:spLocks noGrp="1"/>
          </p:cNvSpPr>
          <p:nvPr>
            <p:ph type="sldImg"/>
          </p:nvPr>
        </p:nvSpPr>
        <p:spPr>
          <a:xfrm>
            <a:off x="1106640" y="812880"/>
            <a:ext cx="5344920" cy="4008240"/>
          </a:xfrm>
          <a:prstGeom prst="rect">
            <a:avLst/>
          </a:prstGeom>
          <a:ln w="0">
            <a:noFill/>
          </a:ln>
        </p:spPr>
      </p:sp>
      <p:sp>
        <p:nvSpPr>
          <p:cNvPr id="11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w wersji 5, zapewnia pełną obsługę programowania obiektowego, czyli najpopularniejszego obecnie programowania. Kontynuacją drogi ku wydzieleniu abstrakcji w językach programowania jest programowanie aspektowe. Implementuje się je na razie w sposób obiektowy, gdyż PHP nie zapewnia jeszcze wbudowanej obsługi aspektów. Polega ono na wydzieleniu abstrakcyjnych czynności na poziomie rozumowania człowieka np. system logów, i uniezależnienie ich od klas. Grupowanie takie zapewnia nam lepsze możliwości projektowania i bardziej zrozumiałą implementację. Zobrazujmy nasz przykład, załóżmy że nasz zbiór klas przy wykonywaniu jakiś czynności, zapisuje te akcje w tzw. Logach. Czy nie łatwiej by było wyodrębnić ten mechanizm z klas i przenieść go do poziomu kontenera naszej aplikacji? Zyskujemy na tym wiele czasu, nie muszą implementować go za każdym razem, choć troszkę trudniejszą. Poza tym wszelkie zmiany dokonujemy tylko raz. Co w przyszłości i przy częstych zmianach w aplikacji staje się uciążliw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E7062-C635-4BBC-B458-AAC48DE39A9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lejną ważną rzeczą, która ułatwia życie programiście są wzorce projektowe. Są to rozwiązania problemów projektowych, które stosowane w odpowiednich przypadkach, potrafią zaoszczędzić nam wiele czasu i stworzyć łatwe do dalszego rozwijania środowisko, czy też uniknąć wielu błędó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8FB49-7C29-425F-8855-E96DAD4AFE9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lejną ważną rzeczą, która ułatwia życie programiście są wzorce projektowe. Są to rozwiązania problemów projektowych, które stosowane w odpowiednich przypadkach, potrafią zaoszczędzić nam wiele czasu i stworzyć łatwe do dalszego rozwijania środowisko, czy też uniknąć wielu błędó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665D5-2F74-4BF8-BA6D-135D8DAC98D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śli chodzi o samo pisanie w języku PHP, w internecie możemy znaleźć wiele stron poświęconych dobrym praktykom programowania. Warto polecić php the right way, gdyż jest ona podstawą wielu publikacji na temat dobrych praktyk w języku PH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7B493-2B3C-46B4-A10B-ADF896C4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EA33-1DCF-4F64-A0EC-520B5461D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A8F4-A780-4C2D-9365-A41E4AC77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CA2E1-8928-4FFC-B43D-69D11C65D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2656-0156-40F7-AECC-5783D4343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6F7C-FA0F-43E1-81C1-104CD4458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3257-3C6C-49A2-AE31-BC52691B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D909-DE70-4208-BE30-17B30E607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15F3-C9A5-4BF1-A700-BB33F794E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A427-8D5C-4F46-BC28-3E25B2809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8269-926F-4C8B-AD74-783D679A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FA7D-E030-4864-A762-DCBB9FE71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A6AAC9-22F5-4532-BDE6-7998A58B9E4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10</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obre praktyki programowania w PHP</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grpSp>
        <p:nvGrpSpPr>
          <p:cNvPr id="50" name="Grupa 3"/>
          <p:cNvGrpSpPr/>
          <p:nvPr/>
        </p:nvGrpSpPr>
        <p:grpSpPr>
          <a:xfrm>
            <a:off x="2664000" y="5541840"/>
            <a:ext cx="5689440" cy="974880"/>
            <a:chOff x="2664000" y="5541840"/>
            <a:chExt cx="5689440" cy="974880"/>
          </a:xfrm>
        </p:grpSpPr>
        <p:sp>
          <p:nvSpPr>
            <p:cNvPr id="51" name="Shape 24"/>
            <p:cNvSpPr/>
            <p:nvPr/>
          </p:nvSpPr>
          <p:spPr>
            <a:xfrm>
              <a:off x="2664000" y="5541840"/>
              <a:ext cx="5689440" cy="974880"/>
            </a:xfrm>
            <a:prstGeom prst="rect">
              <a:avLst/>
            </a:prstGeom>
            <a:noFill/>
            <a:ln w="0">
              <a:noFill/>
            </a:ln>
          </p:spPr>
          <p:style>
            <a:lnRef idx="0"/>
            <a:fillRef idx="0"/>
            <a:effectRef idx="0"/>
            <a:fontRef idx="minor"/>
          </p:style>
          <p:txBody>
            <a:bodyPr tIns="91440" bIns="9144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Człowiek - najlepsza inwestycja</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Projekt współfinansowany przez Unię Europejską w ramach Europejskiego Funduszu Społecznego</a:t>
              </a:r>
              <a:endParaRPr b="0" lang="en-US" sz="1000" spc="-1" strike="noStrike">
                <a:solidFill>
                  <a:srgbClr val="000000"/>
                </a:solidFill>
                <a:latin typeface="Arial"/>
              </a:endParaRPr>
            </a:p>
          </p:txBody>
        </p:sp>
        <p:pic>
          <p:nvPicPr>
            <p:cNvPr id="52" name="Obraz 5" descr="KAPITAL_LUDZKI"/>
            <p:cNvPicPr/>
            <p:nvPr/>
          </p:nvPicPr>
          <p:blipFill>
            <a:blip r:embed="rId1"/>
            <a:stretch/>
          </p:blipFill>
          <p:spPr>
            <a:xfrm>
              <a:off x="2947320" y="5652000"/>
              <a:ext cx="1228680" cy="590760"/>
            </a:xfrm>
            <a:prstGeom prst="rect">
              <a:avLst/>
            </a:prstGeom>
            <a:ln w="0">
              <a:noFill/>
            </a:ln>
          </p:spPr>
        </p:pic>
        <p:pic>
          <p:nvPicPr>
            <p:cNvPr id="53" name="Obraz 6" descr="UE+EFS_L-kolor"/>
            <p:cNvPicPr/>
            <p:nvPr/>
          </p:nvPicPr>
          <p:blipFill>
            <a:blip r:embed="rId2"/>
            <a:stretch/>
          </p:blipFill>
          <p:spPr>
            <a:xfrm>
              <a:off x="7057080" y="5724000"/>
              <a:ext cx="1123920" cy="428760"/>
            </a:xfrm>
            <a:prstGeom prst="rect">
              <a:avLst/>
            </a:prstGeom>
            <a:ln w="0">
              <a:noFill/>
            </a:ln>
          </p:spPr>
        </p:pic>
      </p:gr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kumentowanie kodu</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pDocumentator</a:t>
            </a:r>
            <a:endParaRPr b="0" lang="en-US" sz="28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468440" y="1993680"/>
            <a:ext cx="8207280" cy="3143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ntrola wers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 i do czego służ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V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GIT</a:t>
            </a:r>
            <a:endParaRPr b="0" lang="en-US" sz="28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468440" y="1994040"/>
            <a:ext cx="8207280" cy="40003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Testowanie aplikac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Testy jednostkow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pUnit</a:t>
            </a:r>
            <a:endParaRPr b="0" lang="en-US" sz="2800" spc="-1" strike="noStrike">
              <a:solidFill>
                <a:srgbClr val="000000"/>
              </a:solidFill>
              <a:latin typeface="Arial"/>
            </a:endParaRPr>
          </a:p>
        </p:txBody>
      </p:sp>
      <p:sp>
        <p:nvSpPr>
          <p:cNvPr id="8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utomatyzacja instalac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ing</a:t>
            </a:r>
            <a:endParaRPr b="0" lang="en-US" sz="2800" spc="-1" strike="noStrike">
              <a:solidFill>
                <a:srgbClr val="000000"/>
              </a:solidFill>
              <a:latin typeface="Arial"/>
            </a:endParaRPr>
          </a:p>
        </p:txBody>
      </p:sp>
      <p:sp>
        <p:nvSpPr>
          <p:cNvPr id="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Gotowe systemy</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MS</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For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logi</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klep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latformy e-learningowe</a:t>
            </a:r>
            <a:endParaRPr b="0" lang="en-US" sz="28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9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bre praktyki programowani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szerzenia PH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EAR</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ECL</a:t>
            </a:r>
            <a:endParaRPr b="0" lang="en-US" sz="28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993680"/>
            <a:ext cx="8207280" cy="4429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Framework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F</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ymfony</a:t>
            </a:r>
            <a:endParaRPr b="0" lang="en-US" sz="28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Bibliotek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ykład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mposer</a:t>
            </a:r>
            <a:endParaRPr b="0" lang="en-US" sz="2800" spc="-1" strike="noStrike">
              <a:solidFill>
                <a:srgbClr val="000000"/>
              </a:solidFill>
              <a:latin typeface="Arial"/>
            </a:endParaRPr>
          </a:p>
        </p:txBody>
      </p:sp>
      <p:sp>
        <p:nvSpPr>
          <p:cNvPr id="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gramowanie obiektowe, a AO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 warto z niego korzystać?</a:t>
            </a:r>
            <a:endParaRPr b="0" lang="en-US" sz="2800" spc="-1" strike="noStrike">
              <a:solidFill>
                <a:srgbClr val="000000"/>
              </a:solidFill>
              <a:latin typeface="Arial"/>
            </a:endParaRPr>
          </a:p>
        </p:txBody>
      </p:sp>
      <p:sp>
        <p:nvSpPr>
          <p:cNvPr id="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468440" y="1993680"/>
            <a:ext cx="8207280" cy="4429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zorce projektow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ą?</a:t>
            </a:r>
            <a:endParaRPr b="0" lang="en-US" sz="2800" spc="-1" strike="noStrike">
              <a:solidFill>
                <a:srgbClr val="000000"/>
              </a:solidFill>
              <a:latin typeface="Arial"/>
            </a:endParaRPr>
          </a:p>
        </p:txBody>
      </p:sp>
      <p:sp>
        <p:nvSpPr>
          <p:cNvPr id="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468440" y="1993680"/>
            <a:ext cx="8207280" cy="4429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zorce projektow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ą?</a:t>
            </a:r>
            <a:endParaRPr b="0" lang="en-US" sz="2800" spc="-1" strike="noStrike">
              <a:solidFill>
                <a:srgbClr val="000000"/>
              </a:solidFill>
              <a:latin typeface="Arial"/>
            </a:endParaRPr>
          </a:p>
        </p:txBody>
      </p:sp>
      <p:sp>
        <p:nvSpPr>
          <p:cNvPr id="7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bre praktyki samego programowani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ttp://www.phptherightway.com/</a:t>
            </a:r>
            <a:endParaRPr b="0" lang="en-US" sz="2800" spc="-1" strike="noStrike">
              <a:solidFill>
                <a:srgbClr val="000000"/>
              </a:solidFill>
              <a:latin typeface="Arial"/>
            </a:endParaRPr>
          </a:p>
        </p:txBody>
      </p:sp>
      <p:sp>
        <p:nvSpPr>
          <p:cNvPr id="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ac</cp:lastModifiedBy>
  <dcterms:modified xsi:type="dcterms:W3CDTF">2013-03-25T16:02:53Z</dcterms:modified>
  <cp:revision>40</cp:revision>
  <dc:subject/>
  <dc:title>Slajd 1</dc:title>
</cp:coreProperties>
</file>