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18161F-AA4D-4C61-AD9A-C6897F6CCC2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9224D9-AB4E-46A4-86F8-98F3CF3A3C3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664A9-DA94-4FF7-A39A-A6082D0F363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dowanie base64 to rodzaj kodowania transportowego, oznacza to, że służy do bezpiecznego przesyłania danych. Zabezpiecza dane szczególnie ze względu na uszkodzenia spowodowane niemożnością przesyłania 8 bitowych danych przez starsze maszyny, które przesyłały znaki 7-bitow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dowanie to dzieli dowolne 64 znaki na grupy po trzy bajty. Bajt posiada 8 bitów, dlatego grupa ma 24 bity. Co po podzieleniu na cztery skutkuje 6 bitowymi jednostkami. Na sześciu bitach możemy zapisać 64 różne znaki, czyli każda jednostka może przyjąć 64 wartości, stąd też nazwa kodowania. Wszystkim takim jednostką przypisywane są znaki, na podstwie początkowo ustalonych liczb. Jeśli rozmiar wejściowego ciągu bajtów nie jest podzielny przez 3, stosowane jest dopełnienie, aż do jego podzielności przez 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7826A-3EEC-4D9C-8D63-6AA9C587581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wyższy przykład obrazuje wynik kodowania ciągu znaków przypomocy kodowania Base6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0ACE72-1C1A-4046-B630-996A314D764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wyższy przykład obrazuje wynik kodowania ciągu znaków przypomocy kodowania Base64.</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2461C9-044C-485A-89A4-E4BC74AD9C4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Quoted-Printable – jest kolejnym kodowaniem transportowym zgodnym ze standardem MIME. Polega na tym, że pozostawia wszystkie bajty mniejsze od 128 (7-bitów), które nie są znakami sterującymi ASCII (oprócz spacji), a resztę zamienia na zakodowany szesnastkowo napis ASCII poprzedzony znakiem równości. Znak równości też jest kodowany, w celu uniknięcia wieloznaczności jako =3D. Kodowanie to jest głównie wykorzystywane w poczcie elektronicznej do kodowania przesyłanych wiadomości, które zawierają znaki narodowe z poza ASCII. Nie nadaje się do przesyłania plików binarnych ze względu na jego narzut około 225%, gdzie np. Base64 posiada tylko 33% narzut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3DADB-F077-402F-92B8-D833319F354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 zakodowania hello world w kodowaniu Qouted – Printable, znaki alfabetu oraz znak ‘!’, mają kod ASCII poniżej 128, dlatego dla lepszego zobrazowania, że coś się dzieje, dodano znak równości.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A82B5-5681-476B-A905-38615F282C6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iadomości wieloczęściowe określone jako typ multipart w nagłówku Content-Type. Dodatkowo w tym samym nagłówku muszą posiadać parametr określający separator ‘boundary’, którego nie wolno umieszczać w treści wiadomości. Służy on do oddzielania od siebie wiadomośc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1BA906-6333-4B9B-BC30-E7224E37576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początku określamy adresata, odbiorcę oraz wersje MIME z której skorzystamy. Typ wiadomości ustawiony jest na multipart oraz podtyp na mixed (mieszany), który określa, że części wiadomości mogą być różnych typów. W sekcji typu umieszczamy parametr boundary, który definiuje separator w tym przypadku główny, gdyż wiadomościach można zagnieżdżać również wiadomośc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F558AB-62BC-4C91-9973-9651096BD95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12880"/>
            <a:ext cx="534492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219B4-2603-4073-B045-DF7E4052081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Tutaj widzimy przykład zagnieżdżonej wiadomości typu HTM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C499DB-08F5-4621-B8E9-FB3158FA402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106640" y="812880"/>
            <a:ext cx="5344920" cy="4008240"/>
          </a:xfrm>
          <a:prstGeom prst="rect">
            <a:avLst/>
          </a:prstGeom>
          <a:ln w="0">
            <a:noFill/>
          </a:ln>
        </p:spPr>
      </p:sp>
      <p:sp>
        <p:nvSpPr>
          <p:cNvPr id="17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ak widać w powyższym przykładzie po raz pierwszy użyto kodowania base64, zamiast quoted-printable. Użyto go do zakodowania obrazu typu gi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5B8F59-67BF-4931-9BF5-320DF5A0CD5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IME (ang. Multipurpose Internet Mail Extensions)</a:t>
            </a:r>
            <a:r>
              <a:rPr b="0" lang="pl-PL" sz="1200" spc="-1" strike="noStrike">
                <a:solidFill>
                  <a:srgbClr val="000000"/>
                </a:solidFill>
                <a:latin typeface="Times New Roman"/>
              </a:rPr>
              <a:t> jest to standard do przesyłania poczty elektronicznej, który definiuje budowę komunikatu. Składa się z nagłówków i treści. Standardowe mail wysyła treść jako tekst zakodowany w 7-bitowym kodzie ASCII. MIME posiada kodowanie 8-bitowe, dlatego zwiększa objętość mail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4493E5-DA01-4B91-86E5-D58DE78F737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12880"/>
            <a:ext cx="5344920" cy="4008240"/>
          </a:xfrm>
          <a:prstGeom prst="rect">
            <a:avLst/>
          </a:prstGeom>
          <a:ln w="0">
            <a:noFill/>
          </a:ln>
        </p:spPr>
      </p:sp>
      <p:sp>
        <p:nvSpPr>
          <p:cNvPr id="18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początek definiujemy odbiorców oraz ustalamy temat maila, ponieważ do przesłania wiadomości multimedialnej w tym przypadku w formacie html, uzyjemy funkcji mail w PH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B64D36-D397-4754-AA2A-EC8B67B811F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106640" y="812880"/>
            <a:ext cx="5344920" cy="4008240"/>
          </a:xfrm>
          <a:prstGeom prst="rect">
            <a:avLst/>
          </a:prstGeom>
          <a:ln w="0">
            <a:noFill/>
          </a:ln>
        </p:spPr>
      </p:sp>
      <p:sp>
        <p:nvSpPr>
          <p:cNvPr id="18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ako treść wiadomości definiujemy sobie kod w formacie html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A792D-0E19-4505-92AF-8FA2A129140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106640" y="812880"/>
            <a:ext cx="5344920" cy="4008240"/>
          </a:xfrm>
          <a:prstGeom prst="rect">
            <a:avLst/>
          </a:prstGeom>
          <a:ln w="0">
            <a:noFill/>
          </a:ln>
        </p:spPr>
      </p:sp>
      <p:sp>
        <p:nvSpPr>
          <p:cNvPr id="18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nagłówkach ustalamy wersje MIME, wymagany w tym przypadku typ text/html z kodowaniem w utf8 oraz nadawcę mail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ACE97C-D6ED-48B1-A8E2-5C9BE5B304B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106640" y="812880"/>
            <a:ext cx="5344920" cy="4008240"/>
          </a:xfrm>
          <a:prstGeom prst="rect">
            <a:avLst/>
          </a:prstGeom>
          <a:ln w="0">
            <a:noFill/>
          </a:ln>
        </p:spPr>
      </p:sp>
      <p:sp>
        <p:nvSpPr>
          <p:cNvPr id="1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końcu wysyłamy wiadomość.</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5A8B1A-D12E-4968-9BAF-2B6625981E1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106640" y="812880"/>
            <a:ext cx="5344920" cy="4008240"/>
          </a:xfrm>
          <a:prstGeom prst="rect">
            <a:avLst/>
          </a:prstGeom>
          <a:ln w="0">
            <a:noFill/>
          </a:ln>
        </p:spPr>
      </p:sp>
      <p:sp>
        <p:nvSpPr>
          <p:cNvPr id="19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C47DC-1A4D-4943-94B4-C054EA1F466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Typ MIME (nazwany od standardu MIME) – internet media type lub Content-Type (po nazwie nagłówka kilku protokołów, którego wartość jest tego typu) jest to dwuczęściowy identyfikator typu pliku w sieci, pierwsza część opisuje jego type, a drga konkretny podtyp. Np. Image/gif Image mówi, że jest to typ obrazkowy o podtypie gif, który jest zdefiniowany jako standard dla obrazów o tym rozszerzeniu. Początkowo typ ten był używany w protokole SMTP, a poźniej zaczęto z niego korzystać również przy protokole HTTP. Służy do określania standardu przesyłanego pliku w sieci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81C1F2-DC3F-4D9A-A397-46B7880928E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trukrua nagłówków MIME jest identyczna ze strukturą nagłówków HTTP. Powyższy nagłówek określa wersję stosowanego standardu, w tym przypadku wersja 1.0.</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0C126-D04B-4776-B0DD-8B1C24F197D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najnowszym standardzie wymagane nagłówki to wersja MIME oraz typ przesyłanej treści. Opcjonalne: Kodowanie MIME zawiera przeważnie jeden z dwóch parametrów base64 lub quoted-printable. Jest jeszcze jeden mniej popularny za to najprostszy: 8bit, nie wymagający żadnej konwersji. Nagłówek Content-ID wyznacza wiadomość właściwą, a Content-Description komentarz do wysyłanego komunika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83B4F-D798-4F55-B0C8-35BE85AB78C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główek Content-Type wymaga typu i podtypu mediów. Niektóre z nich wymagają parametrów, które podajego w następnej, kolejności. Na ostatnim miejscu umieszczamy parametry opcjonal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7C072-8818-46F0-BE76-6B67109F61B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odpowiedzialna za typ, nagłówka Content-Type może przyjmować jedną z powyższych wartości. Czasami dopuszczalne, są dwie ostatnie opcje multipart oraz message. Przez użycie typu multipart, MIME pozwala, by wiadomość posiadała wiele części, z których każda może mieć określony swój własny typ M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7844A1-508E-4A73-A412-8F961928419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70071-6EAC-4C8F-A06E-94E0B741525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12880"/>
            <a:ext cx="534492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wyższy przykład obrazuje zastosowanie parametrów w nagłówku Content-Type, w tym przypadku jest to kodowanie znakó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5BEC7-8E4A-4259-9084-D17CE67AE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A82B5-D83C-4A15-B58B-B69220B1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127D5-E60D-4602-8D25-1EA0AC9CE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C574D-194D-4D00-BAA3-1CCBD5FD0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1901-986D-4A86-BCB1-86058211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EFB8-F181-466F-82B4-73203BC09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25428-6325-450B-BEFA-ED9298F6A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AF09D-57BB-4BF8-824E-80CACF52D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25B77-D29F-4F5B-9C04-2E7ED3AAF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4A3D-0172-4627-89B1-30F7B43C2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AF9D-0DA4-42D8-9AD1-3F847FFA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8E40-FC4B-4BB5-9CFC-04C996864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1E8C624-337F-4ED3-9D18-5FD45C889AD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7</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MIME - rozszerzenia multimedialne</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grpSp>
        <p:nvGrpSpPr>
          <p:cNvPr id="50" name="Grupa 3"/>
          <p:cNvGrpSpPr/>
          <p:nvPr/>
        </p:nvGrpSpPr>
        <p:grpSpPr>
          <a:xfrm>
            <a:off x="2664000" y="5541840"/>
            <a:ext cx="5689440" cy="974880"/>
            <a:chOff x="2664000" y="5541840"/>
            <a:chExt cx="5689440" cy="974880"/>
          </a:xfrm>
        </p:grpSpPr>
        <p:sp>
          <p:nvSpPr>
            <p:cNvPr id="51" name="Shape 24"/>
            <p:cNvSpPr/>
            <p:nvPr/>
          </p:nvSpPr>
          <p:spPr>
            <a:xfrm>
              <a:off x="2664000" y="5541840"/>
              <a:ext cx="5689440" cy="974880"/>
            </a:xfrm>
            <a:prstGeom prst="rect">
              <a:avLst/>
            </a:prstGeom>
            <a:noFill/>
            <a:ln w="0">
              <a:noFill/>
            </a:ln>
          </p:spPr>
          <p:style>
            <a:lnRef idx="0"/>
            <a:fillRef idx="0"/>
            <a:effectRef idx="0"/>
            <a:fontRef idx="minor"/>
          </p:style>
          <p:txBody>
            <a:bodyPr tIns="91440" bIns="9144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Człowiek - najlepsza inwestycja</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Projekt współfinansowany przez Unię Europejską w ramach Europejskiego Funduszu Społecznego</a:t>
              </a:r>
              <a:endParaRPr b="0" lang="en-US" sz="1000" spc="-1" strike="noStrike">
                <a:solidFill>
                  <a:srgbClr val="000000"/>
                </a:solidFill>
                <a:latin typeface="Arial"/>
              </a:endParaRPr>
            </a:p>
          </p:txBody>
        </p:sp>
        <p:pic>
          <p:nvPicPr>
            <p:cNvPr id="52" name="Obraz 5" descr="KAPITAL_LUDZKI"/>
            <p:cNvPicPr/>
            <p:nvPr/>
          </p:nvPicPr>
          <p:blipFill>
            <a:blip r:embed="rId1"/>
            <a:stretch/>
          </p:blipFill>
          <p:spPr>
            <a:xfrm>
              <a:off x="2947320" y="5652000"/>
              <a:ext cx="1228680" cy="590760"/>
            </a:xfrm>
            <a:prstGeom prst="rect">
              <a:avLst/>
            </a:prstGeom>
            <a:ln w="0">
              <a:noFill/>
            </a:ln>
          </p:spPr>
        </p:pic>
        <p:pic>
          <p:nvPicPr>
            <p:cNvPr id="53" name="Obraz 6" descr="UE+EFS_L-kolor"/>
            <p:cNvPicPr/>
            <p:nvPr/>
          </p:nvPicPr>
          <p:blipFill>
            <a:blip r:embed="rId2"/>
            <a:stretch/>
          </p:blipFill>
          <p:spPr>
            <a:xfrm>
              <a:off x="7057080" y="5724000"/>
              <a:ext cx="1123920" cy="428760"/>
            </a:xfrm>
            <a:prstGeom prst="rect">
              <a:avLst/>
            </a:prstGeom>
            <a:ln w="0">
              <a:noFill/>
            </a:ln>
          </p:spPr>
        </p:pic>
      </p:gr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Kodowanie Base64</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Jak działa?</a:t>
            </a:r>
            <a:endParaRPr b="0" lang="en-US" sz="2800" spc="-1" strike="noStrike">
              <a:solidFill>
                <a:srgbClr val="000000"/>
              </a:solidFill>
              <a:latin typeface="Arial"/>
            </a:endParaRPr>
          </a:p>
        </p:txBody>
      </p:sp>
      <p:sp>
        <p:nvSpPr>
          <p:cNvPr id="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kodowania Base64</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Hello World!</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 kodowaniu Base64:</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GVsbG8gV29ybGQh</a:t>
            </a:r>
            <a:endParaRPr b="0" lang="en-US" sz="3600" spc="-1" strike="noStrike">
              <a:solidFill>
                <a:srgbClr val="000000"/>
              </a:solidFill>
              <a:latin typeface="Arial"/>
            </a:endParaRPr>
          </a:p>
        </p:txBody>
      </p:sp>
      <p:sp>
        <p:nvSpPr>
          <p:cNvPr id="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Zastosowania kodowania Base64</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esyłanie załączników binarnych w mailach</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Kodowanie haseł przy wysyłaniu protokłem SMTP</a:t>
            </a:r>
            <a:endParaRPr b="0" lang="en-US" sz="2800" spc="-1" strike="noStrike">
              <a:solidFill>
                <a:srgbClr val="000000"/>
              </a:solidFill>
              <a:latin typeface="Arial"/>
            </a:endParaRPr>
          </a:p>
        </p:txBody>
      </p:sp>
      <p:sp>
        <p:nvSpPr>
          <p:cNvPr id="8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Kodowanie Quoted-Printabl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p:txBody>
      </p:sp>
      <p:sp>
        <p:nvSpPr>
          <p:cNvPr id="8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kodowania Quoted-Printabl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ello= world!</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ello=3D world!</a:t>
            </a:r>
            <a:endParaRPr b="0" lang="en-US" sz="2800" spc="-1" strike="noStrike">
              <a:solidFill>
                <a:srgbClr val="000000"/>
              </a:solidFill>
              <a:latin typeface="Arial"/>
            </a:endParaRPr>
          </a:p>
        </p:txBody>
      </p:sp>
      <p:sp>
        <p:nvSpPr>
          <p:cNvPr id="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iadomości wieloczęściow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Jak je definiować?</a:t>
            </a:r>
            <a:endParaRPr b="0" lang="en-US" sz="2800" spc="-1" strike="noStrike">
              <a:solidFill>
                <a:srgbClr val="000000"/>
              </a:solidFill>
              <a:latin typeface="Arial"/>
            </a:endParaRPr>
          </a:p>
        </p:txBody>
      </p:sp>
      <p:sp>
        <p:nvSpPr>
          <p:cNvPr id="9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468440" y="1422000"/>
            <a:ext cx="8207280" cy="5072040"/>
          </a:xfrm>
          <a:prstGeom prst="rect">
            <a:avLst/>
          </a:prstGeom>
          <a:noFill/>
          <a:ln w="0">
            <a:noFill/>
          </a:ln>
        </p:spPr>
        <p:txBody>
          <a:bodyPr lIns="0" rIns="0" tIns="23040" bIns="0" anchor="t">
            <a:normAutofit fontScale="99000"/>
          </a:bodyPr>
          <a:p>
            <a:pPr marL="42732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1</a:t>
            </a:r>
            <a:endParaRPr b="0" lang="en-US" sz="36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From: zuraw@domena.pl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To: czapla@domena.pl Subject: =?iso-8859 -2?Q?Czaplo=2C_czy_um=F3wisz_si=EA_ze_mn=B1=3F?=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MIME Version: 1.0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multipart/mixed; boundary="xxxToJestSeparator0000xxx"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This is a message with multiple parts in MIME format.</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0000xxx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multipart/alternative; boundary="xxxToJestSeparatorZagniezdzony1111xxx"</a:t>
            </a:r>
            <a:endParaRPr b="0" lang="en-US" sz="2000" spc="-1" strike="noStrike">
              <a:solidFill>
                <a:srgbClr val="000000"/>
              </a:solidFill>
              <a:latin typeface="Arial"/>
            </a:endParaRPr>
          </a:p>
        </p:txBody>
      </p:sp>
      <p:sp>
        <p:nvSpPr>
          <p:cNvPr id="9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 2</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Zagniezdzony1111xxx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text/plain; charset="iso-8859-2"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ransfer-Encoding: quoted-printable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To jest tre=B6=E6 wiadomo=B6ci.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Zagniezdzony1111xxx</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text/html; charset="iso-8859-2"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ransfer-Encoding: quoted-printable</a:t>
            </a:r>
            <a:endParaRPr b="0" lang="en-US" sz="2000" spc="-1" strike="noStrike">
              <a:solidFill>
                <a:srgbClr val="000000"/>
              </a:solidFill>
              <a:latin typeface="Arial"/>
            </a:endParaRPr>
          </a:p>
        </p:txBody>
      </p:sp>
      <p:sp>
        <p:nvSpPr>
          <p:cNvPr id="10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68440" y="1564920"/>
            <a:ext cx="8207280" cy="4878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 3</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DOCTYPE HTML PUBLIC "-//W3C//DTD HTML 4.0 Transitional//EN"&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HTML&gt;&lt;HEAD&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META http-equiv=3DContent-Type content=3D"text/html; charset=3Diso-8859-2"&gt;&lt;/HEAD&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BODY&gt;&lt;FONT face=3DArial size=3D2&gt;To jest tre=B6=E6 wiadomo=B6ci.&lt;/FONT&gt;&lt;/BODY&gt;&lt;/HTML&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Zagniezdzony1111xxx--</a:t>
            </a:r>
            <a:endParaRPr b="0" lang="en-US" sz="2000" spc="-1" strike="noStrike">
              <a:solidFill>
                <a:srgbClr val="000000"/>
              </a:solidFill>
              <a:latin typeface="Arial"/>
            </a:endParaRPr>
          </a:p>
        </p:txBody>
      </p:sp>
      <p:sp>
        <p:nvSpPr>
          <p:cNvPr id="10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68440" y="1564920"/>
            <a:ext cx="8207280" cy="4878360"/>
          </a:xfrm>
          <a:prstGeom prst="rect">
            <a:avLst/>
          </a:prstGeom>
          <a:noFill/>
          <a:ln w="0">
            <a:noFill/>
          </a:ln>
        </p:spPr>
        <p:txBody>
          <a:bodyPr lIns="0" rIns="0" tIns="23040" bIns="0" anchor="t">
            <a:normAutofit fontScale="95000"/>
          </a:bodyPr>
          <a:p>
            <a:pPr marL="4100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 4</a:t>
            </a:r>
            <a:endParaRPr b="0" lang="en-US" sz="36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xxxToJestSeparator0000xxx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Content-Type: image/gif; name="obrazek.gif"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Content-Transfer-Encoding: base64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Content-Disposition: attachment; filename="obrazek.gif"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PGh0bWw+CiAgPGhlYWQ+CiAgPC9oZWFkPgogIDxib2R5PgogICAgPHA+VGhpcyBpcyB0aGUg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Ym9keSBvZiB0aGUgbWVzc2FnZS48L3A+CiAgPC9ib2R5Pgo8L2h0bWw+Cg==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0000xxx--</a:t>
            </a:r>
            <a:br>
              <a:rPr sz="2000"/>
            </a:br>
            <a:endParaRPr b="0" lang="en-US" sz="2000" spc="-1" strike="noStrike">
              <a:solidFill>
                <a:srgbClr val="000000"/>
              </a:solidFill>
              <a:latin typeface="Arial"/>
            </a:endParaRPr>
          </a:p>
        </p:txBody>
      </p:sp>
      <p:sp>
        <p:nvSpPr>
          <p:cNvPr id="10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IM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1</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Arial"/>
              </a:rPr>
              <a:t>&lt;?php</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Arial"/>
              </a:rPr>
              <a:t>$to  = 'stefan@domena.pl' . ', '; </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Arial"/>
              </a:rPr>
              <a:t>$to .= 'marian@domena.pl';</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Arial"/>
              </a:rPr>
              <a:t>$subject = 'Birthday Reminders for August';</a:t>
            </a:r>
            <a:endParaRPr b="0" lang="en-US" sz="2400" spc="-1" strike="noStrike">
              <a:solidFill>
                <a:srgbClr val="000000"/>
              </a:solidFill>
              <a:latin typeface="Arial"/>
            </a:endParaRPr>
          </a:p>
        </p:txBody>
      </p:sp>
      <p:sp>
        <p:nvSpPr>
          <p:cNvPr id="10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2</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message =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lt;html&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lt;head&gt;&lt;title&gt;Tytuł&lt;/title&gt;&lt;/head&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lt;body&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  </a:t>
            </a:r>
            <a:r>
              <a:rPr b="0" i="1" lang="en-US" sz="2000" spc="-1" strike="noStrike">
                <a:solidFill>
                  <a:srgbClr val="000000"/>
                </a:solidFill>
                <a:latin typeface="Arial"/>
              </a:rPr>
              <a:t>&lt;p&gt;Hello world!&lt;/p&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lt;/body&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lt;/html&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11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3</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headers  = 'MIME-Version: 1.0' . "\r\n";</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headers .= 'Content-type: text/html; charset=utf-8' . "\r\n";</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headers .= 'From: Marek&lt;marek@domena.pl&gt;' . "\r\n";</a:t>
            </a:r>
            <a:endParaRPr b="0" lang="en-US" sz="2400" spc="-1" strike="noStrike">
              <a:solidFill>
                <a:srgbClr val="000000"/>
              </a:solidFill>
              <a:latin typeface="Arial"/>
            </a:endParaRPr>
          </a:p>
        </p:txBody>
      </p:sp>
      <p:sp>
        <p:nvSpPr>
          <p:cNvPr id="11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4</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if(mail($to, $subject, $message, $headers))</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echo 'Wysłano wiadomość!'</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els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echo 'Wysyłanie wiadomości nie powiodło się!';</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gt;</a:t>
            </a:r>
            <a:endParaRPr b="0" lang="en-US" sz="2000" spc="-1" strike="noStrike">
              <a:solidFill>
                <a:srgbClr val="000000"/>
              </a:solidFill>
              <a:latin typeface="Arial"/>
            </a:endParaRPr>
          </a:p>
        </p:txBody>
      </p:sp>
      <p:sp>
        <p:nvSpPr>
          <p:cNvPr id="11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2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Typ MIM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y?</a:t>
            </a:r>
            <a:endParaRPr b="0" lang="en-US" sz="2800" spc="-1" strike="noStrike">
              <a:solidFill>
                <a:srgbClr val="000000"/>
              </a:solidFill>
              <a:latin typeface="Arial"/>
            </a:endParaRPr>
          </a:p>
        </p:txBody>
      </p:sp>
      <p:sp>
        <p:nvSpPr>
          <p:cNvPr id="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truktura nagłówków MIM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IME-version: 1.0</a:t>
            </a:r>
            <a:endParaRPr b="0" lang="en-US" sz="2800" spc="-1" strike="noStrike">
              <a:solidFill>
                <a:srgbClr val="000000"/>
              </a:solidFill>
              <a:latin typeface="Arial"/>
            </a:endParaRPr>
          </a:p>
        </p:txBody>
      </p:sp>
      <p:sp>
        <p:nvSpPr>
          <p:cNvPr id="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511280" y="1763280"/>
            <a:ext cx="8207280" cy="4753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Nagłówki MIM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Wymagane:</a:t>
            </a:r>
            <a:endParaRPr b="0" lang="en-US" sz="2400" spc="-1" strike="noStrike">
              <a:solidFill>
                <a:srgbClr val="000000"/>
              </a:solidFill>
              <a:latin typeface="Arial"/>
            </a:endParaRPr>
          </a:p>
          <a:p>
            <a:pPr lvl="2"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IME-version</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ype</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Opcjonalne:</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Disposition</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ransfer-Encoding</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ID</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Description</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6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kładnia nagłówka Content-Typ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Nazwa typu mediów</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Nazwa podtypu mediów</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magane parametry (nie każdy typ tego wymag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Opcjonalne parametry (nie każdy typ tego wymaga</a:t>
            </a:r>
            <a:endParaRPr b="0" lang="en-US" sz="2800" spc="-1" strike="noStrike">
              <a:solidFill>
                <a:srgbClr val="000000"/>
              </a:solidFill>
              <a:latin typeface="Arial"/>
            </a:endParaRPr>
          </a:p>
        </p:txBody>
      </p:sp>
      <p:sp>
        <p:nvSpPr>
          <p:cNvPr id="6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ożliwe wartości Content-Type cz. 1</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text</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image</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audio</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video</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application</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ultipart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essage</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7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ożliwe wartości Content-Type cz. 2</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dtypów MIME jest bardzo dużo, podobnie jak możliwych rozszerzeń plików, cały wykaz zanjduje się w dokumentacji:</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ttp://www.iana.org/assignments/media-types</a:t>
            </a:r>
            <a:endParaRPr b="0" lang="en-US" sz="2800" spc="-1" strike="noStrike">
              <a:solidFill>
                <a:srgbClr val="000000"/>
              </a:solidFill>
              <a:latin typeface="Arial"/>
            </a:endParaRPr>
          </a:p>
        </p:txBody>
      </p:sp>
      <p:sp>
        <p:nvSpPr>
          <p:cNvPr id="7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ożliwe wartości Content-Type cz. 3</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harset="us-ascii"</a:t>
            </a:r>
            <a:endParaRPr b="0" lang="en-US" sz="2800" spc="-1" strike="noStrike">
              <a:solidFill>
                <a:srgbClr val="000000"/>
              </a:solidFill>
              <a:latin typeface="Arial"/>
            </a:endParaRPr>
          </a:p>
        </p:txBody>
      </p:sp>
      <p:sp>
        <p:nvSpPr>
          <p:cNvPr id="7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ac</cp:lastModifiedBy>
  <dcterms:modified xsi:type="dcterms:W3CDTF">2013-03-25T16:01:45Z</dcterms:modified>
  <cp:revision>52</cp:revision>
  <dc:subject/>
  <dc:title>Slajd 1</dc:title>
</cp:coreProperties>
</file>