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066E40-36BC-4AFA-895F-AB236846433E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B22254-27C1-4562-9FB2-3E83875D9372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łowa wstęp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36548F-D87B-4050-BC9F-8F59A179FC16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ista metod na które serwer ma zezwolić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1D1CAD-1841-4705-88A3-2ED6F178DE4B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rzesyła nagłówek do autoryzacji, najczęściej zakodowane login i hasł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6E3513-468B-4B41-B271-44F999A1E4B5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Określa regułę według której przeglądarka może (lub nie może) przechowywać stronę w pamięci podręcznej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ostępne wartości t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no-store – strona nie może być przechowywan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no-cache – strona może być przechowywana pod warunkiem każdorazowego sprawdzania jej aktualnoś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e dwa nagłówki mają szczególne znaczenie dla serwerów proxy. Pierwszy nakazuje przesyłać dokument bezwzględnie, natomiast drugi pozwala na skorzystanie z kopii w pamięci podręcznej, jeżeli dokument źródłowy się nie zmienił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ax-age=liczba_sekund – oznacza, że można skorzystać z cache pod warunkiem iż nie jest przechowywane dłużej jak liczba_sekund. Jeżeli jest starsze przeglądarka powinna ściągnąć nowszą wersję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in-fresh=liczba_sekund – nakazuje przeglądarce ściągnąć dokument jeżeli jego wiek nie przekracza liczby_sekund + aktualna_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D4CAE8-2008-4803-803E-7A11CDBAF202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Nagłówek określa, czy zamknąć połączenie po zapytaniu, czy je utrzymywać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627C44-9874-4676-A99D-C2E8C96350DE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 tym nagłówku przesyłane są wszystkie ciasteczka ustawione w przeglądar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4C2161-F1DD-4AFD-902B-A3CF2AEA7CF7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Określa typ kodowania pliku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B87DFA-605E-4054-8F31-97DD8D21EEAE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Język dokumentu przesłanego przez serwer. Może być określony więcej niż jeden język. Wtedy język główny strony jest określony jako ostatni na tej liści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03CC95-6C46-443A-990E-DC3F62560487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Określa rozmiar zawartości w bajta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F52ADC-9C6F-4EF7-91FA-106533D83596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Określa zakres przesłanej części pliku w tym przypadku bajty od 123 do 456 z 5000(cały plik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27A968-8547-4539-91AC-853AD7AF4BCB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ym nagłówkiem serwer informuje przeglądarkę, w jakim formacie i stronie kodowej wysyłany jest doku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881910-C5D8-44AF-AAFB-D55CC3EA876A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Nagłówki HTTP w języku PHP, wykorzystywane są do komunikacji pomiędzy serwerem, a stroną WW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o ich wysyłania najczęściej stosujemy funkcję ‘header’. Używać ich może w różnych celach np. do autoryzacji HTTP, odświeżenia strony, bądź przekierwania przez serwer na inną stronę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8F79E6-AE8B-4142-B1C5-ADED37DAF319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ata serwer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5A2E79-D1DB-4B43-937E-24B50BB170D7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ata powyżej której dokument będzie nieaktual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23B462-2D90-43F8-A008-1EB7B2D74357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Nagłówek określający z dla jakiej domeny określony został URI (do serwera bowiem nie dociera nazwa domenowa, ale jedynie adres IP). Nagłówek wymagany w HTTP 1.1. Dzięki niemu można uruchomić kilka serwerów wirtualnych na jednym adresie I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BEB287-A556-49A5-B772-B300E11FAA41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Nagłówek nakazuje serwerowi przesłać dokument tylko jeżeli został zmodyfikowany od danej daty. Jeżeli dokument się nie zmienił serwer powinien wysłać przeglądarce kod odpowiedzi 304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59A03D-55A9-469A-A119-2D75249751A5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Nagłówek serwera informujący o ostatniej aktualizacji dokumentu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86C781-A9D2-4C42-9711-497D41D74E52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ymusza przekierowanie na określony adres. Dla kodu odpowiedzi 201 adres oznacza miejsce nowo utworzonego zasobu. Dla kodów 3xx podany adres oznacza przekierowanie stałe. Od tej pory przeglądarka powinna korzystać z nowego adresu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8D85A7-AEB1-4C08-A3FD-F42B5D13C145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Określa jaką część pliku oczekuje przeglądarka. Podawany w formacie bytes=pozycja_początkowa-pozycja_końcow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0AED4D-F09F-4EEB-99AF-2E0E54CC4DBA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B546BC-3E4C-4D39-98DB-2FD89CD3705F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Ustawia automatyczne przekierowanie w przeglądarce na podany adres po określonym czasi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A69D7E-4CB3-439F-B59E-B969E04A817A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Używany razem z kodem odpowiedzi 503 (Serwer zajęty). Określa czas po którym serwer będzie w stanie odpowiedzieć. Czas może być podany w formie konkretnej daty (jak w przykładzie) lub liczby seku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D93CDE-A9D0-4228-A703-17A518280203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Nagłówki HTTP w języku PHP, dzielimy na standardowe i niestandardowe. Standardowe to te, które znajdują się w specyfikacji HTTP w wersji 1.1, a niestandardowe to takie nagłówki, które są dostępne, lecz nie znajdują się w specyfikacj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9230A2-4383-4B1C-A762-3F7690CF722F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Nagłówek identyfikujący serwer i użyte w nim oprogramowani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1E2F98-85BF-428F-9BCE-088DDDE67A8B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Nagłówek wysłany od serwera nakazuje przeglądarce ustawienie określonych ciastecze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7EC1E5-6B93-415C-BD2D-1A04C8F140B1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Określa w jaki sposób serwer przesłał zawartość dokumentu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ostępne metody t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hunk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Oznacza przesyłanie zawartości kawałkami.Każdy z nich powinien mieć postać: wielkość treść wielkość – jest to długość treści w bajtach ,zapisane w formie szesnastkowej. Przykład: 1a abcdefghijklmnopqrstuvwxyz 10 1234567890abcdef 0 Zero w ostatniej linijce określa zerowej długości kawałek i kończy transmisję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id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Oznacza tekst nieskompresow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gzi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Oznacza dane skompresowane algorytmem ZI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ompr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ane skompresowane algorytmem LZ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E55332-1C7F-4E43-A7A1-D98837B8CD88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Identyfikuje przeglądarkę, silnik html oraz System operacyj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F40992-E564-4453-8AC1-59E49C6A18DE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rzesyłany razem z kodem 401. Określa sposób w jaki ma zostać przeprowadzona identyfikacja użytkownik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5041D8-7A42-4AAC-A09D-59A749A89C8D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unkcja ‘getallheaders’ pobiera wszystkie nagłówki żądania http i parsuje je do tablicy PHP, a funkcja ‘apache_response_headers’, parsuje wszystkie nagłówki odpowiedzi htt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7FC11C-BF0F-4495-937F-74F69C366F71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unkcja ‘header’ służy do przesyłania nagłówka http dokumentu. Pierwszym argumentem jest treść nagłówka w postaci ciągu znaków PHP. Drugim argument jest argumentem opcjonalnym, mówi o tym, czy funkcja ma zastąpić nagłówek tego samego typu przygotowany przez serwer. Kolejnym argumentem opcjonalnym jest narzuca serwerowi kod odpowiedz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D241F2-006A-4EF3-9598-B2199FA8BCE8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rzy odpowiedniej konfiguracji serwera HTTP, język PHP może zwracać komunikaty o braku zasobów np. strony o podanym adresie. W tym wypadku znany wszystkim błąd 404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DDFF81-78A2-428A-988F-3EDBC31863C7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roste przekierowanie HTTP na podany ad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93DB1A-F9D5-4D24-9A61-A0C1CAB67657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rzykład dotyczy wykorzystania nagłówków do pobrania pliku typu PHP jako teks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2A446A-D768-451F-B104-0C63876701FD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Nagłówki HTTP w języku PHP, wykorzystywane są do komunikacji pomiędzy serwerem, a stroną WW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o ich wysyłania najczęściej stosujemy funkcję ‘header’. Używać ich może w różnych celach np. do autoryzacji HTTP, odświeżenia strony, bądź przekierwania przez serwer na inną stronę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38F0F9-BAC4-41C0-8472-D83772B6B4AA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owyższy przykład spowoduje wyłączenie cache’u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9068C6-36C0-4548-B6DC-061FFF0701ED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owyższy przykład ustawia typ kodowanie pliku na utf-8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60D64B-9A2A-43E7-BACD-60E4028EA39A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rzekierowanie lub odświeżenie strony z poziomu nagłówków dokumentu htm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E90E11-02F2-4DE6-8DA8-399845811C25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30561A-7BFF-4B8D-8122-7C35AAA00C0B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łuży do określenia listy akceptowalnych przez przeglądarkę typów MIME dokumentu, oraz opcjonalnie hierarchii każdego typu. Liczby podane po ;q= powinny mieć wartości od 0 do 1, co 0.1. Jako separator miejsc dziesiętnych użyta musi być kropka. W przypadku braku zdefiniowanej wartości ;q= przyjmowana jest wartość: ;q=1 (równoznaczna z ;q=1.0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owyższy przykład ustala najwyższy priorytet typowi application/xhtml+xml. Jeżeli serwer nie posiada dokumentu w formacie application/xhtml+xml, to prześle plik w formacie application/xml – ogólnym dla podjęzyków XML, takich jak XHTML, SVG. Jeżeli na serwerze nie ma również dokumentu w tym formacie, dane zostaną przesłane jako text/xml – czyli ogólne dane w formacie XML, w ostateczności, jeżeli żadnego z tych typów nie posiada, serwer wyśle dane w formacie text/plain, czyli zwykłego tekstu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ypy MIME mogą być określone za pomocą symboli wieloznacznych np.: text/*, */*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BEA1AE-CB7B-45D2-83A1-5BA3DBA0527B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Określa preferowane przez przeglądarkę formaty kodowania. Wartości ;q= interpretowane są na takich samych zasadach, jak w przypadku typów MIME z nagłówka Accep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094882-8C94-43B3-B91F-A5FC12514BC9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en nagłówek określa kodowanie, za pomocą którego zostanie przesłana zawartość. Stosowane zwykle do kompresji treś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48FEA6-3416-46F6-8774-27AE1538558F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Określa w jakim języku użytkownik przeglądarki życzy sobie czytać stro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D224FD-3EAB-4F1D-AFEA-60B5F0514505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en nagłówek jest ustawiany przez przeglądarki i programy ułatwiające ściąganie plików. Określa czy klient potrafi (wartość bytes) lub nie (wartość none) odczytywać pliki przesyłane w częścia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0CF13-343D-4305-A26B-2D3EEBA77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04629-17C3-42B0-A7B8-78C9534CC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24AF8-509D-41E1-BB9D-182D78587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084E0-F5B7-42E0-9118-47F1201E7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C51E2-EE3B-4327-84BA-AEEE6FF5D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9E224-20E4-4865-9A3A-384CADFF6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03446-63AB-4D5D-BA9D-577CEB562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64E5E-5FD2-4DA7-BA61-167923793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D9C62-092E-4709-93AF-47DE64DBE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661D1-3F9F-4FDA-9C2F-98974B23D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58358-AC8F-443F-B641-E0F176D41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54EF0-462F-4AA1-B0BF-F58145391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AE37ED7-5D4F-4D51-9FE7-3591D15D73DA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1"/>
          <p:cNvSpPr/>
          <p:nvPr/>
        </p:nvSpPr>
        <p:spPr>
          <a:xfrm>
            <a:off x="1440000" y="1044720"/>
            <a:ext cx="813564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PHP: Hypertext Preprocess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- poziom średnio zaawansowa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Lekcja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Modyfikacja nagłówków htt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7056360" y="612720"/>
            <a:ext cx="280836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5840" bIns="0" anchor="t">
            <a:noAutofit/>
          </a:bodyPr>
          <a:p>
            <a:pPr algn="ctr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HP: Hypertext Preproces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Grupa 3"/>
          <p:cNvGrpSpPr/>
          <p:nvPr/>
        </p:nvGrpSpPr>
        <p:grpSpPr>
          <a:xfrm>
            <a:off x="2664000" y="5541840"/>
            <a:ext cx="5689440" cy="974880"/>
            <a:chOff x="2664000" y="5541840"/>
            <a:chExt cx="5689440" cy="974880"/>
          </a:xfrm>
        </p:grpSpPr>
        <p:sp>
          <p:nvSpPr>
            <p:cNvPr id="51" name="Shape 24"/>
            <p:cNvSpPr/>
            <p:nvPr/>
          </p:nvSpPr>
          <p:spPr>
            <a:xfrm>
              <a:off x="2664000" y="5541840"/>
              <a:ext cx="5689440" cy="97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91440" bIns="91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pl-PL" sz="10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Człowiek - najlepsza inwestycj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pl-PL" sz="10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Projekt współfinansowany przez Unię Europejską w ramach Europejskiego Funduszu Społeczneg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2" name="Obraz 5" descr="KAPITAL_LUDZKI"/>
            <p:cNvPicPr/>
            <p:nvPr/>
          </p:nvPicPr>
          <p:blipFill>
            <a:blip r:embed="rId1"/>
            <a:stretch/>
          </p:blipFill>
          <p:spPr>
            <a:xfrm>
              <a:off x="2947320" y="5652000"/>
              <a:ext cx="1228680" cy="590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Obraz 6" descr="UE+EFS_L-kolor"/>
            <p:cNvPicPr/>
            <p:nvPr/>
          </p:nvPicPr>
          <p:blipFill>
            <a:blip r:embed="rId2"/>
            <a:stretch/>
          </p:blipFill>
          <p:spPr>
            <a:xfrm>
              <a:off x="7057080" y="5724000"/>
              <a:ext cx="1123920" cy="4287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1468440" y="1993680"/>
            <a:ext cx="820728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Nagłówek All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31640"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Allow: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GET, POST, H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2"/>
          <p:cNvSpPr/>
          <p:nvPr/>
        </p:nvSpPr>
        <p:spPr>
          <a:xfrm>
            <a:off x="2016000" y="7164360"/>
            <a:ext cx="7920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noAutofit/>
          </a:bodyPr>
          <a:p>
            <a:pPr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PHP: Hypertext Preprocessor - poziom średnio zaawansowan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3"/>
          <p:cNvSpPr/>
          <p:nvPr/>
        </p:nvSpPr>
        <p:spPr>
          <a:xfrm>
            <a:off x="7056360" y="612720"/>
            <a:ext cx="280836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5840" bIns="0" anchor="t">
            <a:noAutofit/>
          </a:bodyPr>
          <a:p>
            <a:pPr algn="ctr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HP: Hypertext Preproces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1468440" y="1993680"/>
            <a:ext cx="820728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Nagłówek Authoriz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31640"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Authorization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: Basic QWxhZGRpbjpvcGVuIHNlc2FtZQ==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2"/>
          <p:cNvSpPr/>
          <p:nvPr/>
        </p:nvSpPr>
        <p:spPr>
          <a:xfrm>
            <a:off x="2016000" y="7164360"/>
            <a:ext cx="7920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noAutofit/>
          </a:bodyPr>
          <a:p>
            <a:pPr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PHP: Hypertext Preprocessor - poziom średnio zaawansowan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7056360" y="612720"/>
            <a:ext cx="280836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5840" bIns="0" anchor="t">
            <a:noAutofit/>
          </a:bodyPr>
          <a:p>
            <a:pPr algn="ctr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HP: Hypertext Preproces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1468440" y="1993680"/>
            <a:ext cx="8207280" cy="41432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Nagłówek Cache-Contr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31640"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31640"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Cache-Control: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no-cache/no-store/max-age=3600/min-freash=36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2"/>
          <p:cNvSpPr/>
          <p:nvPr/>
        </p:nvSpPr>
        <p:spPr>
          <a:xfrm>
            <a:off x="2016000" y="7164360"/>
            <a:ext cx="7920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noAutofit/>
          </a:bodyPr>
          <a:p>
            <a:pPr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PHP: Hypertext Preprocessor - poziom średnio zaawansowan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7056360" y="612720"/>
            <a:ext cx="280836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5840" bIns="0" anchor="t">
            <a:noAutofit/>
          </a:bodyPr>
          <a:p>
            <a:pPr algn="ctr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HP: Hypertext Preproces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1468440" y="1993680"/>
            <a:ext cx="820728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Nagłówek Conne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31640"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Connection: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keep-alive/close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2"/>
          <p:cNvSpPr/>
          <p:nvPr/>
        </p:nvSpPr>
        <p:spPr>
          <a:xfrm>
            <a:off x="2016000" y="7164360"/>
            <a:ext cx="7920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noAutofit/>
          </a:bodyPr>
          <a:p>
            <a:pPr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PHP: Hypertext Preprocessor - poziom średnio zaawansowan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7056360" y="612720"/>
            <a:ext cx="280836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5840" bIns="0" anchor="t">
            <a:noAutofit/>
          </a:bodyPr>
          <a:p>
            <a:pPr algn="ctr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HP: Hypertext Preproces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1468440" y="1994040"/>
            <a:ext cx="820728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Nagłówek Cook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31640"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Cookie: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ciastko1=wartosc1; ciastko2=wartosc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2"/>
          <p:cNvSpPr/>
          <p:nvPr/>
        </p:nvSpPr>
        <p:spPr>
          <a:xfrm>
            <a:off x="2016000" y="7164360"/>
            <a:ext cx="7920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noAutofit/>
          </a:bodyPr>
          <a:p>
            <a:pPr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PHP: Hypertext Preprocessor - poziom średnio zaawansowan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7056360" y="612720"/>
            <a:ext cx="280836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5840" bIns="0" anchor="t">
            <a:noAutofit/>
          </a:bodyPr>
          <a:p>
            <a:pPr algn="ctr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HP: Hypertext Preproces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1468440" y="1994040"/>
            <a:ext cx="8207280" cy="33573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Nagłówek Content-Enco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31640"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31640"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Content-Encoding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: gz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2"/>
          <p:cNvSpPr/>
          <p:nvPr/>
        </p:nvSpPr>
        <p:spPr>
          <a:xfrm>
            <a:off x="2016000" y="7164360"/>
            <a:ext cx="7920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noAutofit/>
          </a:bodyPr>
          <a:p>
            <a:pPr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PHP: Hypertext Preprocessor - poziom średnio zaawansowan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7056360" y="612720"/>
            <a:ext cx="280836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5840" bIns="0" anchor="t">
            <a:noAutofit/>
          </a:bodyPr>
          <a:p>
            <a:pPr algn="ctr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HP: Hypertext Preproces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1468440" y="1993680"/>
            <a:ext cx="8207280" cy="342900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Nagłówek Content-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31640"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31640"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Content-Language: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en, 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2"/>
          <p:cNvSpPr/>
          <p:nvPr/>
        </p:nvSpPr>
        <p:spPr>
          <a:xfrm>
            <a:off x="2016000" y="7164360"/>
            <a:ext cx="7920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noAutofit/>
          </a:bodyPr>
          <a:p>
            <a:pPr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PHP: Hypertext Preprocessor - poziom średnio zaawansowan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7056360" y="612720"/>
            <a:ext cx="280836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5840" bIns="0" anchor="t">
            <a:noAutofit/>
          </a:bodyPr>
          <a:p>
            <a:pPr algn="ctr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HP: Hypertext Preproces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1468440" y="1993680"/>
            <a:ext cx="820728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Nagłówek Content-Leng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31640"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Content-Length: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1000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2"/>
          <p:cNvSpPr/>
          <p:nvPr/>
        </p:nvSpPr>
        <p:spPr>
          <a:xfrm>
            <a:off x="2016000" y="7164360"/>
            <a:ext cx="7920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noAutofit/>
          </a:bodyPr>
          <a:p>
            <a:pPr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PHP: Hypertext Preprocessor - poziom średnio zaawansowan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7056360" y="612720"/>
            <a:ext cx="280836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5840" bIns="0" anchor="t">
            <a:noAutofit/>
          </a:bodyPr>
          <a:p>
            <a:pPr algn="ctr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HP: Hypertext Preproces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1468440" y="1993680"/>
            <a:ext cx="820728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Nagłówek Content-Ran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31640"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Content-Range: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ytes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123-456/5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2"/>
          <p:cNvSpPr/>
          <p:nvPr/>
        </p:nvSpPr>
        <p:spPr>
          <a:xfrm>
            <a:off x="2016000" y="7164360"/>
            <a:ext cx="7920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noAutofit/>
          </a:bodyPr>
          <a:p>
            <a:pPr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PHP: Hypertext Preprocessor - poziom średnio zaawansowan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7056360" y="612720"/>
            <a:ext cx="280836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5840" bIns="0" anchor="t">
            <a:noAutofit/>
          </a:bodyPr>
          <a:p>
            <a:pPr algn="ctr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HP: Hypertext Preproces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1468440" y="1994040"/>
            <a:ext cx="8207280" cy="33573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Nagłówek Content-Typ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31640"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Content-Type: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application/xhtml+xml; charset=utf-8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2"/>
          <p:cNvSpPr/>
          <p:nvPr/>
        </p:nvSpPr>
        <p:spPr>
          <a:xfrm>
            <a:off x="2016000" y="7164360"/>
            <a:ext cx="7920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noAutofit/>
          </a:bodyPr>
          <a:p>
            <a:pPr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PHP: Hypertext Preprocessor - poziom średnio zaawansowan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7056360" y="612720"/>
            <a:ext cx="280836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5840" bIns="0" anchor="t">
            <a:noAutofit/>
          </a:bodyPr>
          <a:p>
            <a:pPr algn="ctr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HP: Hypertext Preproces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1468440" y="1993680"/>
            <a:ext cx="820728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Nagłówki HTT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31640"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Wstę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Nagłówki w PH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2"/>
          <p:cNvSpPr/>
          <p:nvPr/>
        </p:nvSpPr>
        <p:spPr>
          <a:xfrm>
            <a:off x="2016000" y="7164360"/>
            <a:ext cx="7920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noAutofit/>
          </a:bodyPr>
          <a:p>
            <a:pPr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PHP: Hypertext Preprocessor - poziom średnio zaawansowan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7056360" y="612720"/>
            <a:ext cx="280836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5840" bIns="0" anchor="t">
            <a:noAutofit/>
          </a:bodyPr>
          <a:p>
            <a:pPr algn="ctr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HP: Hypertext Preproces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1468440" y="1994040"/>
            <a:ext cx="820728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Nagłówek Da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31640"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31640"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Date: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Tue, 15 Nov 1994 08:12:31 GMT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2"/>
          <p:cNvSpPr/>
          <p:nvPr/>
        </p:nvSpPr>
        <p:spPr>
          <a:xfrm>
            <a:off x="2016000" y="7164360"/>
            <a:ext cx="7920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noAutofit/>
          </a:bodyPr>
          <a:p>
            <a:pPr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PHP: Hypertext Preprocessor - poziom średnio zaawansowan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7056360" y="612720"/>
            <a:ext cx="280836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5840" bIns="0" anchor="t">
            <a:noAutofit/>
          </a:bodyPr>
          <a:p>
            <a:pPr algn="ctr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HP: Hypertext Preproces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1468440" y="1994040"/>
            <a:ext cx="820728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Nagłówek Expi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31640"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31640"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Expires: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Thu, 01 Dec 1994 16:00:00 GMT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2016000" y="7164360"/>
            <a:ext cx="7920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noAutofit/>
          </a:bodyPr>
          <a:p>
            <a:pPr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PHP: Hypertext Preprocessor - poziom średnio zaawansowan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7056360" y="612720"/>
            <a:ext cx="280836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5840" bIns="0" anchor="t">
            <a:noAutofit/>
          </a:bodyPr>
          <a:p>
            <a:pPr algn="ctr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HP: Hypertext Preproces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1468440" y="1994040"/>
            <a:ext cx="820728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Nagłówek Ho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31640"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31640"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Host: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www.w3.org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"/>
          <p:cNvSpPr/>
          <p:nvPr/>
        </p:nvSpPr>
        <p:spPr>
          <a:xfrm>
            <a:off x="2016000" y="7164360"/>
            <a:ext cx="7920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noAutofit/>
          </a:bodyPr>
          <a:p>
            <a:pPr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PHP: Hypertext Preprocessor - poziom średnio zaawansowan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7056360" y="612720"/>
            <a:ext cx="280836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5840" bIns="0" anchor="t">
            <a:noAutofit/>
          </a:bodyPr>
          <a:p>
            <a:pPr algn="ctr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HP: Hypertext Preproces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1468440" y="1994040"/>
            <a:ext cx="820728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Nagłówek If-Modified-Si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31640"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31640"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-Modified-Sinc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t, 29 Oct 1994 19:43:31 GMT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2"/>
          <p:cNvSpPr/>
          <p:nvPr/>
        </p:nvSpPr>
        <p:spPr>
          <a:xfrm>
            <a:off x="2016000" y="7164360"/>
            <a:ext cx="7920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noAutofit/>
          </a:bodyPr>
          <a:p>
            <a:pPr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PHP: Hypertext Preprocessor - poziom średnio zaawansowan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3"/>
          <p:cNvSpPr/>
          <p:nvPr/>
        </p:nvSpPr>
        <p:spPr>
          <a:xfrm>
            <a:off x="7056360" y="612720"/>
            <a:ext cx="280836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5840" bIns="0" anchor="t">
            <a:noAutofit/>
          </a:bodyPr>
          <a:p>
            <a:pPr algn="ctr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HP: Hypertext Preproces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1468440" y="1994040"/>
            <a:ext cx="820728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Nagłówek Last-Modifi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31640"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31640"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st-Modified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ue, 15 Nov 1994 12:45:26 GMT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2"/>
          <p:cNvSpPr/>
          <p:nvPr/>
        </p:nvSpPr>
        <p:spPr>
          <a:xfrm>
            <a:off x="2016000" y="7164360"/>
            <a:ext cx="7920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noAutofit/>
          </a:bodyPr>
          <a:p>
            <a:pPr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PHP: Hypertext Preprocessor - poziom średnio zaawansowan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7056360" y="612720"/>
            <a:ext cx="280836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5840" bIns="0" anchor="t">
            <a:noAutofit/>
          </a:bodyPr>
          <a:p>
            <a:pPr algn="ctr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HP: Hypertext Preproces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1468440" y="1994040"/>
            <a:ext cx="820728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Nagłówek Lo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31640"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31640"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Location: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http://serwer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2"/>
          <p:cNvSpPr/>
          <p:nvPr/>
        </p:nvSpPr>
        <p:spPr>
          <a:xfrm>
            <a:off x="2016000" y="7164360"/>
            <a:ext cx="7920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noAutofit/>
          </a:bodyPr>
          <a:p>
            <a:pPr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PHP: Hypertext Preprocessor - poziom średnio zaawansowan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7056360" y="612720"/>
            <a:ext cx="280836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5840" bIns="0" anchor="t">
            <a:noAutofit/>
          </a:bodyPr>
          <a:p>
            <a:pPr algn="ctr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HP: Hypertext Preproces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1468440" y="1994040"/>
            <a:ext cx="820728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Nagłówek Ran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31640"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Range: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bytes=500-99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2"/>
          <p:cNvSpPr/>
          <p:nvPr/>
        </p:nvSpPr>
        <p:spPr>
          <a:xfrm>
            <a:off x="2016000" y="7164360"/>
            <a:ext cx="7920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noAutofit/>
          </a:bodyPr>
          <a:p>
            <a:pPr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PHP: Hypertext Preprocessor - poziom średnio zaawansowan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7056360" y="612720"/>
            <a:ext cx="280836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5840" bIns="0" anchor="t">
            <a:noAutofit/>
          </a:bodyPr>
          <a:p>
            <a:pPr algn="ctr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HP: Hypertext Preproces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1468440" y="1994040"/>
            <a:ext cx="820728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Nagłówek Refer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31640"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Referer: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http://serwer/katalog/plik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2"/>
          <p:cNvSpPr/>
          <p:nvPr/>
        </p:nvSpPr>
        <p:spPr>
          <a:xfrm>
            <a:off x="2016000" y="7164360"/>
            <a:ext cx="7920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noAutofit/>
          </a:bodyPr>
          <a:p>
            <a:pPr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PHP: Hypertext Preprocessor - poziom średnio zaawansowan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7056360" y="612720"/>
            <a:ext cx="280836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5840" bIns="0" anchor="t">
            <a:noAutofit/>
          </a:bodyPr>
          <a:p>
            <a:pPr algn="ctr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HP: Hypertext Preproces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1468440" y="1994040"/>
            <a:ext cx="820728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Nagłówek Refres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31640"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31640"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Refresh: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czas; url=adres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2"/>
          <p:cNvSpPr/>
          <p:nvPr/>
        </p:nvSpPr>
        <p:spPr>
          <a:xfrm>
            <a:off x="2016000" y="7164360"/>
            <a:ext cx="7920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noAutofit/>
          </a:bodyPr>
          <a:p>
            <a:pPr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PHP: Hypertext Preprocessor - poziom średnio zaawansowan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3"/>
          <p:cNvSpPr/>
          <p:nvPr/>
        </p:nvSpPr>
        <p:spPr>
          <a:xfrm>
            <a:off x="7056360" y="612720"/>
            <a:ext cx="280836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5840" bIns="0" anchor="t">
            <a:noAutofit/>
          </a:bodyPr>
          <a:p>
            <a:pPr algn="ctr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HP: Hypertext Preproces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1468440" y="1994040"/>
            <a:ext cx="820728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Nagłówek Retry-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31640"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31640"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try-Aft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ri, 31 Dec 1999 23:59:59 GM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2"/>
          <p:cNvSpPr/>
          <p:nvPr/>
        </p:nvSpPr>
        <p:spPr>
          <a:xfrm>
            <a:off x="2016000" y="7164360"/>
            <a:ext cx="7920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noAutofit/>
          </a:bodyPr>
          <a:p>
            <a:pPr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PHP: Hypertext Preprocessor - poziom średnio zaawansowan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3"/>
          <p:cNvSpPr/>
          <p:nvPr/>
        </p:nvSpPr>
        <p:spPr>
          <a:xfrm>
            <a:off x="7056360" y="612720"/>
            <a:ext cx="280836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5840" bIns="0" anchor="t">
            <a:noAutofit/>
          </a:bodyPr>
          <a:p>
            <a:pPr algn="ctr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HP: Hypertext Preproces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1468440" y="1993680"/>
            <a:ext cx="820728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Dostępne nagłów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31640"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Standardow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Niestandardow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2"/>
          <p:cNvSpPr/>
          <p:nvPr/>
        </p:nvSpPr>
        <p:spPr>
          <a:xfrm>
            <a:off x="2016000" y="7164360"/>
            <a:ext cx="7920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noAutofit/>
          </a:bodyPr>
          <a:p>
            <a:pPr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PHP: Hypertext Preprocessor - poziom średnio zaawansowan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7056360" y="612720"/>
            <a:ext cx="280836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5840" bIns="0" anchor="t">
            <a:noAutofit/>
          </a:bodyPr>
          <a:p>
            <a:pPr algn="ctr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HP: Hypertext Preproces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1468440" y="1994040"/>
            <a:ext cx="820728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Nagłówek Serv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31640"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31640"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Server: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Apache/2.0.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2"/>
          <p:cNvSpPr/>
          <p:nvPr/>
        </p:nvSpPr>
        <p:spPr>
          <a:xfrm>
            <a:off x="2016000" y="7164360"/>
            <a:ext cx="7920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noAutofit/>
          </a:bodyPr>
          <a:p>
            <a:pPr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PHP: Hypertext Preprocessor - poziom średnio zaawansowan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3"/>
          <p:cNvSpPr/>
          <p:nvPr/>
        </p:nvSpPr>
        <p:spPr>
          <a:xfrm>
            <a:off x="7056360" y="612720"/>
            <a:ext cx="280836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5840" bIns="0" anchor="t">
            <a:noAutofit/>
          </a:bodyPr>
          <a:p>
            <a:pPr algn="ctr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HP: Hypertext Preproces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1468440" y="1994040"/>
            <a:ext cx="820728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Nagłówek Set-Cook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31640"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31640"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Set-Cookie: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ciastko1=wartosc1; ciastko2=wartosc2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2"/>
          <p:cNvSpPr/>
          <p:nvPr/>
        </p:nvSpPr>
        <p:spPr>
          <a:xfrm>
            <a:off x="2016000" y="7164360"/>
            <a:ext cx="7920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noAutofit/>
          </a:bodyPr>
          <a:p>
            <a:pPr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PHP: Hypertext Preprocessor - poziom średnio zaawansowan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3"/>
          <p:cNvSpPr/>
          <p:nvPr/>
        </p:nvSpPr>
        <p:spPr>
          <a:xfrm>
            <a:off x="7056360" y="612720"/>
            <a:ext cx="280836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5840" bIns="0" anchor="t">
            <a:noAutofit/>
          </a:bodyPr>
          <a:p>
            <a:pPr algn="ctr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HP: Hypertext Preproces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1468440" y="1994040"/>
            <a:ext cx="820728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Nagłówek Transfer-Enco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31640"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31640"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Transfer-Encoding: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chunked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2"/>
          <p:cNvSpPr/>
          <p:nvPr/>
        </p:nvSpPr>
        <p:spPr>
          <a:xfrm>
            <a:off x="2016000" y="7164360"/>
            <a:ext cx="7920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noAutofit/>
          </a:bodyPr>
          <a:p>
            <a:pPr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PHP: Hypertext Preprocessor - poziom średnio zaawansowan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3"/>
          <p:cNvSpPr/>
          <p:nvPr/>
        </p:nvSpPr>
        <p:spPr>
          <a:xfrm>
            <a:off x="7056360" y="612720"/>
            <a:ext cx="280836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5840" bIns="0" anchor="t">
            <a:noAutofit/>
          </a:bodyPr>
          <a:p>
            <a:pPr algn="ctr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HP: Hypertext Preproces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1468440" y="1994040"/>
            <a:ext cx="820728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Nagłówek User-Ag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31640"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31640"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User-Agent: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Mozilla/5.0 (X11; U; Linux i686; pl; rv:1.8.0.1) Gecko/20060124 Firefox/1.5.0.1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2"/>
          <p:cNvSpPr/>
          <p:nvPr/>
        </p:nvSpPr>
        <p:spPr>
          <a:xfrm>
            <a:off x="2016000" y="7164360"/>
            <a:ext cx="7920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noAutofit/>
          </a:bodyPr>
          <a:p>
            <a:pPr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PHP: Hypertext Preprocessor - poziom średnio zaawansowan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7056360" y="612720"/>
            <a:ext cx="280836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5840" bIns="0" anchor="t">
            <a:noAutofit/>
          </a:bodyPr>
          <a:p>
            <a:pPr algn="ctr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HP: Hypertext Preproces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1468440" y="1994040"/>
            <a:ext cx="820728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Nagłówek WWW-Authentica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31640"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31640"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WWW-Authenticate: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rodzaj_autentyfikacj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2"/>
          <p:cNvSpPr/>
          <p:nvPr/>
        </p:nvSpPr>
        <p:spPr>
          <a:xfrm>
            <a:off x="2016000" y="7164360"/>
            <a:ext cx="7920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noAutofit/>
          </a:bodyPr>
          <a:p>
            <a:pPr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PHP: Hypertext Preprocessor - poziom średnio zaawansowan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3"/>
          <p:cNvSpPr/>
          <p:nvPr/>
        </p:nvSpPr>
        <p:spPr>
          <a:xfrm>
            <a:off x="7056360" y="612720"/>
            <a:ext cx="280836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5840" bIns="0" anchor="t">
            <a:noAutofit/>
          </a:bodyPr>
          <a:p>
            <a:pPr algn="ctr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HP: Hypertext Preproces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1468440" y="1994040"/>
            <a:ext cx="820728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Funkcja getallhead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31640"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array </a:t>
            </a: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getallheaders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 ( void 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array </a:t>
            </a: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apache_response_headers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 ( void 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2"/>
          <p:cNvSpPr/>
          <p:nvPr/>
        </p:nvSpPr>
        <p:spPr>
          <a:xfrm>
            <a:off x="2016000" y="7164360"/>
            <a:ext cx="7920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noAutofit/>
          </a:bodyPr>
          <a:p>
            <a:pPr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PHP: Hypertext Preprocessor - poziom średnio zaawansowan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"/>
          <p:cNvSpPr/>
          <p:nvPr/>
        </p:nvSpPr>
        <p:spPr>
          <a:xfrm>
            <a:off x="7056360" y="612720"/>
            <a:ext cx="280836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5840" bIns="0" anchor="t">
            <a:noAutofit/>
          </a:bodyPr>
          <a:p>
            <a:pPr algn="ctr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HP: Hypertext Preproces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1468440" y="1994040"/>
            <a:ext cx="820728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Funkcja hea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31640"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id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ad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( string $string [, bool $replac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 = tru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[, int $http_response_code ]]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31640"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2"/>
          <p:cNvSpPr/>
          <p:nvPr/>
        </p:nvSpPr>
        <p:spPr>
          <a:xfrm>
            <a:off x="2016000" y="7164360"/>
            <a:ext cx="7920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noAutofit/>
          </a:bodyPr>
          <a:p>
            <a:pPr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PHP: Hypertext Preprocessor - poziom średnio zaawansowan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3"/>
          <p:cNvSpPr/>
          <p:nvPr/>
        </p:nvSpPr>
        <p:spPr>
          <a:xfrm>
            <a:off x="7056360" y="612720"/>
            <a:ext cx="280836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5840" bIns="0" anchor="t">
            <a:noAutofit/>
          </a:bodyPr>
          <a:p>
            <a:pPr algn="ctr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HP: Hypertext Preproces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1468440" y="1994040"/>
            <a:ext cx="820728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Przykłady zastosowania header(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&lt;?php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header("HTTP/1.0 404 Not Found");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?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2"/>
          <p:cNvSpPr/>
          <p:nvPr/>
        </p:nvSpPr>
        <p:spPr>
          <a:xfrm>
            <a:off x="2016000" y="7164360"/>
            <a:ext cx="7920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noAutofit/>
          </a:bodyPr>
          <a:p>
            <a:pPr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PHP: Hypertext Preprocessor - poziom średnio zaawansowan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7056360" y="612720"/>
            <a:ext cx="280836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5840" bIns="0" anchor="t">
            <a:noAutofit/>
          </a:bodyPr>
          <a:p>
            <a:pPr algn="ctr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HP: Hypertext Preproces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1468440" y="1994040"/>
            <a:ext cx="820728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Przykłady zastosowania header(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&lt;?ph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header("Location: http://</a:t>
            </a: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przyklad.pl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/");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?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2"/>
          <p:cNvSpPr/>
          <p:nvPr/>
        </p:nvSpPr>
        <p:spPr>
          <a:xfrm>
            <a:off x="2016000" y="7164360"/>
            <a:ext cx="7920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noAutofit/>
          </a:bodyPr>
          <a:p>
            <a:pPr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PHP: Hypertext Preprocessor - poziom średnio zaawansowan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3"/>
          <p:cNvSpPr/>
          <p:nvPr/>
        </p:nvSpPr>
        <p:spPr>
          <a:xfrm>
            <a:off x="7056360" y="612720"/>
            <a:ext cx="280836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5840" bIns="0" anchor="t">
            <a:noAutofit/>
          </a:bodyPr>
          <a:p>
            <a:pPr algn="ctr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HP: Hypertext Preproces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1468440" y="1994040"/>
            <a:ext cx="820728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Przykłady zastosowania header(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&lt;?ph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$file=‘przyklad.php'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header('Content-disposition: attachment; filename='.basename($file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header('Content-type: text/plain'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readfile($file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?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2"/>
          <p:cNvSpPr/>
          <p:nvPr/>
        </p:nvSpPr>
        <p:spPr>
          <a:xfrm>
            <a:off x="2016000" y="7164360"/>
            <a:ext cx="7920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noAutofit/>
          </a:bodyPr>
          <a:p>
            <a:pPr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PHP: Hypertext Preprocessor - poziom średnio zaawansowan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3"/>
          <p:cNvSpPr/>
          <p:nvPr/>
        </p:nvSpPr>
        <p:spPr>
          <a:xfrm>
            <a:off x="7056360" y="612720"/>
            <a:ext cx="280836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5840" bIns="0" anchor="t">
            <a:noAutofit/>
          </a:bodyPr>
          <a:p>
            <a:pPr algn="ctr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HP: Hypertext Preproces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1539360" y="3350880"/>
            <a:ext cx="8207640" cy="7858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Lista nagłówkó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"/>
          <p:cNvSpPr/>
          <p:nvPr/>
        </p:nvSpPr>
        <p:spPr>
          <a:xfrm>
            <a:off x="2016000" y="7164360"/>
            <a:ext cx="7920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noAutofit/>
          </a:bodyPr>
          <a:p>
            <a:pPr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PHP: Hypertext Preprocessor - poziom średnio zaawansowan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3"/>
          <p:cNvSpPr/>
          <p:nvPr/>
        </p:nvSpPr>
        <p:spPr>
          <a:xfrm>
            <a:off x="7056360" y="612720"/>
            <a:ext cx="280836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5840" bIns="0" anchor="t">
            <a:noAutofit/>
          </a:bodyPr>
          <a:p>
            <a:pPr algn="ctr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HP: Hypertext Preproces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1468440" y="1994040"/>
            <a:ext cx="820728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Przykłady zastosowania header(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header('Cache-Control: no-cache, no-store, max-age=0, must-revalidate'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header('Expires: Mon, 26 Jul 1997 05:00:00 GMT'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header('Pragma: no-cache'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2"/>
          <p:cNvSpPr/>
          <p:nvPr/>
        </p:nvSpPr>
        <p:spPr>
          <a:xfrm>
            <a:off x="2016000" y="7164360"/>
            <a:ext cx="7920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noAutofit/>
          </a:bodyPr>
          <a:p>
            <a:pPr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PHP: Hypertext Preprocessor - poziom średnio zaawansowan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3"/>
          <p:cNvSpPr/>
          <p:nvPr/>
        </p:nvSpPr>
        <p:spPr>
          <a:xfrm>
            <a:off x="7056360" y="612720"/>
            <a:ext cx="280836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5840" bIns="0" anchor="t">
            <a:noAutofit/>
          </a:bodyPr>
          <a:p>
            <a:pPr algn="ctr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HP: Hypertext Preproces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1468440" y="1994040"/>
            <a:ext cx="820728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Przykłady zastosowania header(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&lt;?ph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header('Content-Type: text/html; charset=utf-8'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cho 'ąćężźńóś'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?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2"/>
          <p:cNvSpPr/>
          <p:nvPr/>
        </p:nvSpPr>
        <p:spPr>
          <a:xfrm>
            <a:off x="2016000" y="7164360"/>
            <a:ext cx="7920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noAutofit/>
          </a:bodyPr>
          <a:p>
            <a:pPr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PHP: Hypertext Preprocessor - poziom średnio zaawansowan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3"/>
          <p:cNvSpPr/>
          <p:nvPr/>
        </p:nvSpPr>
        <p:spPr>
          <a:xfrm>
            <a:off x="7056360" y="612720"/>
            <a:ext cx="280836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5840" bIns="0" anchor="t">
            <a:noAutofit/>
          </a:bodyPr>
          <a:p>
            <a:pPr algn="ctr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HP: Hypertext Preproces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1468440" y="1994040"/>
            <a:ext cx="820728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Przykład zastosowania nagłówka HTTP strony HTML w PH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&lt;?ph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cho "&lt;meta http-equiv='refresh' content='0;url=http://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rzykład.pl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'&gt;"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?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2"/>
          <p:cNvSpPr/>
          <p:nvPr/>
        </p:nvSpPr>
        <p:spPr>
          <a:xfrm>
            <a:off x="2016000" y="7164360"/>
            <a:ext cx="7920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noAutofit/>
          </a:bodyPr>
          <a:p>
            <a:pPr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PHP: Hypertext Preprocessor - poziom średnio zaawansowan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3"/>
          <p:cNvSpPr/>
          <p:nvPr/>
        </p:nvSpPr>
        <p:spPr>
          <a:xfrm>
            <a:off x="7056360" y="612720"/>
            <a:ext cx="280836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5840" bIns="0" anchor="t">
            <a:noAutofit/>
          </a:bodyPr>
          <a:p>
            <a:pPr algn="ctr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HP: Hypertext Preproces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1079640" y="3384360"/>
            <a:ext cx="8207280" cy="502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Dziękujemy za uwag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2"/>
          <p:cNvSpPr/>
          <p:nvPr/>
        </p:nvSpPr>
        <p:spPr>
          <a:xfrm>
            <a:off x="2016000" y="7164360"/>
            <a:ext cx="7920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noAutofit/>
          </a:bodyPr>
          <a:p>
            <a:pPr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PHP: Hypertext Preprocessor - poziom średnio zaawansowan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3"/>
          <p:cNvSpPr/>
          <p:nvPr/>
        </p:nvSpPr>
        <p:spPr>
          <a:xfrm>
            <a:off x="7056360" y="612720"/>
            <a:ext cx="280836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5840" bIns="0" anchor="t">
            <a:noAutofit/>
          </a:bodyPr>
          <a:p>
            <a:pPr algn="ctr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HP: Hypertext Preproces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1468440" y="1993680"/>
            <a:ext cx="820728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Nagłówek Acce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31640"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Accept: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application/xhtml+xml, application/xml;q=0.9, text/xml;q=0.7, text/html;q=0.5, text/plain;q=0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"/>
          <p:cNvSpPr/>
          <p:nvPr/>
        </p:nvSpPr>
        <p:spPr>
          <a:xfrm>
            <a:off x="2016000" y="7164360"/>
            <a:ext cx="7920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noAutofit/>
          </a:bodyPr>
          <a:p>
            <a:pPr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PHP: Hypertext Preprocessor - poziom średnio zaawansowan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3"/>
          <p:cNvSpPr/>
          <p:nvPr/>
        </p:nvSpPr>
        <p:spPr>
          <a:xfrm>
            <a:off x="7056360" y="612720"/>
            <a:ext cx="280836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5840" bIns="0" anchor="t">
            <a:noAutofit/>
          </a:bodyPr>
          <a:p>
            <a:pPr algn="ctr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HP: Hypertext Preproces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1468440" y="1993680"/>
            <a:ext cx="820728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Nagłówek Accept-Chars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31640"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Accept-Charset: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utf-8, iso-8859-13;q=0.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"/>
          <p:cNvSpPr/>
          <p:nvPr/>
        </p:nvSpPr>
        <p:spPr>
          <a:xfrm>
            <a:off x="2016000" y="7164360"/>
            <a:ext cx="7920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noAutofit/>
          </a:bodyPr>
          <a:p>
            <a:pPr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PHP: Hypertext Preprocessor - poziom średnio zaawansowan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7056360" y="612720"/>
            <a:ext cx="280836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5840" bIns="0" anchor="t">
            <a:noAutofit/>
          </a:bodyPr>
          <a:p>
            <a:pPr algn="ctr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HP: Hypertext Preproces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1468440" y="1993680"/>
            <a:ext cx="8207280" cy="32144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Nagłówek Accept-Enco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31640"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31640"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Accept-Encoding: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gzip;q=1.0, identity; q=0.5, *;q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"/>
          <p:cNvSpPr/>
          <p:nvPr/>
        </p:nvSpPr>
        <p:spPr>
          <a:xfrm>
            <a:off x="2016000" y="7164360"/>
            <a:ext cx="7920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noAutofit/>
          </a:bodyPr>
          <a:p>
            <a:pPr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PHP: Hypertext Preprocessor - poziom średnio zaawansowan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"/>
          <p:cNvSpPr/>
          <p:nvPr/>
        </p:nvSpPr>
        <p:spPr>
          <a:xfrm>
            <a:off x="7056360" y="612720"/>
            <a:ext cx="280836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5840" bIns="0" anchor="t">
            <a:noAutofit/>
          </a:bodyPr>
          <a:p>
            <a:pPr algn="ctr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HP: Hypertext Preproces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1468440" y="1994040"/>
            <a:ext cx="820728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Nagłówek Accept-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31640"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31640"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Accept-Language: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pl, en-us;q=0.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2"/>
          <p:cNvSpPr/>
          <p:nvPr/>
        </p:nvSpPr>
        <p:spPr>
          <a:xfrm>
            <a:off x="2016000" y="7164360"/>
            <a:ext cx="7920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noAutofit/>
          </a:bodyPr>
          <a:p>
            <a:pPr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PHP: Hypertext Preprocessor - poziom średnio zaawansowan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3"/>
          <p:cNvSpPr/>
          <p:nvPr/>
        </p:nvSpPr>
        <p:spPr>
          <a:xfrm>
            <a:off x="7056360" y="612720"/>
            <a:ext cx="280836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5840" bIns="0" anchor="t">
            <a:noAutofit/>
          </a:bodyPr>
          <a:p>
            <a:pPr algn="ctr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HP: Hypertext Preproces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1468440" y="1994040"/>
            <a:ext cx="820728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Nagłówek Accept-Ran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31640"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31640"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Accept-Ranges: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bytes </a:t>
            </a: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lub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n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2"/>
          <p:cNvSpPr/>
          <p:nvPr/>
        </p:nvSpPr>
        <p:spPr>
          <a:xfrm>
            <a:off x="2016000" y="7164360"/>
            <a:ext cx="7920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noAutofit/>
          </a:bodyPr>
          <a:p>
            <a:pPr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PHP: Hypertext Preprocessor - poziom średnio zaawansowan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3"/>
          <p:cNvSpPr/>
          <p:nvPr/>
        </p:nvSpPr>
        <p:spPr>
          <a:xfrm>
            <a:off x="7056360" y="612720"/>
            <a:ext cx="280836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5840" bIns="0" anchor="t">
            <a:noAutofit/>
          </a:bodyPr>
          <a:p>
            <a:pPr algn="ctr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HP: Hypertext Preproces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6T09:29:28Z</dcterms:created>
  <dc:creator/>
  <dc:description/>
  <dc:language>en-US</dc:language>
  <cp:lastModifiedBy>Mac</cp:lastModifiedBy>
  <dcterms:modified xsi:type="dcterms:W3CDTF">2013-03-25T16:00:34Z</dcterms:modified>
  <cp:revision>42</cp:revision>
  <dc:subject/>
  <dc:title>Slajd 1</dc:title>
</cp:coreProperties>
</file>