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DD5A83-0EE9-4C18-A053-D82E379141B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E9DC77-EC31-43D3-AACB-A0D20E05DF0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1" name="PlaceHolder 1"/>
          <p:cNvSpPr>
            <a:spLocks noGrp="1"/>
          </p:cNvSpPr>
          <p:nvPr>
            <p:ph type="sldImg"/>
          </p:nvPr>
        </p:nvSpPr>
        <p:spPr>
          <a:xfrm>
            <a:off x="1106640" y="812880"/>
            <a:ext cx="5344920" cy="4008240"/>
          </a:xfrm>
          <a:prstGeom prst="rect">
            <a:avLst/>
          </a:prstGeom>
          <a:ln w="0">
            <a:noFill/>
          </a:ln>
        </p:spPr>
      </p:sp>
      <p:sp>
        <p:nvSpPr>
          <p:cNvPr id="1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85C820-E28A-4E85-BF2B-3B70CB8FC35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106640" y="812880"/>
            <a:ext cx="5344920" cy="4008240"/>
          </a:xfrm>
          <a:prstGeom prst="rect">
            <a:avLst/>
          </a:prstGeom>
          <a:ln w="0">
            <a:noFill/>
          </a:ln>
        </p:spPr>
      </p:sp>
      <p:sp>
        <p:nvSpPr>
          <p:cNvPr id="14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ten polega na zmianie nazwy pliku, w adresie do zasobu, który zwróciła aplikacja. Zapobiegać możemy jemu na wiele sposobów, poprzez np. tworzenia osobnego katalogu (ścieżki) dla zasobu, który udostępniamy lub za pomocą szyfrowania nazw pliku, co utrudni identyfikację nazw pozostałych plikó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5705B9-9E20-496E-A909-A44814DE824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ten polega na przesłaniu za pomocą formularza zakodowanego kodu, który w przypadku wykonania, w którymś momencie aplikacji, może wywołać niepożądane efekty. Bronić się przed nim można przede wszystkim, odpowiednim przetwarzaniem formularza, nigdy nie pobieramy czystych danych z formularza i operujemy na nich. Zawsze trzeba je w odpowiedni sposób przetworzyć. Używajmy również walidacji treści pól formularza oraz określonej dziedziny znaków, która jest dostępna w odpowiednim miejscu np. Przy imieniu i nazwisku, nie potrzebne są cyfry oraz znaki inne, niż znaki alfabetu.</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D97CDC-FC69-409D-83F0-3C162825863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106640" y="812880"/>
            <a:ext cx="5344920" cy="4008240"/>
          </a:xfrm>
          <a:prstGeom prst="rect">
            <a:avLst/>
          </a:prstGeom>
          <a:ln w="0">
            <a:noFill/>
          </a:ln>
        </p:spPr>
      </p:sp>
      <p:sp>
        <p:nvSpPr>
          <p:cNvPr id="15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polega wstrzyknięcie kodu PHP do aplikacji, a następnie poprzez odpowiednią manipulacje aplikacją uruchomienie złośliwego kodu. W szczególności należy uważać przy uploadowaniu plików na serwer, zawsze trzeba walidować ich rozszerzenie oraz zawartość. Przy ich otwieraniu bezpośrednio w przeglądarce należy je przeformatować i odpowiednio wyświetlić np. jako tekst, aby przypadkiem ich nie wykonać.</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F7215-DDF8-47FC-9542-051D265CC65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12880"/>
            <a:ext cx="5344920" cy="4008240"/>
          </a:xfrm>
          <a:prstGeom prst="rect">
            <a:avLst/>
          </a:prstGeom>
          <a:ln w="0">
            <a:noFill/>
          </a:ln>
        </p:spPr>
      </p:sp>
      <p:sp>
        <p:nvSpPr>
          <p:cNvPr id="15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to jedna z najpopularniejszych metod ataku na serwisy internetowe, poprzez nieodpowiednie wyescapowanie treści z formularzy, bądź nieodpowiednie składanie poleceń sql. Istnieje możliwość przekazania do nich fragmentów zapytań jako parametrów, co może spowodować wykonanie nieodpowiednich akcji na bazie danych, jak np. zmianę hasła administratora, modyfikacja parametrów konfiguracyjnych lub też usunięcie ważnych danych. Jak już wcześniej wspomniano, nie należy wstawiać czystych danych z formularzy do kodu naszej aplikacji. Zalecane jest również używanie odpowiednich obiektów, bibliotek lub adapterów, jako warstwę do komunikacji z baza danych np. PHP Database Object w skrócie PDO, który świetnie nadaje się do użycia jako warstwa do obsługi bazy dany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D22751-9D38-484A-9CB5-2B8C28CBA92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12880"/>
            <a:ext cx="5344920" cy="4008240"/>
          </a:xfrm>
          <a:prstGeom prst="rect">
            <a:avLst/>
          </a:prstGeom>
          <a:ln w="0">
            <a:noFill/>
          </a:ln>
        </p:spPr>
      </p:sp>
      <p:sp>
        <p:nvSpPr>
          <p:cNvPr id="16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polegający na umieszczeniu na stronie skryptu np. js, który będzie powodował niepożądane akcję przez użytkowników, np. wysyłanych ich dane logowania na inny serwer lub wykonywał inne złośliwe operacje. Stosuje się go głównie  w stronach, które pozwalają użytkownikom na generowanie treści. Osadzenie skryptu w stronie HTML-owej i jego wykonanie, można wyeliminować z poziomu aplikacji poprzez np. stworzenie własnego języku znaczników lub edytora graficznego do tworzenia treści, wyświetlanie treści generowanej z odpowiednim enkodowaniem lub wyszukiwaniem skryptów w zawartości treści generowanej przez użytkownika i jego wycinanie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1E88FD-0FFA-4507-983D-ED33FD55954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ten wykorzystuję metodę HTTP Trace, poprzez obiekty ActiveX lub Flash. Gromadzi otrzymane w odpowiedzi nagłówki HTTP w tym nagłówek autoryzacji, który zawiera zakodowane przeważnie w base64 ciasteczko z loginem i hasłem, poczym wykorzystuje je do tworzenia własnych zapytań HTTP. Obecnie najlepszym rozwiązaniem jest nie wykorzystywanie tych technologii na stronach www. Wszystko co można zrobić we flashu, można zrobić za pomocą javascriptu i mechanizmów HTML5. A jeżeli musimy używać flasha to należy zabepieczyć proces ładowania oraz ładować go asynchroniczni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28F951-F512-47A4-8ACF-E6E4109FC9D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polega na wysyłaniu żądań do serwera za pomocą osób trzecich, które są w nim autoryzowane. Osoba wykorzystuje uprawnienia osoby, pod którą się podszywa do wykonania akcji, wymagających zezwolenie tej osoby. Aby zapobiec tym atakom należy za każdym razem wylogować się z serwisu po zakończeniu korzystania z niego. Czas sesji serwera powinien być adekwatny do jej poufności. Żądania, które wymagają szczególnej ostrożności, jak np. przelewy, powinny wymagać dodatkowej autoryzacji np. via sms. Stosować dodatkowe ukryte dane przy autentykacji np. pseudolosową liczbę.</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F73E7A-54C5-4912-85DB-5971D883FFA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ten polega na przechwyceniu zdarzenia kliknięcia użytkownika oraz wykonania innej akcji niż oczekiwana przez niego w celu uzyskania poufnych informacji lub wykonania odpowiedniej akcji, np. aktywacji microphone’u, czy kamerki internetowej poprzez technologie flash. W dzisiejszych czasach wiele stron używa tzw. Likejacking, poprzez kliknięcia w obrazki lub inne komponenty strony w tajemniczy sposób lubimy, bądź udostępniamy stronę na facebooku. Zabezpieczyć się można poprzez wtyczki w przeglądarce lub odpowiednią jej konfigurację.</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1A0887-A7AF-47E6-B512-C7584081E61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06640" y="812880"/>
            <a:ext cx="5344920" cy="4008240"/>
          </a:xfrm>
          <a:prstGeom prst="rect">
            <a:avLst/>
          </a:prstGeom>
          <a:ln w="0">
            <a:noFill/>
          </a:ln>
        </p:spPr>
      </p:sp>
      <p:sp>
        <p:nvSpPr>
          <p:cNvPr id="17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ta polega na przechwyceniu sesji serwera danej ofiary. Możemy do tego celu użyć kodu javascript poprzez XSS, który zwróci nam ciasteczko z identyfikatorem sesji osoby zalogowanej do serwisu. Zabezpieczyć się można, korzystając z zapamiętywania adresu IP danej sesji, połączenia poprzez SSL lub enkrypcję danych przesyłanych w odpowiedziach i żądaniach. Można również zaimplementować własny mechanizm sesji, oparty np. o bazę danych.</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1EF653-8DFE-47C3-B2D4-F3A3A3868AE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06640" y="812880"/>
            <a:ext cx="5344920" cy="4008240"/>
          </a:xfrm>
          <a:prstGeom prst="rect">
            <a:avLst/>
          </a:prstGeom>
          <a:ln w="0">
            <a:noFill/>
          </a:ln>
        </p:spPr>
      </p:sp>
      <p:sp>
        <p:nvSpPr>
          <p:cNvPr id="17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ta jest metodą pochodną, poprzedniej. Po uzyskaniu identyfikatora sesji, należy znaleźć sposób na umieszczenie w odpowiednim miejscu identyfikatora sesji, czyli obejście wcześniej wspomnianych w poprzedniej metodzie zabezpieczeń, w sposób zależny od metody zabezpieczen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1AF31-FDB6-41B7-A269-B01F940A2B7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sldImg"/>
          </p:nvPr>
        </p:nvSpPr>
        <p:spPr>
          <a:xfrm>
            <a:off x="1106640" y="812880"/>
            <a:ext cx="5344920" cy="4008240"/>
          </a:xfrm>
          <a:prstGeom prst="rect">
            <a:avLst/>
          </a:prstGeom>
          <a:ln w="0">
            <a:noFill/>
          </a:ln>
        </p:spPr>
      </p:sp>
      <p:sp>
        <p:nvSpPr>
          <p:cNvPr id="12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jwiększą zaletą aplikacji internetowych jest ich powszechność i ogólnodostępność. Zaleta ta jednak może zamienić się w wadę, ponieważ, czym więcej osób ma do czegoś dostęp, tym większe ryzyko związane z atakami. Nowe technologie sieciowe, bądź te, które są jeszcze w fazie rozwoju(do których należy PHP), narażone są na luki we własnej implementacji, bądź ich nie właściwe stosowanie. Jest wiele ataków na systemy komputerowe, jednak my zajmiemy się tylko częścią związaną z bezpośrednim dostępem do aplikacji, czyli atakami na portale internetowe. Podstawowymi typami ataków na portale są:</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rwanie – polega na przerwaniu świadczenia usług przez serwer danej aplikacji np. DoS lub DDo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odyfikacja – wprowadzenie zmian w aplikacji przez osoby nieupoważnione do wykonania takowych zmian</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chwycenie – uzyskanie kontroli nad aplikacją, bądź jej częścią lub dostępu do obszarów/zasobów, do których nie powinny mieć dostępu osoby nieuprawnion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drobienie – wprowadzenie fałszywych danych do aplikacj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F2971C-3945-4503-A7B1-735294FDF1A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106640" y="812880"/>
            <a:ext cx="5344920" cy="4008240"/>
          </a:xfrm>
          <a:prstGeom prst="rect">
            <a:avLst/>
          </a:prstGeom>
          <a:ln w="0">
            <a:noFill/>
          </a:ln>
        </p:spPr>
      </p:sp>
      <p:sp>
        <p:nvSpPr>
          <p:cNvPr id="17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to atak wykonywany za pomocą najczęściej telefonu. Polega na podszycie się pod zaufana osobę, instytucję lub firmę, w celu wyłudzenia poufnych danych np. loginu i hasła użytkownika. Dzwoniąc można np. podać się za firmę hostingową, po wcześniejszym sprawdzeniu dostawcy usług internetowych i poprzez odpowiedni schemat konwersacji, uzyskać odpowiednie dane. Popularność metoda ta zawdzięcza najsłynniejszemu hakerowi w historii informatyki Kevinowi Mitnickowi, który jak twierdzi łamał ludzi, a nie hasła. Metoda ta bazuje na socjotechnice, czyli metodzie manipulacji osobami w kontakcie bezpośrednim. Zabezpieczenie przed nią jest oczywiste, nigdy nie wolno podawać żadnych danych poufnych osobom z zewnątrz, gdyż nawet jak same firmy często zaznaczają, nikt z obsługi o takie dane prosić nie będzi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E218E9-24DF-46B8-916E-EF67C213CF7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106640" y="812880"/>
            <a:ext cx="5344920" cy="4008240"/>
          </a:xfrm>
          <a:prstGeom prst="rect">
            <a:avLst/>
          </a:prstGeom>
          <a:ln w="0">
            <a:noFill/>
          </a:ln>
        </p:spPr>
      </p:sp>
      <p:sp>
        <p:nvSpPr>
          <p:cNvPr id="18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i DoS i DDoS, czyli odpowiednio Denial of Service i Disturbed Denial of Service, polegają na zablokowaniu serwera, zasypując go ogromną ilością żądan, najczęściej wykorzystuje się do tego odpowiednie oprogramowanie, np. boty lub oprogramowanie do testowania wydajności serwera. Serwera otrzymując ogromną liczbę żądań, nie jest w stanie przetwarzać kolejnych co powoduje wstrzymanie jego pracy lub po wyczerpaniu pamięci operacyjnej jego zawieszenie. Przerwa w pracy serwera w niektórych przypadkach, może spowodować ogromne straty finansowe. Nie ma skutecznej metody zapobiegania tej metodzi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E88859-DEC1-44D0-883E-5424A9CBB90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106640" y="812880"/>
            <a:ext cx="5344920" cy="4008240"/>
          </a:xfrm>
          <a:prstGeom prst="rect">
            <a:avLst/>
          </a:prstGeom>
          <a:ln w="0">
            <a:noFill/>
          </a:ln>
        </p:spPr>
      </p:sp>
      <p:sp>
        <p:nvSpPr>
          <p:cNvPr id="18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wiele narzędzi służących do testowania aplikacji internetowych, jedne są bardziej skuteczne, drugie mniej. Należy pamiętać o tym, że testują one tylko te ataki, które są im znane. Nie są one jednak w stanie przetestować wszystkich luk w aplikacjach. Do tego celu najlepszy jest człowiek, który jest istotą kreatywną i jest w stanie znajdować luki nikomu wcześniej nie znane oraz często publikować wynik swoich badan w internecie np. na swoim blogu. Dlatego najlepszą metodą testów jest połączenie trzech czynników: programy analizujące wszystkie znane luki, wiedza ludzi, którzy szukają nowych dziur w technologiach, aplikacjach oraz architekturach, jak i własny wkład, gdyż jako programiści, znamy najlepiej swoje aplikację i rozumiemy ich potencjalne słabe punkt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D6ECAF-10E1-4E27-AD27-CDB075154E6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106640" y="812880"/>
            <a:ext cx="5344920" cy="4008240"/>
          </a:xfrm>
          <a:prstGeom prst="rect">
            <a:avLst/>
          </a:prstGeom>
          <a:ln w="0">
            <a:noFill/>
          </a:ln>
        </p:spPr>
      </p:sp>
      <p:sp>
        <p:nvSpPr>
          <p:cNvPr id="18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na zakończeni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FC83D3-8859-4784-83EB-C784675F180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tokół HTTP (ang. Hypertext Transfer Protocol) – to najpopularniejszy protokół wykorzystywany w sieciach komputerowych. Mówiąc prostym językiem jest to ścisły schemat postępowania(zbiór zasad) dla urządzeń komunikacyjnych w jaki sposób przesyłać dokumenty hipertekstowe. Rozpowszechniony dzięki sieci WWW(ang. World Wide Web), za jego pomocą odbywa się przesyłanie danych oraz komunikacja w większości aplikacji internetowy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84F3D-AF59-4C3E-9BE8-78467C7EF37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Brute – force to najprostszy rodzaj ataku na systemy komputerowe, w tym portale internetowe. Polega znalezieniu formularza dostępu do aplikacji, konta użytkownika, bądź bazy danych, często też znalezieniu loginu i wpisywaniu wszystkich możliwych kombinacji haseł. W wersji ulepszonej z racji tego, że dla lepszego zapamiętania hasła ludzie stosują naturalne ciągi znaków jak wyrazy, korzysta się z zewnętrznej bazy danych haseł lub słowników np. imion.</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wiele metod zapobiegawczych tego typu atakom. Do najważniejszych zaliczamy w przypadku formularza logowania, który jest ogólnodostępny: losowe generatory haseł, określona z góry złożoność hasła, podpisywanie w aplikacji użytkownika inną nazwą, niż jego login (np. imieniem i nazwiskiem), blokowanie formularza dostępu po określonej ilości prób wpisania błędnego hasła ( np. po trzech), systemy wymuszające zmianę hasła, co jakiś czas. W przypadku paneli administracyjnych oraz aplikacji do obsługi baz danych typu phpmyadmin, oprócz wyżej wymienionych zabezpieczeń możemy głęboko ukryć link oraz przypisać określony adres ip dostępu do panelu, bądź zezwolić na dostęp tylko z hosta lokalnego, a nie z zewnątrz. Jest jeszcze wiele innych metod, na przykład autoryzacja innych adresów IP drogą mailową lub smsesową.</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E0223C-C388-4581-ACF9-0E5B5DD5DB8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łębokie ukrycie to termin dotyczący bezpieczeństwa dokumentów na portalach internetowych. Umieszczamy dokumentu pod adresem, którego nie jest w stanie wpisać człowiek oraz nie indeksujemy go w wyszukiwarkach, w czym pomocny jest htmlowy rel=„nofollow” lub ustawienia pliku robots. Metoda ataku polega na znalezieniu niezabezpieczonej ścieżki i dotarciu do dokumentów. Prostym, a mocnym zabezpieczeniem jest użycie pliku .htaccess i zabronienie dostępu osobom z zewnątrz lub autoryzacji po http. Możemy również zabezpieczyć dostęp z poziomu systemu operacyjnego np. dla systemów uniksowych, zmieniamy właściciela katalogu na serwer apache, który ma wszystkie uprawnienia i zabieramy wszelkie uprawnienia innym użytkowniko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5AEA7F-D10A-47D2-AF05-0063F9DACEB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polega na blokowaniu kont w aplikacjach internetowych, dlatego używając wcześniej wymienionego zabezpieczenia, które blokuje dostęp do konta, warto zadbać o prostą i szybką możliwość odblokowania konta na przykład drogą mailową, bądź smsową, czy w przypadku banków i innych instytucji zaufania publicznego, telefoniczną lub za pomocą wydrukowanych wcześniej kodów.</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9ED411-18EA-42D8-85AE-FA238760193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polega na przekazywaniu metodą GET lub POST, parametrów które różnią się od tych dostępnych w aplikacji. Użytkownik, może mieć w ten sposób dostęp do funkcji lub danych, do których nie powinien go mieć. Warto, więc zwrócić uwagę na to co przekazujemy ww. metodami oraz pomyśleć o szyfrowaniu parametrów, jak i ich walidowaniu. Warto też zwrócić uwagę na to w jaki sposób nasze strony komunikują się z poziomu JS -&gt; PHP, jeżeli wykorzystujemy metody AJAX-owe oraz czy nasza aplikacja, nie wypisuje bezpośrednio tego co podajemy jako parametry, w przeciwnym wypadku możemy przekazać fragment kodu PHP, poprzez parametr i narobić szkód na portalu.</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331A2-D342-4E6D-BAD6-33B548ACF9D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to rodzaj ataku, który sam w sobie jest nieszkodliwy, aczkolwiek może przynieść wiele korzyści osobie, która próbuje się włamać na naszą stronę. Dotyczy on znalezieniu informacji o umiejscowieniu naszej aplikacji na serwerze, jego ustawień lub innych ważnych informacji. Informacje te można znaleźć przy błędach aplikacji oraz w obiektach konfiguracyjnych. Zapobiegać im można na wiele sposobów np. w środowisku produkcyjnym wyłączamy wyświetlanie na ekran błędów aplikacji, piszemy własną obsługę błędów, debuggujemy aplikację, tworzymy loadery do zasobów takich jak pliki js, obrazki, arkusze styli oraz innych dokumentów, które nie wyświetlają ścieżek do zasobów i informacji o błędach w przypadku nie istnienia zasob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13BDD8-32F5-4CFC-A738-719182A3032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polega na spreparowaniu adresu url, w celu wykonania operacji, bądź uzyskania informacji, do których atakująca osoba nie powinna mieć dostępu. Problem rozwiązuje odpowiednio zaimplementowany system autoryzacji lub odpowiednia architektura aplikacji np. MVC (z którego powinniśmy, korzystać w większości aplikacji). System autoryzacji powinien za każdym razem sprawdzać czy dana osoba, nie próbuje uzyskać dostępu do odpowiedniego miejsca. Aplikacja w architekturze MVC, załatwia tę sprawę tak, że wszystko jest sterowane za pomocą odpowiedniego kontrolera, który jest dostępny tylko dla zalogowanych użytkownikó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2350E-D5B9-4728-826F-E2BF62BCA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5BD98-EAFF-454A-B16F-C2E3B8BDC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65174-0008-4A71-967F-093EF590E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244F3-7E07-41FE-B8BB-4101E92C7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DAC72-D8B0-442A-A5D5-350AEFB4D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A81A8-F78F-4ADA-92F2-522B2CDC1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C712-23DA-4CDA-A940-ACBE2E2B9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34A7F-81E5-4839-8450-C932E8918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C319B-4133-4F78-877E-FDE75466A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1531A-979E-40FF-8E6F-EBCA37FA3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28235-C164-4307-935E-91C6F5B4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DAA88-118A-4053-83EB-01E3B2D66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626F24-E7F7-4217-B7F0-D50D17E2D75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9</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Bezpieczeństwo aplikacji</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grpSp>
        <p:nvGrpSpPr>
          <p:cNvPr id="50" name="Grupa 3"/>
          <p:cNvGrpSpPr/>
          <p:nvPr/>
        </p:nvGrpSpPr>
        <p:grpSpPr>
          <a:xfrm>
            <a:off x="2664000" y="5541840"/>
            <a:ext cx="5689440" cy="974880"/>
            <a:chOff x="2664000" y="5541840"/>
            <a:chExt cx="5689440" cy="974880"/>
          </a:xfrm>
        </p:grpSpPr>
        <p:sp>
          <p:nvSpPr>
            <p:cNvPr id="51" name="Shape 24"/>
            <p:cNvSpPr/>
            <p:nvPr/>
          </p:nvSpPr>
          <p:spPr>
            <a:xfrm>
              <a:off x="2664000" y="5541840"/>
              <a:ext cx="5689440" cy="974880"/>
            </a:xfrm>
            <a:prstGeom prst="rect">
              <a:avLst/>
            </a:prstGeom>
            <a:noFill/>
            <a:ln w="0">
              <a:noFill/>
            </a:ln>
          </p:spPr>
          <p:style>
            <a:lnRef idx="0"/>
            <a:fillRef idx="0"/>
            <a:effectRef idx="0"/>
            <a:fontRef idx="minor"/>
          </p:style>
          <p:txBody>
            <a:bodyPr tIns="91440" bIns="9144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Człowiek - najlepsza inwestycja</a:t>
              </a: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Projekt współfinansowany przez Unię Europejską w ramach Europejskiego Funduszu Społecznego</a:t>
              </a:r>
              <a:endParaRPr b="0" lang="en-US" sz="1000" spc="-1" strike="noStrike">
                <a:solidFill>
                  <a:srgbClr val="000000"/>
                </a:solidFill>
                <a:latin typeface="Arial"/>
              </a:endParaRPr>
            </a:p>
          </p:txBody>
        </p:sp>
        <p:pic>
          <p:nvPicPr>
            <p:cNvPr id="52" name="Obraz 5" descr="KAPITAL_LUDZKI"/>
            <p:cNvPicPr/>
            <p:nvPr/>
          </p:nvPicPr>
          <p:blipFill>
            <a:blip r:embed="rId1"/>
            <a:stretch/>
          </p:blipFill>
          <p:spPr>
            <a:xfrm>
              <a:off x="2947320" y="5652000"/>
              <a:ext cx="1228680" cy="590760"/>
            </a:xfrm>
            <a:prstGeom prst="rect">
              <a:avLst/>
            </a:prstGeom>
            <a:ln w="0">
              <a:noFill/>
            </a:ln>
          </p:spPr>
        </p:pic>
        <p:pic>
          <p:nvPicPr>
            <p:cNvPr id="53" name="Obraz 6" descr="UE+EFS_L-kolor"/>
            <p:cNvPicPr/>
            <p:nvPr/>
          </p:nvPicPr>
          <p:blipFill>
            <a:blip r:embed="rId2"/>
            <a:stretch/>
          </p:blipFill>
          <p:spPr>
            <a:xfrm>
              <a:off x="7057080" y="5724000"/>
              <a:ext cx="1123920" cy="428760"/>
            </a:xfrm>
            <a:prstGeom prst="rect">
              <a:avLst/>
            </a:prstGeom>
            <a:ln w="0">
              <a:noFill/>
            </a:ln>
          </p:spPr>
        </p:pic>
      </p:gr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Path traversal</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Unicode encoding</a:t>
            </a:r>
            <a:endParaRPr b="0" lang="en-US" sz="36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600"/>
            </a:b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PHP injection</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SQL injection</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XSS – Cross Site Script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XST – Cross Site Trac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XSRF – Cross Site Request Forgery</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Click jack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Session hijacking</a:t>
            </a:r>
            <a:endParaRPr b="0" lang="en-US" sz="36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Session fixation</a:t>
            </a:r>
            <a:endParaRPr b="0" lang="en-US" sz="36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dzaje ataków</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zerwanie (ang. interruptio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odyfikacja (ang. modificatio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zychwycenie (ang. interceptio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drobienie (ang. fabrication)</a:t>
            </a:r>
            <a:endParaRPr b="0" lang="en-US" sz="2800" spc="-1" strike="noStrike">
              <a:solidFill>
                <a:srgbClr val="000000"/>
              </a:solidFill>
              <a:latin typeface="Arial"/>
            </a:endParaRPr>
          </a:p>
        </p:txBody>
      </p:sp>
      <p:sp>
        <p:nvSpPr>
          <p:cNvPr id="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Phish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Ataki DoS i DDoS</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Testowanie zagrożeń</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Jak testować bezpieczeństwo swojego portalu?</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11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611360" y="3565080"/>
            <a:ext cx="8207280" cy="714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Metody ataków na portale internetow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p:txBody>
      </p:sp>
      <p:sp>
        <p:nvSpPr>
          <p:cNvPr id="5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Atak brute-forc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anie bazy danych</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Atak ‘Głębokie ukryci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Account lockout</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Web parameter tamper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Path i information disclosure</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Forced brows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ac</cp:lastModifiedBy>
  <dcterms:modified xsi:type="dcterms:W3CDTF">2013-03-25T16:02:37Z</dcterms:modified>
  <cp:revision>51</cp:revision>
  <dc:subject/>
  <dc:title>Slajd 1</dc:title>
</cp:coreProperties>
</file>